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4C3-8620-4004-98AE-26D7533D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9C7-860B-4473-881D-4E91394A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DDE-ECF7-46D1-B4F9-9A686F19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E0E-A410-4719-BD21-345EB314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5B57-947A-4260-B1C0-2DF3D63D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997-549B-4842-B41C-4F2DEBA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E35-8FDF-4CD2-9090-CFA0F6E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EF62-4725-49B5-889A-7853F9B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1E3-BEB5-43EC-99FE-8E1A506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98B-62E6-40E0-9BD5-8194A6A1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A61-F6FB-4EDF-8739-F9D46B4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B18-0D63-4919-B203-1E32228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B9F9-832D-4044-B205-B5FD255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CC7F-CC35-4CF9-89BB-D36ED8E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3A5-7441-41F8-A569-9D23E36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681-D14F-4529-978A-65B07865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358-AED7-4120-B113-AA668121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F7E-C306-4821-9A06-69FC378C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7A6-367C-499E-A766-17C79AC8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2F6-0740-4F5C-8619-E73FB43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951-7C83-43C0-B545-19AA954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336-027E-4665-8A8B-9D643C1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F86-383C-4A7D-914E-1DCDC9E3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2C2-320B-4F6A-BA38-0BEB276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547-CD8A-48ED-B3CD-B31077A639E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2325-8849-4A8F-A2E6-21DCAACCA10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ВИКТОРИНА</a:t>
            </a:r>
            <a:br>
              <a:rPr sz="3200"/>
            </a:b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«Что я знаю о ТЕАТРЕ»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84960" cy="48387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2484360" y="6059520"/>
            <a:ext cx="648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897"/>
                </a:solidFill>
                <a:latin typeface="Palatino Linotype"/>
                <a:ea typeface="Arial"/>
              </a:rPr>
              <a:t>Составитель: Ивашкина Е.С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9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Человек, исполняющий роль на сцене, называется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1280" y="2276280"/>
            <a:ext cx="640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ежиссё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Композито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Актё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Игрок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4649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10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ак назывались бродячие артисты в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I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на Руси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4360" y="2491920"/>
            <a:ext cx="640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Скоморохи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Арлекин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Гусляры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Шуты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4649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11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Где впервые появился театр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11280" y="2349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Византи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им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Греци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осси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3419640" y="3500280"/>
            <a:ext cx="55432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5"/>
          <p:cNvSpPr/>
          <p:nvPr/>
        </p:nvSpPr>
        <p:spPr>
          <a:xfrm>
            <a:off x="1532160" y="88920"/>
            <a:ext cx="57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Palatino Linotype"/>
                <a:ea typeface="Arial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981000"/>
          <a:ext cx="7272360" cy="5121360"/>
        </p:xfrm>
        <a:graphic>
          <a:graphicData uri="http://schemas.openxmlformats.org/drawingml/2006/table">
            <a:tbl>
              <a:tblPr/>
              <a:tblGrid>
                <a:gridCol w="3635640"/>
                <a:gridCol w="363672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1224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1224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1224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1224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e68422"/>
                      </a:solidFill>
                    </a:lnL>
                    <a:lnR w="5760">
                      <a:solidFill>
                        <a:srgbClr val="e68422"/>
                      </a:solidFill>
                    </a:lnR>
                    <a:lnT w="5760">
                      <a:solidFill>
                        <a:srgbClr val="e68422"/>
                      </a:solidFill>
                    </a:lnT>
                    <a:lnB w="5760">
                      <a:solidFill>
                        <a:srgbClr val="e68422"/>
                      </a:solidFill>
                    </a:lnB>
                    <a:solidFill>
                      <a:srgbClr val="e6842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8" name="Рисунок 10" descr=""/>
          <p:cNvPicPr/>
          <p:nvPr/>
        </p:nvPicPr>
        <p:blipFill>
          <a:blip r:embed="rId1"/>
          <a:stretch/>
        </p:blipFill>
        <p:spPr>
          <a:xfrm>
            <a:off x="6700680" y="4913280"/>
            <a:ext cx="2417760" cy="1944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6" descr=""/>
          <p:cNvPicPr/>
          <p:nvPr/>
        </p:nvPicPr>
        <p:blipFill>
          <a:blip r:embed="rId2"/>
          <a:stretch/>
        </p:blipFill>
        <p:spPr>
          <a:xfrm>
            <a:off x="6875640" y="198360"/>
            <a:ext cx="24494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1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Там по сцене ходят, скачут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То смеются, а то плачут!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Хоть кого изобразят, - 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Мастерством всех поразят.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64008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Балаган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Комеди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Теат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Кино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5" name="Рисунок 6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52214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2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ак называется объявление о спектакле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64008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Программ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еклам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Афиш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Объявление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4356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3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то пишет сценарии к спектаклям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2060280"/>
            <a:ext cx="6400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entury Gothic"/>
              </a:rPr>
              <a:t>Сценарист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entury Gothic"/>
              </a:rPr>
              <a:t>Режиссер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entury Gothic"/>
              </a:rPr>
              <a:t>Композитор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entury Gothic"/>
              </a:rPr>
              <a:t>Сочинитель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entury Gothic"/>
              </a:rPr>
              <a:t>Писатель</a:t>
            </a:r>
            <a:endParaRPr b="0" lang="en-US" sz="41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4211640" y="4065480"/>
            <a:ext cx="47037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4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ак называется человек, который подбирает и шьет театральные костюмы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848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Шве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Художник по костюмам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Костюме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Моделье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4649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5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акого числа празднуется Всемирный день театра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220464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1 январ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3 июн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9 ма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27 март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4121280" y="4076640"/>
            <a:ext cx="4667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6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Чтоб смотрелось представление интереснее,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В благодарность слышались овации,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Надобно на сцене оформление: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Дом, деревья и другие…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64008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Декорации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Материалы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Вещи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Украшения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4687920" y="4149720"/>
            <a:ext cx="4427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7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Театральный он работник-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Постановок «дирижёр»,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Управляющий спектаклем-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Это, верно…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649760" cy="2622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64008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Писатель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ежиссё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Декорато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Балетмейстер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Palatino Linotype"/>
              </a:rPr>
              <a:t>Вопрос 8:</a:t>
            </a:r>
            <a:br>
              <a:rPr sz="44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Как называется перерыв между спектаклями или между отделениями концерта?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4284720" y="3213000"/>
            <a:ext cx="4649760" cy="2621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екламная пауз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Перерыв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Антракт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1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Перемена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03:31:51Z</dcterms:created>
  <dc:creator>Home</dc:creator>
  <dc:description/>
  <dc:language>en-US</dc:language>
  <cp:lastModifiedBy>Home</cp:lastModifiedBy>
  <dcterms:modified xsi:type="dcterms:W3CDTF">2022-11-17T15:37:24Z</dcterms:modified>
  <cp:revision>18</cp:revision>
  <dc:subject/>
  <dc:title>ТЕАТРАЛЬНАЯ ВИКТОРИНА</dc:title>
</cp:coreProperties>
</file>