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7A6-1098-482B-A103-FC9D5114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2FE-7492-4625-B77A-3FF15B80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307-C8FA-4161-B17B-13A2034A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880-02E1-482A-B254-653D010C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EA6-6FD0-4B7F-B85B-59A75065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CD8-26F8-4F05-B46C-CEFB0961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74B-3A6B-41E0-AC41-4897E9A0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A9E-C116-4829-B0C2-84237F9D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DFA-6532-49FB-BB4E-43DF6533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286-BCD2-42AC-BF31-BA0488F3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01D-07DB-49FE-8B1B-0676300D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55F-4F76-465C-ACC6-7910838C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8DA8-D68B-41F8-BE71-7B3A42E86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5T09:06:18Z</dcterms:created>
  <dc:creator>emachines</dc:creator>
  <dc:description/>
  <dc:language>en-US</dc:language>
  <cp:lastModifiedBy>emachines</cp:lastModifiedBy>
  <dcterms:modified xsi:type="dcterms:W3CDTF">2022-11-15T09:06:33Z</dcterms:modified>
  <cp:revision>1</cp:revision>
  <dc:subject/>
  <dc:title>Слайд 1</dc:title>
</cp:coreProperties>
</file>