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88C-55DC-4924-AC95-D6E37197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997-9EB9-476B-93F0-72C61573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F49-7CA9-4292-BE62-0ED21A5B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314-29A7-4459-AC65-1E21A1AD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42B-D7D2-43D9-939F-73FC651C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BE7-741A-4398-AD75-522C75F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1B9-E79A-4103-BBF2-E28002E6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53B-3A82-428F-85DF-5AB033C8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9D9-CFF9-49AF-B45B-FAA8CA9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FDF-24B9-48E7-A707-5D8A8D7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385-ED9D-46F3-9937-7497C1D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00A-FCF9-4517-BDB8-FECE8CE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945-AFBF-4A72-9E44-8035422D6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50920" y="189000"/>
            <a:ext cx="2592360" cy="648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3276720" y="189000"/>
            <a:ext cx="2590560" cy="648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6300720" y="189000"/>
            <a:ext cx="2592360" cy="648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6300720" y="260280"/>
            <a:ext cx="2592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3276720" y="189000"/>
            <a:ext cx="25192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тская й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индийская практика, способная создавать не только гармонию в душе, но и оказывать положительное влияние на все тело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йо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полезные для здоровья физические упражнения, позволяющие молодому организму развиваться гармонично. Такие занятия должны проходить в форме игры, а главной целью выполнения асан (положение тела) является выработка у детей привычки к здоровому образу жизни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00720" y="189000"/>
            <a:ext cx="251928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теп – аэроб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ика с применением специальных невысоких платформ – степ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степ - аэробикой обязательно сопровождаются бодрой, ритмичной музыкой, которая создает у детей хорошее настроение. Степ-платформа способствует формированию осанки, костно-мышечного корсета, устойчивого равновесия, совершенствует точность движений, развивает координацию, уверенность и ориентировку в пространстве, улучшает психологическое и эмоциональное состояние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324000" y="189000"/>
            <a:ext cx="25192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Фитбол-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бо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яч для опоры, используемый в оздоровительных целях. Фитбол развивает мелкую моторику ребенку, что напрямую связано с развитием интеллекта. Занятия на фитболах прекрасно развивают чувство равновесия, укрепляют мышцы спины и брюшного пресса, создают хороший мышечный корсет, способствуют формированию правильного дыхания, формируют длительно вырабатываемый в обычных условиях навык правильной оса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:\Users\Админ\Desktop\для аттестации\istockphoto-835453994-612x612_5cf897d9ec142.jpg"/>
          <p:cNvPicPr/>
          <p:nvPr/>
        </p:nvPicPr>
        <p:blipFill>
          <a:blip r:embed="rId2"/>
          <a:stretch/>
        </p:blipFill>
        <p:spPr>
          <a:xfrm>
            <a:off x="6156360" y="4508640"/>
            <a:ext cx="218124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C:\Users\Админ\Desktop\для аттестации\1400266221.png"/>
          <p:cNvPicPr/>
          <p:nvPr/>
        </p:nvPicPr>
        <p:blipFill>
          <a:blip r:embed="rId3"/>
          <a:stretch/>
        </p:blipFill>
        <p:spPr>
          <a:xfrm>
            <a:off x="468360" y="4797360"/>
            <a:ext cx="23446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Users\Админ\Desktop\kisspng-meditation-yoga-lotus-position-clip-art-muscle-relaxation-5b15f9dd0413d6.2425188315281668770167.jpg"/>
          <p:cNvPicPr/>
          <p:nvPr/>
        </p:nvPicPr>
        <p:blipFill>
          <a:blip r:embed="rId4"/>
          <a:stretch/>
        </p:blipFill>
        <p:spPr>
          <a:xfrm>
            <a:off x="3267000" y="4243320"/>
            <a:ext cx="15242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25923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лассическая (базовая) аэроби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и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истема упражнений, включающая в себя танцевальные движения, шаги и гимнастику в танцевальном сопровождении. Аэробика – одна из эффективных форм повышения двигательной активности детей, занятия ею повышают функциональные возможности сердечно -сосудистой, нервной и дыхательной систем, развивают координацию и музыкальность, гибкость и пластику движен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76720" y="259920"/>
            <a:ext cx="2590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гровой стретчин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тчин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мплекс упражнений для растягивания определенных мышц, связок и сухожилий. Благодаря  игровому   стретчингу увеличивается подвижность суставов, мышцы становятся более эластичными и гибкими, меньше подвержены травмам и дольше сохраняют работоспособность. Стретчинг снижает мышечное напряжение, повышает их эластичность, что, в свою очередь, снижает травматичность и болевые ощущения. Стретчинг обладает и психологическим эффектом: улучшает настроение, поднимает самооценку, создает ощущение комфорта и спокойствия в цел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50920" y="189000"/>
            <a:ext cx="2592360" cy="648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276720" y="189000"/>
            <a:ext cx="2590560" cy="648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6300720" y="189000"/>
            <a:ext cx="2592360" cy="648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6443640" y="260280"/>
            <a:ext cx="23763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3276720" y="260280"/>
            <a:ext cx="25905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4" descr=""/>
          <p:cNvPicPr/>
          <p:nvPr/>
        </p:nvPicPr>
        <p:blipFill>
          <a:blip r:embed="rId2"/>
          <a:stretch/>
        </p:blipFill>
        <p:spPr>
          <a:xfrm>
            <a:off x="6248520" y="208080"/>
            <a:ext cx="2657520" cy="658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Админ\Desktop\ЛОГОТИП -МАДОУ.jpg"/>
          <p:cNvPicPr/>
          <p:nvPr/>
        </p:nvPicPr>
        <p:blipFill>
          <a:blip r:embed="rId3"/>
          <a:stretch/>
        </p:blipFill>
        <p:spPr>
          <a:xfrm>
            <a:off x="6372360" y="26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C:\Users\Админ\Desktop\для аттестации\kisspng-sport-child-clip-art-5af9a7acd91f79.3530212015263108288893.jpg"/>
          <p:cNvPicPr/>
          <p:nvPr/>
        </p:nvPicPr>
        <p:blipFill>
          <a:blip r:embed="rId4"/>
          <a:srcRect l="7161" t="0" r="7125" b="0"/>
          <a:stretch/>
        </p:blipFill>
        <p:spPr>
          <a:xfrm>
            <a:off x="417600" y="4789440"/>
            <a:ext cx="177804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C:\Users\Админ\Desktop\для аттестации\5925a19001000.png"/>
          <p:cNvPicPr/>
          <p:nvPr/>
        </p:nvPicPr>
        <p:blipFill>
          <a:blip r:embed="rId5"/>
          <a:stretch/>
        </p:blipFill>
        <p:spPr>
          <a:xfrm>
            <a:off x="3098880" y="4724280"/>
            <a:ext cx="2898720" cy="198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C:\Users\Админ\Desktop\kisspng-royalty-free-physical-fitness-exercise-ball-illust-woman-doing-yoga-5a98f7757ea8d8.0672527915199742615188.jpg"/>
          <p:cNvPicPr/>
          <p:nvPr/>
        </p:nvPicPr>
        <p:blipFill>
          <a:blip r:embed="rId6"/>
          <a:srcRect l="22223" t="0" r="22223" b="-2494"/>
          <a:stretch/>
        </p:blipFill>
        <p:spPr>
          <a:xfrm>
            <a:off x="7093080" y="3429000"/>
            <a:ext cx="1755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05:49:41Z</dcterms:created>
  <dc:creator>Админ</dc:creator>
  <dc:description/>
  <dc:language>en-US</dc:language>
  <cp:lastModifiedBy>Пользователь Windows</cp:lastModifiedBy>
  <dcterms:modified xsi:type="dcterms:W3CDTF">2019-10-09T10:11:12Z</dcterms:modified>
  <cp:revision>40</cp:revision>
  <dc:subject/>
  <dc:title>Слайд 1</dc:title>
</cp:coreProperties>
</file>