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wmf" ContentType="image/x-wmf"/>
  <Override PartName="/ppt/media/image3.wmf" ContentType="image/x-wmf"/>
  <Override PartName="/ppt/media/image4.gif" ContentType="image/gif"/>
  <Override PartName="/ppt/media/image8.png" ContentType="image/png"/>
  <Override PartName="/ppt/media/image11.jpeg" ContentType="image/jpeg"/>
  <Override PartName="/ppt/media/image6.png" ContentType="image/png"/>
  <Override PartName="/ppt/media/image7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9447-A6B9-4A7E-8238-9D0A53F0B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BDAD-2F69-4557-AD26-AD0F031B4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E2ED-2249-4D9D-8322-15E0152E9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39FB-94E0-40AA-A0D5-54E187605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3A2F-4993-4823-A63A-334569463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8863-12D1-4889-AE79-2225A49E3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C0FD-0E19-47AB-8452-75AF0BC4F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A8D0-80B8-4FF1-A9A9-E0530D215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D351-FF79-4040-9297-92BF980DF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1723-C68A-499B-AAD3-A2BF56CE4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531D-F047-40D0-B913-F8134EB4A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1BF6-A911-45C1-89BB-8F6DA5088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97230-BFB4-4D96-85C9-94F6E18786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26920" y="549360"/>
            <a:ext cx="7848720" cy="630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420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ест по геометр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9 клас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"Метод координат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1815840" cy="1870200"/>
          </a:xfrm>
          <a:prstGeom prst="rect">
            <a:avLst/>
          </a:prstGeom>
          <a:ln w="0">
            <a:noFill/>
          </a:ln>
        </p:spPr>
      </p:pic>
      <p:sp>
        <p:nvSpPr>
          <p:cNvPr id="43" name="">
            <a:hlinkClick r:id="" action="ppaction://hlinkshowjump?jump=nextslide"/>
          </p:cNvPr>
          <p:cNvSpPr/>
          <p:nvPr/>
        </p:nvSpPr>
        <p:spPr>
          <a:xfrm>
            <a:off x="6948360" y="5877000"/>
            <a:ext cx="863640" cy="431640"/>
          </a:xfrm>
          <a:custGeom>
            <a:avLst/>
            <a:gdLst>
              <a:gd name="textAreaLeft" fmla="*/ 27720 w 863640"/>
              <a:gd name="textAreaRight" fmla="*/ 835920 w 863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Задание №6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00"/>
                </a:solidFill>
                <a:latin typeface="Arial"/>
              </a:rPr>
              <a:t>Найти координаты вектора а : а=2</a:t>
            </a: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i-3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76720" y="1700280"/>
            <a:ext cx="360360" cy="0"/>
          </a:xfrm>
          <a:prstGeom prst="line">
            <a:avLst/>
          </a:prstGeom>
          <a:ln w="93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58920" y="3645000"/>
                <a:ext cx="2020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5183280" y="3500280"/>
                <a:ext cx="252576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t xml:space="preserve">)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235160" y="5157720"/>
                <a:ext cx="23590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r>
                      <m:t xml:space="preserve">)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5607000" y="5084640"/>
                <a:ext cx="196524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г</m:t>
                    </m:r>
                    <m:r>
                      <m:t xml:space="preserve">)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5580000" y="1700280"/>
            <a:ext cx="360360" cy="0"/>
          </a:xfrm>
          <a:prstGeom prst="line">
            <a:avLst/>
          </a:prstGeom>
          <a:ln w="93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84720" y="1700280"/>
            <a:ext cx="360360" cy="0"/>
          </a:xfrm>
          <a:prstGeom prst="line">
            <a:avLst/>
          </a:prstGeom>
          <a:ln w="93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516720" y="1700280"/>
            <a:ext cx="360360" cy="0"/>
          </a:xfrm>
          <a:prstGeom prst="line">
            <a:avLst/>
          </a:prstGeom>
          <a:ln w="93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Arial"/>
              </a:rPr>
              <a:t>Задание №</a:t>
            </a: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7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00"/>
                </a:solidFill>
                <a:latin typeface="Arial"/>
              </a:rPr>
              <a:t>Найти координаты вектора </a:t>
            </a: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d</a:t>
            </a:r>
            <a:r>
              <a:rPr b="0" lang="ru-RU" sz="2800" spc="-1" strike="noStrike">
                <a:solidFill>
                  <a:srgbClr val="cc6600"/>
                </a:solidFill>
                <a:latin typeface="Arial"/>
              </a:rPr>
              <a:t> : </a:t>
            </a: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d</a:t>
            </a:r>
            <a:r>
              <a:rPr b="0" lang="ru-RU" sz="2800" spc="-1" strike="noStrike">
                <a:solidFill>
                  <a:srgbClr val="cc66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 i- 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76720" y="1700280"/>
            <a:ext cx="360360" cy="0"/>
          </a:xfrm>
          <a:prstGeom prst="line">
            <a:avLst/>
          </a:prstGeom>
          <a:ln w="93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258920" y="3692520"/>
                <a:ext cx="202068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5295960" y="3500280"/>
                <a:ext cx="230040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t xml:space="preserve">)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542960" y="5157720"/>
                <a:ext cx="1741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r>
                      <m:t xml:space="preserve">)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5438880" y="5084640"/>
                <a:ext cx="230328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г</m:t>
                    </m:r>
                    <m:r>
                      <m:t xml:space="preserve">)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580000" y="1700280"/>
            <a:ext cx="360360" cy="0"/>
          </a:xfrm>
          <a:prstGeom prst="line">
            <a:avLst/>
          </a:prstGeom>
          <a:ln w="93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940360" y="1700280"/>
            <a:ext cx="360360" cy="0"/>
          </a:xfrm>
          <a:prstGeom prst="line">
            <a:avLst/>
          </a:prstGeom>
          <a:ln w="93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72360" y="1700280"/>
            <a:ext cx="360360" cy="0"/>
          </a:xfrm>
          <a:prstGeom prst="line">
            <a:avLst/>
          </a:prstGeom>
          <a:ln w="93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Arial"/>
              </a:rPr>
              <a:t>Задание №</a:t>
            </a: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8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00"/>
                </a:solidFill>
                <a:latin typeface="Arial"/>
              </a:rPr>
              <a:t>Найти координаты вектора </a:t>
            </a: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y</a:t>
            </a:r>
            <a:r>
              <a:rPr b="0" lang="ru-RU" sz="2800" spc="-1" strike="noStrike">
                <a:solidFill>
                  <a:srgbClr val="cc6600"/>
                </a:solidFill>
                <a:latin typeface="Arial"/>
              </a:rPr>
              <a:t> : </a:t>
            </a: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y</a:t>
            </a:r>
            <a:r>
              <a:rPr b="0" lang="ru-RU" sz="2800" spc="-1" strike="noStrike">
                <a:solidFill>
                  <a:srgbClr val="cc66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 -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076720" y="1700280"/>
            <a:ext cx="360360" cy="0"/>
          </a:xfrm>
          <a:prstGeom prst="line">
            <a:avLst/>
          </a:prstGeom>
          <a:ln w="93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314360" y="3645000"/>
                <a:ext cx="190836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5491080" y="3500280"/>
                <a:ext cx="190836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t xml:space="preserve">)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262160" y="5157720"/>
                <a:ext cx="23032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r>
                      <m:t xml:space="preserve">)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5410080" y="5084640"/>
                <a:ext cx="235908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г</m:t>
                    </m:r>
                    <m:r>
                      <m:t xml:space="preserve">)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5580000" y="1700280"/>
            <a:ext cx="360360" cy="0"/>
          </a:xfrm>
          <a:prstGeom prst="line">
            <a:avLst/>
          </a:prstGeom>
          <a:ln w="93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84720" y="1700280"/>
            <a:ext cx="360360" cy="0"/>
          </a:xfrm>
          <a:prstGeom prst="line">
            <a:avLst/>
          </a:prstGeom>
          <a:ln w="93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Arial"/>
              </a:rPr>
              <a:t>Задание №</a:t>
            </a: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9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00"/>
                </a:solidFill>
                <a:latin typeface="Arial"/>
              </a:rPr>
              <a:t>Найти координаты вектора </a:t>
            </a: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k</a:t>
            </a:r>
            <a:r>
              <a:rPr b="0" lang="ru-RU" sz="2800" spc="-1" strike="noStrike">
                <a:solidFill>
                  <a:srgbClr val="cc6600"/>
                </a:solidFill>
                <a:latin typeface="Arial"/>
              </a:rPr>
              <a:t> : </a:t>
            </a: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k</a:t>
            </a:r>
            <a:r>
              <a:rPr b="0" lang="ru-RU" sz="2800" spc="-1" strike="noStrike">
                <a:solidFill>
                  <a:srgbClr val="cc66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-3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076720" y="1700280"/>
            <a:ext cx="360360" cy="0"/>
          </a:xfrm>
          <a:prstGeom prst="line">
            <a:avLst/>
          </a:prstGeom>
          <a:ln w="93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258920" y="3645000"/>
                <a:ext cx="2020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5183280" y="3500280"/>
                <a:ext cx="252576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t xml:space="preserve">)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235160" y="5157720"/>
                <a:ext cx="23590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r>
                      <m:t xml:space="preserve">)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607000" y="5084640"/>
                <a:ext cx="196524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г</m:t>
                    </m:r>
                    <m:r>
                      <m:t xml:space="preserve">)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5580000" y="1700280"/>
            <a:ext cx="360360" cy="0"/>
          </a:xfrm>
          <a:prstGeom prst="line">
            <a:avLst/>
          </a:prstGeom>
          <a:ln w="93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84720" y="1700280"/>
            <a:ext cx="360360" cy="0"/>
          </a:xfrm>
          <a:prstGeom prst="line">
            <a:avLst/>
          </a:prstGeom>
          <a:ln w="93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Arial"/>
              </a:rPr>
              <a:t>Задание №</a:t>
            </a: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10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00"/>
                </a:solidFill>
                <a:latin typeface="Arial"/>
              </a:rPr>
              <a:t>Найти координаты вектора а </a:t>
            </a: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+d,</a:t>
            </a:r>
            <a:r>
              <a:rPr b="0" lang="ru-RU" sz="2800" spc="-1" strike="noStrike">
                <a:solidFill>
                  <a:srgbClr val="cc6600"/>
                </a:solidFill>
                <a:latin typeface="Arial"/>
              </a:rPr>
              <a:t> ес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6600"/>
                </a:solidFill>
                <a:latin typeface="Arial"/>
              </a:rPr>
              <a:t>а</a:t>
            </a: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{-6;3,5} d{0,3;2,3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76720" y="1700280"/>
            <a:ext cx="360360" cy="0"/>
          </a:xfrm>
          <a:prstGeom prst="line">
            <a:avLst/>
          </a:prstGeom>
          <a:ln w="93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900000" y="3500280"/>
                <a:ext cx="3241800" cy="90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5,7</m:t>
                        </m:r>
                        <m:r>
                          <m:t xml:space="preserve">;</m:t>
                        </m:r>
                        <m:r>
                          <m:t xml:space="preserve">5,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4734000" y="3500280"/>
                <a:ext cx="342432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t xml:space="preserve">)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6,3</m:t>
                        </m:r>
                        <m:r>
                          <m:t xml:space="preserve">;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t xml:space="preserve">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954000" y="5157720"/>
                <a:ext cx="292104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r>
                      <m:t xml:space="preserve">)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6,3</m:t>
                        </m:r>
                        <m:r>
                          <m:t xml:space="preserve">;</m:t>
                        </m:r>
                        <m:r>
                          <m:t xml:space="preserve">5,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5130720" y="5084640"/>
                <a:ext cx="291960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г</m:t>
                    </m:r>
                    <m:r>
                      <m:t xml:space="preserve">)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5,7</m:t>
                        </m:r>
                        <m:r>
                          <m:t xml:space="preserve">;</m:t>
                        </m:r>
                        <m:r>
                          <m:t xml:space="preserve">5,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5580000" y="1700280"/>
            <a:ext cx="360360" cy="0"/>
          </a:xfrm>
          <a:prstGeom prst="line">
            <a:avLst/>
          </a:prstGeom>
          <a:ln w="93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2276640"/>
            <a:ext cx="360360" cy="0"/>
          </a:xfrm>
          <a:prstGeom prst="line">
            <a:avLst/>
          </a:prstGeom>
          <a:ln w="93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195640" y="2205000"/>
            <a:ext cx="360360" cy="0"/>
          </a:xfrm>
          <a:prstGeom prst="line">
            <a:avLst/>
          </a:prstGeom>
          <a:ln w="93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Arial"/>
              </a:rPr>
              <a:t>Задание №</a:t>
            </a: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1</a:t>
            </a:r>
            <a:r>
              <a:rPr b="0" lang="ru-RU" sz="4000" spc="-1" strike="noStrike">
                <a:solidFill>
                  <a:srgbClr val="cc3300"/>
                </a:solidFill>
                <a:latin typeface="Arial"/>
              </a:rPr>
              <a:t>1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00"/>
                </a:solidFill>
                <a:latin typeface="Arial"/>
              </a:rPr>
              <a:t>Найти координаты вектора а -</a:t>
            </a: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d,</a:t>
            </a:r>
            <a:r>
              <a:rPr b="0" lang="ru-RU" sz="2800" spc="-1" strike="noStrike">
                <a:solidFill>
                  <a:srgbClr val="cc6600"/>
                </a:solidFill>
                <a:latin typeface="Arial"/>
              </a:rPr>
              <a:t> ес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6600"/>
                </a:solidFill>
                <a:latin typeface="Arial"/>
              </a:rPr>
              <a:t>а</a:t>
            </a: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{-6;3,5} d{0,3;2,3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076720" y="1700280"/>
            <a:ext cx="360360" cy="0"/>
          </a:xfrm>
          <a:prstGeom prst="line">
            <a:avLst/>
          </a:prstGeom>
          <a:ln w="93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900000" y="3500280"/>
                <a:ext cx="3241800" cy="90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5,7</m:t>
                        </m:r>
                        <m:r>
                          <m:t xml:space="preserve">;</m:t>
                        </m:r>
                        <m:r>
                          <m:t xml:space="preserve">5,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788000" y="3429000"/>
                <a:ext cx="3368520" cy="19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6,3</m:t>
                            </m:r>
                            <m:r>
                              <m:t xml:space="preserve">;</m:t>
                            </m:r>
                            <m:r>
                              <m:t xml:space="preserve">1,2</m:t>
                            </m:r>
                          </m:e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954000" y="5157720"/>
                <a:ext cx="292104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r>
                      <m:t xml:space="preserve">)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6,3</m:t>
                        </m:r>
                        <m:r>
                          <m:t xml:space="preserve">;</m:t>
                        </m:r>
                        <m:r>
                          <m:t xml:space="preserve">5,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5130720" y="5084640"/>
                <a:ext cx="291960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г</m:t>
                    </m:r>
                    <m:r>
                      <m:t xml:space="preserve">)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5,7</m:t>
                        </m:r>
                        <m:r>
                          <m:t xml:space="preserve">;</m:t>
                        </m:r>
                        <m:r>
                          <m:t xml:space="preserve">5,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5580000" y="1700280"/>
            <a:ext cx="360360" cy="0"/>
          </a:xfrm>
          <a:prstGeom prst="line">
            <a:avLst/>
          </a:prstGeom>
          <a:ln w="93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9640" y="2276640"/>
            <a:ext cx="360360" cy="0"/>
          </a:xfrm>
          <a:prstGeom prst="line">
            <a:avLst/>
          </a:prstGeom>
          <a:ln w="93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95640" y="2205000"/>
            <a:ext cx="360360" cy="0"/>
          </a:xfrm>
          <a:prstGeom prst="line">
            <a:avLst/>
          </a:prstGeom>
          <a:ln w="93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Arial"/>
              </a:rPr>
              <a:t>Задание №</a:t>
            </a: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1</a:t>
            </a:r>
            <a:r>
              <a:rPr b="0" lang="ru-RU" sz="4000" spc="-1" strike="noStrike">
                <a:solidFill>
                  <a:srgbClr val="cc3300"/>
                </a:solidFill>
                <a:latin typeface="Arial"/>
              </a:rPr>
              <a:t>2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00"/>
                </a:solidFill>
                <a:latin typeface="Arial"/>
              </a:rPr>
              <a:t>Найти координаты вектора -5</a:t>
            </a: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d,</a:t>
            </a:r>
            <a:r>
              <a:rPr b="0" lang="ru-RU" sz="2800" spc="-1" strike="noStrike">
                <a:solidFill>
                  <a:srgbClr val="cc6600"/>
                </a:solidFill>
                <a:latin typeface="Arial"/>
              </a:rPr>
              <a:t> ес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d{-6;</a:t>
            </a:r>
            <a:r>
              <a:rPr b="0" lang="ru-RU" sz="3200" spc="-1" strike="noStrike">
                <a:solidFill>
                  <a:srgbClr val="cc66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,1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154160" y="3557520"/>
                <a:ext cx="273204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0,5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818240" y="3500280"/>
                <a:ext cx="325584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t xml:space="preserve">)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0,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587520" y="5157720"/>
                <a:ext cx="365436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r>
                      <m:t xml:space="preserve">)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0,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4962600" y="5084640"/>
                <a:ext cx="325584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г</m:t>
                    </m:r>
                    <m:r>
                      <m:t xml:space="preserve">)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;</m:t>
                        </m:r>
                        <m:r>
                          <m:t xml:space="preserve">0,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5364000" y="1700280"/>
            <a:ext cx="360360" cy="0"/>
          </a:xfrm>
          <a:prstGeom prst="line">
            <a:avLst/>
          </a:prstGeom>
          <a:ln w="93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2205000"/>
            <a:ext cx="360360" cy="0"/>
          </a:xfrm>
          <a:prstGeom prst="line">
            <a:avLst/>
          </a:prstGeom>
          <a:ln w="93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0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Arial"/>
              </a:rPr>
              <a:t>Задание №</a:t>
            </a: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1</a:t>
            </a:r>
            <a:r>
              <a:rPr b="0" lang="ru-RU" sz="4000" spc="-1" strike="noStrike">
                <a:solidFill>
                  <a:srgbClr val="cc3300"/>
                </a:solidFill>
                <a:latin typeface="Arial"/>
              </a:rPr>
              <a:t>3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00"/>
                </a:solidFill>
                <a:latin typeface="Arial"/>
              </a:rPr>
              <a:t>Найти координаты вектора 0,1а</a:t>
            </a: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cc6600"/>
                </a:solidFill>
                <a:latin typeface="Arial"/>
              </a:rPr>
              <a:t> ес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6600"/>
                </a:solidFill>
                <a:latin typeface="Arial"/>
              </a:rPr>
              <a:t>а</a:t>
            </a: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{-</a:t>
            </a:r>
            <a:r>
              <a:rPr b="0" lang="ru-RU" sz="3200" spc="-1" strike="noStrike">
                <a:solidFill>
                  <a:srgbClr val="cc66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;</a:t>
            </a:r>
            <a:r>
              <a:rPr b="0" lang="ru-RU" sz="3200" spc="-1" strike="noStrike">
                <a:solidFill>
                  <a:srgbClr val="cc66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362240" y="3557520"/>
                <a:ext cx="23158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0,1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5099040" y="3500280"/>
                <a:ext cx="269388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t xml:space="preserve">)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063800" y="5157720"/>
                <a:ext cx="269856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r>
                      <m:t xml:space="preserve">)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,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5299200" y="5084640"/>
                <a:ext cx="258264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г</m:t>
                    </m:r>
                    <m:r>
                      <m:t xml:space="preserve">)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580000" y="1700280"/>
            <a:ext cx="360360" cy="0"/>
          </a:xfrm>
          <a:prstGeom prst="line">
            <a:avLst/>
          </a:prstGeom>
          <a:ln w="93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68360" y="2205000"/>
            <a:ext cx="360360" cy="0"/>
          </a:xfrm>
          <a:prstGeom prst="line">
            <a:avLst/>
          </a:prstGeom>
          <a:ln w="93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Arial"/>
              </a:rPr>
              <a:t>Задание №</a:t>
            </a: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1</a:t>
            </a:r>
            <a:r>
              <a:rPr b="0" lang="ru-RU" sz="4000" spc="-1" strike="noStrike">
                <a:solidFill>
                  <a:srgbClr val="cc3300"/>
                </a:solidFill>
                <a:latin typeface="Arial"/>
              </a:rPr>
              <a:t>4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00"/>
                </a:solidFill>
                <a:latin typeface="Arial"/>
              </a:rPr>
              <a:t>Найти координаты вектора 2а -3</a:t>
            </a: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d,</a:t>
            </a:r>
            <a:r>
              <a:rPr b="0" lang="ru-RU" sz="2800" spc="-1" strike="noStrike">
                <a:solidFill>
                  <a:srgbClr val="cc6600"/>
                </a:solidFill>
                <a:latin typeface="Arial"/>
              </a:rPr>
              <a:t> ес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6600"/>
                </a:solidFill>
                <a:latin typeface="Arial"/>
              </a:rPr>
              <a:t>а</a:t>
            </a: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{-6;0}    d{0;-2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076720" y="1700280"/>
            <a:ext cx="360360" cy="0"/>
          </a:xfrm>
          <a:prstGeom prst="line">
            <a:avLst/>
          </a:prstGeom>
          <a:ln w="93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244520" y="3500280"/>
                <a:ext cx="2551320" cy="90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4844880" y="3500280"/>
                <a:ext cx="320040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t xml:space="preserve">)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841320" y="5157720"/>
                <a:ext cx="314640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r>
                      <m:t xml:space="preserve">)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5214960" y="5084640"/>
                <a:ext cx="274968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г</m:t>
                    </m:r>
                    <m:r>
                      <m:t xml:space="preserve">)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;</m:t>
                        </m:r>
                        <m:r>
                          <m:t xml:space="preserve">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6" name=""/>
          <p:cNvSpPr/>
          <p:nvPr/>
        </p:nvSpPr>
        <p:spPr>
          <a:xfrm>
            <a:off x="5940360" y="1700280"/>
            <a:ext cx="360360" cy="0"/>
          </a:xfrm>
          <a:prstGeom prst="line">
            <a:avLst/>
          </a:prstGeom>
          <a:ln w="93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9640" y="2276640"/>
            <a:ext cx="360360" cy="0"/>
          </a:xfrm>
          <a:prstGeom prst="line">
            <a:avLst/>
          </a:prstGeom>
          <a:ln w="93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95640" y="2205000"/>
            <a:ext cx="360360" cy="0"/>
          </a:xfrm>
          <a:prstGeom prst="line">
            <a:avLst/>
          </a:prstGeom>
          <a:ln w="93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Arial"/>
              </a:rPr>
              <a:t>Задание №</a:t>
            </a: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15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00"/>
                </a:solidFill>
                <a:latin typeface="Arial"/>
              </a:rPr>
              <a:t>Найти координаты вектора </a:t>
            </a: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cc6600"/>
                </a:solidFill>
                <a:latin typeface="Arial"/>
              </a:rPr>
              <a:t>а -</a:t>
            </a: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4i,</a:t>
            </a:r>
            <a:r>
              <a:rPr b="0" lang="ru-RU" sz="2800" spc="-1" strike="noStrike">
                <a:solidFill>
                  <a:srgbClr val="cc6600"/>
                </a:solidFill>
                <a:latin typeface="Arial"/>
              </a:rPr>
              <a:t> ес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6600"/>
                </a:solidFill>
                <a:latin typeface="Arial"/>
              </a:rPr>
              <a:t>а</a:t>
            </a: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{-5;0}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292720" y="1700280"/>
            <a:ext cx="360360" cy="0"/>
          </a:xfrm>
          <a:prstGeom prst="line">
            <a:avLst/>
          </a:prstGeom>
          <a:ln w="93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616040" y="3500280"/>
                <a:ext cx="1806480" cy="90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5181480" y="3500280"/>
                <a:ext cx="252756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t xml:space="preserve">)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9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981000" y="5157720"/>
                <a:ext cx="286560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r>
                      <m:t xml:space="preserve">)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9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5467320" y="5084640"/>
                <a:ext cx="224460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г</m:t>
                    </m:r>
                    <m:r>
                      <m:t xml:space="preserve">)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5724360" y="1628640"/>
            <a:ext cx="360360" cy="0"/>
          </a:xfrm>
          <a:prstGeom prst="line">
            <a:avLst/>
          </a:prstGeom>
          <a:ln w="93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9640" y="2276640"/>
            <a:ext cx="360360" cy="0"/>
          </a:xfrm>
          <a:prstGeom prst="line">
            <a:avLst/>
          </a:prstGeom>
          <a:ln w="93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>
            <a:hlinkClick r:id="" action="ppaction://hlinkshowjump?jump=nextslide"/>
          </p:cNvPr>
          <p:cNvSpPr/>
          <p:nvPr/>
        </p:nvSpPr>
        <p:spPr>
          <a:xfrm>
            <a:off x="6659640" y="5950080"/>
            <a:ext cx="1297080" cy="503280"/>
          </a:xfrm>
          <a:custGeom>
            <a:avLst/>
            <a:gdLst>
              <a:gd name="textAreaLeft" fmla="*/ 32400 w 1297080"/>
              <a:gd name="textAreaRight" fmla="*/ 1264680 w 1297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55644" h="21600">
                <a:moveTo>
                  <a:pt x="0" y="0"/>
                </a:moveTo>
                <a:lnTo>
                  <a:pt x="55644" y="0"/>
                </a:lnTo>
                <a:lnTo>
                  <a:pt x="55644" y="21600"/>
                </a:lnTo>
                <a:lnTo>
                  <a:pt x="0" y="21600"/>
                </a:lnTo>
                <a:close/>
              </a:path>
              <a:path fill="lightenLess" w="55644" h="21600">
                <a:moveTo>
                  <a:pt x="0" y="0"/>
                </a:moveTo>
                <a:lnTo>
                  <a:pt x="55644" y="0"/>
                </a:lnTo>
                <a:lnTo>
                  <a:pt x="54244" y="1400"/>
                </a:lnTo>
                <a:lnTo>
                  <a:pt x="1400" y="1400"/>
                </a:lnTo>
                <a:close/>
              </a:path>
              <a:path fill="darken" w="55644" h="21600">
                <a:moveTo>
                  <a:pt x="55644" y="0"/>
                </a:moveTo>
                <a:lnTo>
                  <a:pt x="55644" y="21600"/>
                </a:lnTo>
                <a:lnTo>
                  <a:pt x="54244" y="20200"/>
                </a:lnTo>
                <a:lnTo>
                  <a:pt x="54244" y="1400"/>
                </a:lnTo>
                <a:close/>
              </a:path>
              <a:path fill="darkenLess" w="55644" h="21600">
                <a:moveTo>
                  <a:pt x="556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244" y="20200"/>
                </a:lnTo>
                <a:close/>
              </a:path>
              <a:path fill="lighten" w="556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644" h="21600">
                <a:moveTo>
                  <a:pt x="20816" y="3794"/>
                </a:moveTo>
                <a:lnTo>
                  <a:pt x="34829" y="10800"/>
                </a:lnTo>
                <a:lnTo>
                  <a:pt x="20816" y="17806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765360" cy="12560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26920" y="1413000"/>
            <a:ext cx="7848720" cy="4174920"/>
          </a:xfrm>
          <a:prstGeom prst="cube">
            <a:avLst>
              <a:gd name="adj" fmla="val 169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03280" y="2565360"/>
            <a:ext cx="597708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3300"/>
                </a:solidFill>
                <a:latin typeface="Arial"/>
              </a:rPr>
              <a:t>Перед вами тест, который поможет в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3300"/>
                </a:solidFill>
                <a:latin typeface="Arial"/>
              </a:rPr>
              <a:t>подготовиться к контрольной работе по те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3300"/>
                </a:solidFill>
                <a:latin typeface="Arial"/>
              </a:rPr>
              <a:t>«Метод координа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Arial"/>
              </a:rPr>
              <a:t>Задание №</a:t>
            </a: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1</a:t>
            </a:r>
            <a:r>
              <a:rPr b="0" lang="ru-RU" sz="4000" spc="-1" strike="noStrike">
                <a:solidFill>
                  <a:srgbClr val="cc3300"/>
                </a:solidFill>
                <a:latin typeface="Arial"/>
              </a:rPr>
              <a:t>6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00"/>
                </a:solidFill>
                <a:latin typeface="Arial"/>
              </a:rPr>
              <a:t>Найти вектор, коллинеарный вектору а</a:t>
            </a: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{-5;</a:t>
            </a:r>
            <a:r>
              <a:rPr b="0" lang="ru-RU" sz="3200" spc="-1" strike="noStrike">
                <a:solidFill>
                  <a:srgbClr val="cc66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}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042920" y="3500280"/>
                <a:ext cx="252432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r>
                      <m:t xml:space="preserve">в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4705200" y="3500280"/>
                <a:ext cx="348156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t xml:space="preserve">)</m:t>
                    </m:r>
                    <m:r>
                      <m:t xml:space="preserve">с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952560" y="5157720"/>
                <a:ext cx="29224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r>
                      <m:t xml:space="preserve">)</m:t>
                    </m:r>
                    <m:r>
                      <m:t xml:space="preserve">е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299200" y="5084640"/>
                <a:ext cx="258120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г</m:t>
                    </m:r>
                    <m:r>
                      <m:t xml:space="preserve">)</m:t>
                    </m:r>
                    <m:r>
                      <m:t xml:space="preserve">х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;</m:t>
                        </m:r>
                        <m:r>
                          <m:t xml:space="preserve">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804000" y="1700280"/>
            <a:ext cx="360360" cy="0"/>
          </a:xfrm>
          <a:prstGeom prst="line">
            <a:avLst/>
          </a:prstGeom>
          <a:ln w="93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692360" y="3573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92720" y="3573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547640" y="5373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940360" y="5300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0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Arial"/>
              </a:rPr>
              <a:t>Задание №</a:t>
            </a: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1</a:t>
            </a:r>
            <a:r>
              <a:rPr b="0" lang="ru-RU" sz="4000" spc="-1" strike="noStrike">
                <a:solidFill>
                  <a:srgbClr val="cc3300"/>
                </a:solidFill>
                <a:latin typeface="Arial"/>
              </a:rPr>
              <a:t>7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00"/>
                </a:solidFill>
                <a:latin typeface="Arial"/>
              </a:rPr>
              <a:t>Найти координаты вектора  РО</a:t>
            </a: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cc6600"/>
                </a:solidFill>
                <a:latin typeface="Arial"/>
              </a:rPr>
              <a:t> ес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00"/>
                </a:solidFill>
                <a:latin typeface="Arial"/>
              </a:rPr>
              <a:t>            </a:t>
            </a:r>
            <a:r>
              <a:rPr b="0" lang="ru-RU" sz="2800" spc="-1" strike="noStrike">
                <a:solidFill>
                  <a:srgbClr val="cc6600"/>
                </a:solidFill>
                <a:latin typeface="Arial"/>
              </a:rPr>
              <a:t>Р( -1;0)   О(-3;-3)</a:t>
            </a: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755640" y="3510000"/>
                <a:ext cx="3089160" cy="100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5548320" y="3500280"/>
                <a:ext cx="179532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981000" y="5157720"/>
                <a:ext cx="286704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r>
                      <m:t xml:space="preserve">)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5607000" y="5084640"/>
                <a:ext cx="196524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г</m:t>
                    </m:r>
                    <m:r>
                      <m:t xml:space="preserve">)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5364000" y="1628640"/>
            <a:ext cx="360360" cy="0"/>
          </a:xfrm>
          <a:prstGeom prst="line">
            <a:avLst/>
          </a:prstGeom>
          <a:ln w="93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0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Arial"/>
              </a:rPr>
              <a:t>Задание №</a:t>
            </a: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18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00"/>
                </a:solidFill>
                <a:latin typeface="Arial"/>
              </a:rPr>
              <a:t>Найти координаты</a:t>
            </a: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cc6600"/>
                </a:solidFill>
                <a:latin typeface="Arial"/>
              </a:rPr>
              <a:t>середины отрезка ВО, ес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00"/>
                </a:solidFill>
                <a:latin typeface="Arial"/>
              </a:rPr>
              <a:t>            </a:t>
            </a:r>
            <a:r>
              <a:rPr b="0" lang="ru-RU" sz="2800" spc="-1" strike="noStrike">
                <a:solidFill>
                  <a:srgbClr val="cc6600"/>
                </a:solidFill>
                <a:latin typeface="Arial"/>
              </a:rPr>
              <a:t>В( -4;7)  и  О(0;-3)</a:t>
            </a: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936720" y="3568680"/>
                <a:ext cx="272736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5183280" y="3500280"/>
                <a:ext cx="252576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t xml:space="preserve">)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1430280" y="5157720"/>
                <a:ext cx="196704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r>
                      <m:t xml:space="preserve">)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5356080" y="5084640"/>
                <a:ext cx="247032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г</m:t>
                    </m:r>
                    <m:r>
                      <m:t xml:space="preserve">)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0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7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Arial"/>
              </a:rPr>
              <a:t>Задание №</a:t>
            </a: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1</a:t>
            </a:r>
            <a:r>
              <a:rPr b="0" lang="ru-RU" sz="4000" spc="-1" strike="noStrike">
                <a:solidFill>
                  <a:srgbClr val="cc3300"/>
                </a:solidFill>
                <a:latin typeface="Arial"/>
              </a:rPr>
              <a:t>9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00"/>
                </a:solidFill>
                <a:latin typeface="Arial"/>
              </a:rPr>
              <a:t>Найти координаты вектора  АО</a:t>
            </a: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cc6600"/>
                </a:solidFill>
                <a:latin typeface="Arial"/>
              </a:rPr>
              <a:t> ес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00"/>
                </a:solidFill>
                <a:latin typeface="Arial"/>
              </a:rPr>
              <a:t>            </a:t>
            </a:r>
            <a:r>
              <a:rPr b="0" lang="ru-RU" sz="2800" spc="-1" strike="noStrike">
                <a:solidFill>
                  <a:srgbClr val="cc6600"/>
                </a:solidFill>
                <a:latin typeface="Arial"/>
              </a:rPr>
              <a:t>А( 1;0)  , а О середина отрезка ВС, причём В(2;2) С(-2;4)</a:t>
            </a: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1082520" y="3510000"/>
                <a:ext cx="2435400" cy="100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5576760" y="3500280"/>
                <a:ext cx="173844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1262160" y="5157720"/>
                <a:ext cx="23050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r>
                      <m:t xml:space="preserve">)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5662440" y="5084640"/>
                <a:ext cx="185292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г</m:t>
                    </m:r>
                    <m:r>
                      <m:t xml:space="preserve">)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8" name=""/>
          <p:cNvSpPr/>
          <p:nvPr/>
        </p:nvSpPr>
        <p:spPr>
          <a:xfrm>
            <a:off x="5364000" y="1628640"/>
            <a:ext cx="360360" cy="0"/>
          </a:xfrm>
          <a:prstGeom prst="line">
            <a:avLst/>
          </a:prstGeom>
          <a:ln w="93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0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8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3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Задание №20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00"/>
                </a:solidFill>
                <a:latin typeface="Arial"/>
              </a:rPr>
              <a:t>Найти длину  вектора  ЕК</a:t>
            </a: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cc6600"/>
                </a:solidFill>
                <a:latin typeface="Arial"/>
              </a:rPr>
              <a:t> ес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00"/>
                </a:solidFill>
                <a:latin typeface="Arial"/>
              </a:rPr>
              <a:t>            </a:t>
            </a:r>
            <a:r>
              <a:rPr b="0" lang="ru-RU" sz="2800" spc="-1" strike="noStrike">
                <a:solidFill>
                  <a:srgbClr val="cc6600"/>
                </a:solidFill>
                <a:latin typeface="Arial"/>
              </a:rPr>
              <a:t>ЕК</a:t>
            </a: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 {-4;-3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479600" y="3510000"/>
                <a:ext cx="1641600" cy="100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5884920" y="3527280"/>
                <a:ext cx="112248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t xml:space="preserve">)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1879560" y="5184720"/>
                <a:ext cx="106848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r>
                      <m:t xml:space="preserve">)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5775480" y="5029200"/>
                <a:ext cx="162720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г</m:t>
                    </m:r>
                    <m:r>
                      <m:t xml:space="preserve">)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25" name=""/>
          <p:cNvSpPr/>
          <p:nvPr/>
        </p:nvSpPr>
        <p:spPr>
          <a:xfrm>
            <a:off x="5724360" y="1628640"/>
            <a:ext cx="360360" cy="0"/>
          </a:xfrm>
          <a:prstGeom prst="line">
            <a:avLst/>
          </a:prstGeom>
          <a:ln w="93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6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7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3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Задание №21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00"/>
                </a:solidFill>
                <a:latin typeface="Arial"/>
              </a:rPr>
              <a:t>Найти длину  вектора  СМ</a:t>
            </a: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cc6600"/>
                </a:solidFill>
                <a:latin typeface="Arial"/>
              </a:rPr>
              <a:t> ес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00"/>
                </a:solidFill>
                <a:latin typeface="Arial"/>
              </a:rPr>
              <a:t>            </a:t>
            </a:r>
            <a:r>
              <a:rPr b="0" lang="ru-RU" sz="2800" spc="-1" strike="noStrike">
                <a:solidFill>
                  <a:srgbClr val="cc6600"/>
                </a:solidFill>
                <a:latin typeface="Arial"/>
              </a:rPr>
              <a:t>С(-1;-1)       и          М(2;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1503360" y="3510000"/>
                <a:ext cx="1593720" cy="100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5856120" y="3527280"/>
                <a:ext cx="117972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t xml:space="preserve">)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1514520" y="5073480"/>
                <a:ext cx="185580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r>
                      <m:t xml:space="preserve">)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5803920" y="5029200"/>
                <a:ext cx="1569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г</m:t>
                    </m:r>
                    <m:r>
                      <m:t xml:space="preserve">)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8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5724360" y="1628640"/>
            <a:ext cx="360360" cy="0"/>
          </a:xfrm>
          <a:prstGeom prst="line">
            <a:avLst/>
          </a:prstGeom>
          <a:ln w="93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fill="hold">
                      <p:stCondLst>
                        <p:cond delay="0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4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9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5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7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Задание №22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Найти длину  отрезка ОК , ес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К(0;1)       и          О(-2;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1503360" y="3510000"/>
                <a:ext cx="1593720" cy="100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856120" y="3527280"/>
                <a:ext cx="117972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t xml:space="preserve">)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1514520" y="5073480"/>
                <a:ext cx="185580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r>
                      <m:t xml:space="preserve">)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5803920" y="5029200"/>
                <a:ext cx="1569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г</m:t>
                    </m:r>
                    <m:r>
                      <m:t xml:space="preserve">)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8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0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2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7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9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5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1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Задание №23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052280"/>
            <a:ext cx="800244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Найти длину  медианы   О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                                   </a:t>
            </a: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К(0;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А(-2;3)                              В(2;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                      </a:t>
            </a: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1503360" y="3510000"/>
                <a:ext cx="1593720" cy="100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5856120" y="3527280"/>
                <a:ext cx="117972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t xml:space="preserve">)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1908000" y="5157720"/>
                <a:ext cx="106848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r>
                      <m:t xml:space="preserve">)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5803920" y="5029200"/>
                <a:ext cx="1569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г</m:t>
                    </m:r>
                    <m:r>
                      <m:t xml:space="preserve">)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8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45" name=""/>
          <p:cNvSpPr/>
          <p:nvPr/>
        </p:nvSpPr>
        <p:spPr>
          <a:xfrm>
            <a:off x="1692360" y="2060640"/>
            <a:ext cx="2735280" cy="1008000"/>
          </a:xfrm>
          <a:prstGeom prst="triangle">
            <a:avLst>
              <a:gd name="adj" fmla="val 73824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3058920" y="2060640"/>
            <a:ext cx="64908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0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0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5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0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5" dur="5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3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9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3559 -0.36084 C -0.23386 -0.34767 -0.23195 -0.33218 -0.22882 -0.31946 C -0.21997 -0.28386 -0.22795 -0.32663 -0.22222 -0.29889 C -0.21945 -0.28525 -0.21719 -0.26815 -0.21337 -0.25451 C -0.21042 -0.24411 -0.20556 -0.23486 -0.20226 -0.22492 C -0.19601 -0.20643 -0.19861 -0.19787 -0.18889 -0.18054 C -0.18507 -0.16043 -0.18056 -0.14101 -0.17552 -0.12136 C -0.17257 -0.10957 -0.17205 -0.10217 -0.16667 -0.09177 C -0.16441 -0.0742 -0.16129 -0.0712 -0.15781 -0.05617 C -0.15261 -0.03352 -0.14618 -0.01294 -0.13993 0.00902 C -0.13229 0.03629 -0.12761 0.06842 -0.11771 0.09478 C -0.11302 0.10749 -0.10452 0.11951 -0.09775 0.13014 C -0.08438 0.17568 -0.06129 0.21729 -0.03559 0.2515 C -0.03403 0.25751 -0.03368 0.26399 -0.03108 0.2693 C -0.029 0.27346 -0.02483 0.27462 -0.02222 0.27809 C -0.01077 0.29334 -0.00035 0.31022 0.01111 0.32547 C 0.03003 0.35067 0.0533 0.36593 0.07552 0.38465 C 0.07951 0.38812 0.08264 0.39297 0.08663 0.39644 C 0.0908 0.39991 0.09583 0.40176 0.1 0.40546 C 0.1026 0.40777 0.10382 0.41239 0.1066 0.41424 C 0.10989 0.41655 0.11406 0.41586 0.11771 0.41724 C 0.13055 0.42233 0.14288 0.4295 0.15555 0.43504 C 0.1743 0.44337 0.19149 0.45331 0.21111 0.45862 C 0.2408 0.4577 0.27048 0.45908 0.3 0.45562 C 0.30434 0.45516 0.30712 0.44891 0.31111 0.44683 C 0.31458 0.44498 0.31857 0.44475 0.32222 0.44383 C 0.33594 0.43227 0.34635 0.42372 0.35781 0.40846 C 0.36232 0.39575 0.3691 0.38581 0.37326 0.37286 C 0.37708 0.36084 0.37778 0.34905 0.38229 0.33726 C 0.38298 0.33333 0.38316 0.32917 0.38437 0.32547 C 0.38541 0.32224 0.38837 0.32016 0.38889 0.31669 C 0.39062 0.30398 0.38993 0.2908 0.39114 0.27809 C 0.39149 0.27416 0.39271 0.27023 0.3934 0.2663 C 0.39045 0.25451 0.39062 0.24018 0.38437 0.23093 C 0.38333 0.22954 0.3658 0.24156 0.36441 0.24272 C 0.34184 0.25982 0.34444 0.26052 0.32673 0.2693 C 0.30503 0.27994 0.32083 0.27138 0.2934 0.28109 C 0.28142 0.28525 0.27187 0.29357 0.26007 0.29889 C 0.24375 0.30629 0.22725 0.31091 0.21111 0.31969 C 0.20191 0.33195 0.18837 0.3368 0.17552 0.34027 C 0.15469 0.35437 0.1342 0.36477 0.11111 0.36986 C 0.09357 0.37933 0.07639 0.39182 0.05781 0.39644 C 0.05104 0.40199 0.04514 0.41008 0.03785 0.41424 C 0.00364 0.43412 -0.03316 0.44545 -0.06893 0.45862 C -0.08959 0.4577 -0.11059 0.45908 -0.13108 0.45562 C -0.13472 0.45492 -0.13715 0.45007 -0.13993 0.44683 C -0.14618 0.4392 -0.15781 0.42325 -0.15781 0.42325 C -0.16077 0.4154 -0.16511 0.408 -0.16667 0.39945 C -0.16893 0.38766 -0.17327 0.36408 -0.17327 0.36408 C -0.1717 0.31969 -0.17465 0.29103 -0.15104 0.26052 C -0.14688 0.24272 -0.13351 0.23625 -0.12222 0.22792 C -0.10712 0.2166 -0.11945 0.22168 -0.1066 0.21313 C -0.06563 0.18608 -0.01389 0.19672 0.02882 0.19533 C 0.05278 0.18724 0.05347 0.18632 0.08437 0.18054 C 0.09774 0.17799 0.12448 0.17453 0.12448 0.17453 C 0.15035 0.16597 0.17569 0.16066 0.20225 0.15696 C 0.22778 0.14841 0.25746 0.14216 0.28229 0.13014 C 0.29062 0.12598 0.29809 0.11905 0.3066 0.11535 C 0.34687 0.09755 0.3901 0.08599 0.42673 0.05594 C 0.4441 0.02127 0.43837 0.03999 0.44444 3.95747E-006 C 0.45729 -0.03467 0.46302 -0.07305 0.47326 -0.10934 C 0.46753 -0.17776 0.47344 -0.25613 0.41771 -0.28687 C 0.40885 -0.29172 0.38975 -0.29427 0.38003 -0.29589 C 0.3526 -0.2938 0.325 -0.29473 0.29774 -0.28988 C 0.28611 -0.28779 0.27552 -0.2797 0.26441 -0.27508 C 0.21684 -0.25543 0.17309 -0.22607 0.12448 -0.21012 C 0.1033 -0.19602 0.08142 -0.18793 0.06007 -0.17453 C 0.04132 -0.16274 0.02604 -0.14794 0.00885 -0.13315 C -0.01389 -0.09246 8.33333E-007 -0.06727 8.33333E-007 3.95747E-006 E">
                                      <p:cBhvr>
                                        <p:cTn id="931" dur="2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8211 0.55918 C 0.5769 0.52982 0.56319 0.50971 0.53992 0.50879 C 0.49999 0.50717 0.45989 0.50694 0.41996 0.50601 C 0.41545 0.50208 0.40954 0.5 0.40659 0.49399 C 0.40225 0.48521 0.39999 0.47619 0.39548 0.46741 C 0.39652 0.44868 0.39479 0.4288 0.39999 0.41124 C 0.41041 0.37633 0.43576 0.36593 0.45989 0.35506 C 0.47343 0.34882 0.48576 0.34119 0.49999 0.33726 C 0.50451 0.33125 0.51041 0.32409 0.51336 0.31646 C 0.51545 0.31091 0.5177 0.29889 0.5177 0.29889 C 0.51892 0.28988 0.52222 0.28132 0.52222 0.27208 C 0.52222 0.26491 0.52256 0.23717 0.51545 0.22769 C 0.51128 0.22215 0.49461 0.2196 0.48888 0.21891 C 0.46666 0.21637 0.44444 0.21498 0.42222 0.2129 C 0.41024 0.20273 0.39635 0.2025 0.38437 0.19233 C 0.36649 0.12067 0.46788 0.13685 0.48437 0.13616 C 0.48663 0.13407 0.4894 0.13292 0.49114 0.13015 C 0.49253 0.12783 0.49235 0.12413 0.49322 0.12136 C 0.4986 0.10449 0.50156 0.08253 0.50885 0.06796 C 0.5118 0.04831 0.51301 0.04855 0.50885 0.02358 C 0.50694 0.01225 0.49808 2.32084999999931E-006 0.49322 -0.00901 C 0.48975 -0.01549 0.48819 -0.02358 0.48437 -0.02959 C 0.47829 -0.03906 0.471 -0.04739 0.4644 -0.05617 C 0.45364 -0.0705 0.45972 -0.06657 0.44878 -0.07096 C 0.43906 -0.0809 0.43628 -0.08784 0.42447 -0.09177 C 0.40729 -0.10679 0.41631 -0.1024 0.39774 -0.10656 C 0.38732 -0.10564 0.36788 -0.10541 0.35555 -0.10055 C 0.35173 -0.09893 0.34808 -0.09709 0.34444 -0.09477 C 0.34201 -0.09316 0.34027 -0.08992 0.33767 -0.08876 C 0.33194 -0.08599 0.32586 -0.08483 0.31996 -0.08298 C 0.30277 -0.05964 0.32482 -0.08761 0.30433 -0.06819 C 0.30173 -0.06565 0.30017 -0.06172 0.29774 -0.05918 C 0.29426 -0.05571 0.29027 -0.05363 0.28663 -0.05039 C 0.27534 -0.04045 0.26458 -0.03028 0.25329 -0.0208 C 0.2309 -0.00208 0.24548 -0.00948 0.23107 -0.003 C 0.23038 2.32085000000017E-006 0.22985 0.00301 0.22881 0.00578 C 0.2276 0.00902 0.22482 0.01133 0.22447 0.0148 C 0.22274 0.03236 0.23298 0.03514 0.24218 0.04138 C 0.26614 0.03722 0.25485 0.04184 0.27777 0.02659 C 0.28072 0.0245 0.28663 0.02058 0.28663 0.02058 C 0.29183 0.0104 0.29322 0.00278 0.29548 -0.00901 C 0.29548 -0.00971 0.29322 -0.03144 0.29114 -0.0356 C 0.27812 -0.06172 0.25156 -0.06727 0.23107 -0.07397 C 0.22777 -0.07513 0.22534 -0.07859 0.22222 -0.07998 C 0.21579 -0.08298 0.20885 -0.08368 0.20225 -0.08576 C 0.19045 -0.08483 0.17847 -0.08437 0.16666 -0.08298 C 0.15902 -0.08206 0.15208 -0.07466 0.14444 -0.07397 C 0.11788 -0.07143 0.09114 -0.07189 0.0644 -0.07096 C 0.0592 -0.06888 0.05381 -0.06796 0.04878 -0.06519 C 0.0269 -0.05247 0.05937 -0.06495 0.03333 -0.05617 C 0.02673 -0.05085 0.02013 -0.04715 0.01545 -0.0386 C 0.00086 -0.01133 0.02187 -0.04068 0.00433 -0.0178 C -0.0007 -0.00416 -8.33333E-006 -0.0104 -8.33333E-006 2.32085E-006 E">
                                      <p:cBhvr>
                                        <p:cTn id="933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Задание №24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052280"/>
            <a:ext cx="800244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Найти среди данных уравнений то, которое является уравнением окруж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880920" y="3789360"/>
                <a:ext cx="245592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r>
                      <m:t xml:space="preserve">х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4211640" y="3789360"/>
                <a:ext cx="458316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у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390600" y="5300640"/>
                <a:ext cx="358308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4761000" y="5373720"/>
                <a:ext cx="391644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г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у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2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8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4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0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Задание №25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1052280"/>
            <a:ext cx="800244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Написать уравнение окруж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1                    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755640" y="3789360"/>
                <a:ext cx="270828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6" name=""/>
          <p:cNvSpPr/>
          <p:nvPr/>
        </p:nvSpPr>
        <p:spPr>
          <a:xfrm flipV="1">
            <a:off x="1835280" y="1628640"/>
            <a:ext cx="0" cy="208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2637000"/>
            <a:ext cx="36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403280" y="2205000"/>
            <a:ext cx="865080" cy="792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4427640" y="3789360"/>
                <a:ext cx="458316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у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390600" y="5300640"/>
                <a:ext cx="358308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4927680" y="5373720"/>
                <a:ext cx="358308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г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у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fill="hold">
                      <p:stCondLst>
                        <p:cond delay="0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5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5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1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7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0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3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9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467 0.0148 C 0.4809 0.00208 0.58004 0.02035 0.3934 0.00902 C 0.38715 0.00856 0.38195 0.00162 0.37552 -3.61997E-006 C 0.36858 -0.00624 0.36163 -0.01109 0.3533 -0.01479 C 0.33889 -0.02889 0.32396 -0.04345 0.30903 -0.05617 C 0.30365 -0.06079 0.29861 -0.06611 0.2934 -0.07096 C 0.28733 -0.07674 0.27778 -0.09177 0.27778 -0.09177 C 0.27205 -0.11488 0.27101 -0.10402 0.28004 -0.12413 C 0.41736 -0.11719 0.3776 -0.16227 0.40451 -0.09177 C 0.40677 -0.07905 0.40885 -0.06611 0.41094 -0.05316 C 0.41024 -0.03444 0.41094 -0.01548 0.40885 0.00301 C 0.40868 0.00648 0.40538 0.00833 0.40451 0.01179 C 0.40399 0.01411 0.40191 0.03699 0.4 0.04138 C 0.39254 0.05918 0.37552 0.06565 0.36233 0.07097 C 0.35781 0.07282 0.34879 0.07698 0.34879 0.07698 C 0.31771 0.07583 0.2776 0.09755 0.25556 0.0682 C 0.25017 0.06103 0.24844 0.05017 0.24445 0.04138 C 0.2401 0.0111 0.23767 0.00093 0.2467 -0.04137 C 0.24757 -0.04553 0.25278 -0.03767 0.25556 -0.03536 C 0.25868 -0.03282 0.26163 -0.02958 0.26458 -0.02658 C 0.28247 0.00948 0.25764 0.05317 0.23125 0.06219 C 0.16719 0.06034 0.11007 0.05571 0.0467 0.0534 C 0.01597 0.04647 -0.01198 0.02497 -0.04219 0.0148 C -0.05382 -0.00069 -0.05417 -0.00762 -0.04219 -0.02357 C -0.0184 -0.02103 -0.00955 -0.02635 3.88889E-006 -3.61997E-006 E">
                                      <p:cBhvr>
                                        <p:cTn id="1011" dur="2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2" nodeType="with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7 0.033 -0.05859 0.058 -0.05859 C 0.095 -0.05859 0.125 -0.02264 0.125 0.02264 C 0.125 0.03728 0.122 0.0506 0.116 0.06258 C 0.117 0.06258 0 0.24233 0 0.24366 C 0 0.24233 -0.117 0.06258 -0.116 0.06258 C -0.122 0.0506 -0.125 0.03728 -0.125 0.02264 C -0.125 -0.02264 -0.095 -0.05859 -0.057 -0.05859 C -0.033 -0.05859 -0.012 -0.02397 0 0 Z">
                                      <p:cBhvr>
                                        <p:cTn id="1013" dur="5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4" nodeType="withEffect" fill="hold" presetClass="path" presetID="1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52 0 L 0.089 -0.04926 L 0.125 0 L 0.177 0 L 0.177 0.06924 L 0.213 0.1185 L 0.177 0.16644 L 0.177 0.23567 L 0.125 0.23567 L 0.089 0.28361 L 0.052 0.23567 L 0 0.23567 L 0 0.16644 L -0.037 0.1185 L 0 0.06924 L 0 0 Z">
                                      <p:cBhvr>
                                        <p:cTn id="1015" dur="1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195280" y="765000"/>
            <a:ext cx="633708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6600"/>
                </a:solidFill>
                <a:latin typeface="Arial"/>
                <a:cs typeface="Arial"/>
              </a:rPr>
              <a:t>٭</a:t>
            </a:r>
            <a:r>
              <a:rPr b="1" lang="ru-RU" sz="2400" spc="-1" strike="noStrike">
                <a:solidFill>
                  <a:srgbClr val="cc6600"/>
                </a:solidFill>
                <a:latin typeface="Arial"/>
              </a:rPr>
              <a:t>Прочитайте зад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6600"/>
                </a:solidFill>
                <a:latin typeface="Arial"/>
                <a:cs typeface="Arial"/>
              </a:rPr>
              <a:t>٭</a:t>
            </a:r>
            <a:r>
              <a:rPr b="1" lang="ru-RU" sz="24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6600"/>
                </a:solidFill>
                <a:latin typeface="Arial"/>
              </a:rPr>
              <a:t>Выберите вариант правильного отв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6600"/>
                </a:solidFill>
                <a:latin typeface="Arial"/>
                <a:cs typeface="Arial"/>
              </a:rPr>
              <a:t>٭</a:t>
            </a:r>
            <a:r>
              <a:rPr b="1" lang="ru-RU" sz="24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6600"/>
                </a:solidFill>
                <a:latin typeface="Arial"/>
              </a:rPr>
              <a:t>Нажмите на кнопку с выбранным отве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Если вы выбрали правильный ответ,вы автоматически переходите к следующему вопрос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Если вы ошиблись, компьютер скажет вам об этом и даст вам возможность ещё раз выбрать ответ в той же задач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11280" y="836640"/>
            <a:ext cx="952560" cy="809640"/>
          </a:xfrm>
          <a:prstGeom prst="rect">
            <a:avLst/>
          </a:prstGeom>
          <a:ln w="0">
            <a:noFill/>
          </a:ln>
        </p:spPr>
      </p:pic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6804000" y="6165720"/>
            <a:ext cx="1008000" cy="358920"/>
          </a:xfrm>
          <a:custGeom>
            <a:avLst/>
            <a:gdLst>
              <a:gd name="textAreaLeft" fmla="*/ 23040 w 1008000"/>
              <a:gd name="textAreaRight" fmla="*/ 984960 w 1008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60623" h="21600">
                <a:moveTo>
                  <a:pt x="0" y="0"/>
                </a:moveTo>
                <a:lnTo>
                  <a:pt x="60623" y="0"/>
                </a:lnTo>
                <a:lnTo>
                  <a:pt x="60623" y="21600"/>
                </a:lnTo>
                <a:lnTo>
                  <a:pt x="0" y="21600"/>
                </a:lnTo>
                <a:close/>
              </a:path>
              <a:path fill="lightenLess" w="60623" h="21600">
                <a:moveTo>
                  <a:pt x="0" y="0"/>
                </a:moveTo>
                <a:lnTo>
                  <a:pt x="60623" y="0"/>
                </a:lnTo>
                <a:lnTo>
                  <a:pt x="59223" y="1400"/>
                </a:lnTo>
                <a:lnTo>
                  <a:pt x="1400" y="1400"/>
                </a:lnTo>
                <a:close/>
              </a:path>
              <a:path fill="darken" w="60623" h="21600">
                <a:moveTo>
                  <a:pt x="60623" y="0"/>
                </a:moveTo>
                <a:lnTo>
                  <a:pt x="60623" y="21600"/>
                </a:lnTo>
                <a:lnTo>
                  <a:pt x="59223" y="20200"/>
                </a:lnTo>
                <a:lnTo>
                  <a:pt x="59223" y="1400"/>
                </a:lnTo>
                <a:close/>
              </a:path>
              <a:path fill="darkenLess" w="60623" h="21600">
                <a:moveTo>
                  <a:pt x="606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223" y="20200"/>
                </a:lnTo>
                <a:close/>
              </a:path>
              <a:path fill="lighten" w="606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623" h="21600">
                <a:moveTo>
                  <a:pt x="23305" y="3794"/>
                </a:moveTo>
                <a:lnTo>
                  <a:pt x="37318" y="10800"/>
                </a:lnTo>
                <a:lnTo>
                  <a:pt x="23305" y="17806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755640" y="4221000"/>
            <a:ext cx="952560" cy="809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611280" y="2852640"/>
            <a:ext cx="952560" cy="80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000"/>
                            </p:stCondLst>
                            <p:childTnLst>
                              <p:par>
                                <p:cTn id="6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6000"/>
                            </p:stCondLst>
                            <p:childTnLst>
                              <p:par>
                                <p:cTn id="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6500"/>
                            </p:stCondLst>
                            <p:childTnLst>
                              <p:par>
                                <p:cTn id="7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Задание №26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1052280"/>
            <a:ext cx="800244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Написать уравнение окруж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с центром  в начале координат и проходящей через точку В(-2;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704880" y="3284640"/>
                <a:ext cx="384336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у</m:t>
                    </m:r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4227480" y="4076640"/>
                <a:ext cx="408456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у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1174680" y="4952880"/>
                <a:ext cx="258912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5116680" y="5734080"/>
                <a:ext cx="220788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г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016" dur="indefinite" restart="never" nodeType="tmRoot">
          <p:childTnLst>
            <p:seq>
              <p:cTn id="1017" dur="indefinite" nodeType="mainSeq">
                <p:childTnLst>
                  <p:par>
                    <p:cTn id="1018" fill="hold">
                      <p:stCondLst>
                        <p:cond delay="0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4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9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5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1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4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7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3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461952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              </a:t>
            </a:r>
            <a:r>
              <a:rPr b="0" i="1" lang="en-US" sz="4000" spc="-1" strike="noStrike">
                <a:solidFill>
                  <a:srgbClr val="990033"/>
                </a:solidFill>
                <a:latin typeface="Arial"/>
              </a:rPr>
              <a:t>Я вас поздравляю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33"/>
                </a:solidFill>
                <a:latin typeface="Arial"/>
              </a:rPr>
              <a:t>       </a:t>
            </a:r>
            <a:r>
              <a:rPr b="0" i="1" lang="en-US" sz="2400" spc="-1" strike="noStrike">
                <a:solidFill>
                  <a:srgbClr val="990033"/>
                </a:solidFill>
                <a:latin typeface="Arial"/>
              </a:rPr>
              <a:t>Вы дошли до фина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33"/>
                </a:solidFill>
                <a:latin typeface="Arial"/>
              </a:rPr>
              <a:t>                                                   </a:t>
            </a:r>
            <a:r>
              <a:rPr b="0" i="1" lang="en-US" sz="2400" spc="-1" strike="noStrike">
                <a:solidFill>
                  <a:srgbClr val="990033"/>
                </a:solidFill>
                <a:latin typeface="Arial"/>
              </a:rPr>
              <a:t>Результат оцените                                                                     с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990033"/>
                </a:solidFill>
                <a:latin typeface="Arial"/>
              </a:rPr>
              <a:t>( надеюсь на вашу сове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33"/>
                </a:solidFill>
                <a:latin typeface="Arial"/>
              </a:rPr>
              <a:t>             </a:t>
            </a:r>
            <a:r>
              <a:rPr b="0" i="1" lang="en-US" sz="2400" spc="-1" strike="noStrike">
                <a:solidFill>
                  <a:srgbClr val="990033"/>
                </a:solidFill>
                <a:latin typeface="Arial"/>
              </a:rPr>
              <a:t>А впрочем                                                    контрольная работа ,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33"/>
                </a:solidFill>
                <a:latin typeface="Arial"/>
              </a:rPr>
              <a:t>       </a:t>
            </a:r>
            <a:r>
              <a:rPr b="0" i="1" lang="en-US" sz="2400" spc="-1" strike="noStrike">
                <a:solidFill>
                  <a:srgbClr val="990033"/>
                </a:solidFill>
                <a:latin typeface="Arial"/>
              </a:rPr>
              <a:t>которая будет завтра,                                                            всё покаже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cc"/>
                </a:solidFill>
                <a:latin typeface="Arial"/>
              </a:rPr>
              <a:t>              </a:t>
            </a:r>
            <a:r>
              <a:rPr b="1" i="1" lang="en-US" sz="3200" spc="-1" strike="noStrike">
                <a:solidFill>
                  <a:srgbClr val="ff3300"/>
                </a:solidFill>
                <a:latin typeface="Arial Black"/>
              </a:rPr>
              <a:t> </a:t>
            </a:r>
            <a:r>
              <a:rPr b="1" i="1" lang="en-US" sz="3200" spc="-1" strike="noStrike">
                <a:solidFill>
                  <a:srgbClr val="990033"/>
                </a:solidFill>
                <a:latin typeface="Arial Black"/>
              </a:rPr>
              <a:t>До свидания!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Нажмите для выход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>
            <a:hlinkClick r:id="" action="ppaction://hlinkshowjump?jump=endshow"/>
          </p:cNvPr>
          <p:cNvSpPr/>
          <p:nvPr/>
        </p:nvSpPr>
        <p:spPr>
          <a:xfrm>
            <a:off x="4932360" y="5950080"/>
            <a:ext cx="934920" cy="477720"/>
          </a:xfrm>
          <a:custGeom>
            <a:avLst/>
            <a:gdLst>
              <a:gd name="textAreaLeft" fmla="*/ 30960 w 934920"/>
              <a:gd name="textAreaRight" fmla="*/ 903960 w 934920"/>
              <a:gd name="textAreaTop" fmla="*/ 30960 h 477720"/>
              <a:gd name="textAreaBottom" fmla="*/ 446760 h 477720"/>
            </a:gdLst>
            <a:ahLst/>
            <a:rect l="textAreaLeft" t="textAreaTop" r="textAreaRight" b="textAreaBottom"/>
            <a:pathLst>
              <a:path w="42257" h="21600">
                <a:moveTo>
                  <a:pt x="0" y="0"/>
                </a:moveTo>
                <a:lnTo>
                  <a:pt x="42257" y="0"/>
                </a:lnTo>
                <a:lnTo>
                  <a:pt x="42257" y="21600"/>
                </a:lnTo>
                <a:lnTo>
                  <a:pt x="0" y="21600"/>
                </a:lnTo>
                <a:close/>
              </a:path>
              <a:path fill="lightenLess" w="42257" h="21600">
                <a:moveTo>
                  <a:pt x="0" y="0"/>
                </a:moveTo>
                <a:lnTo>
                  <a:pt x="42257" y="0"/>
                </a:lnTo>
                <a:lnTo>
                  <a:pt x="40857" y="1400"/>
                </a:lnTo>
                <a:lnTo>
                  <a:pt x="1400" y="1400"/>
                </a:lnTo>
                <a:close/>
              </a:path>
              <a:path fill="darken" w="42257" h="21600">
                <a:moveTo>
                  <a:pt x="42257" y="0"/>
                </a:moveTo>
                <a:lnTo>
                  <a:pt x="42257" y="21600"/>
                </a:lnTo>
                <a:lnTo>
                  <a:pt x="40857" y="20200"/>
                </a:lnTo>
                <a:lnTo>
                  <a:pt x="40857" y="1400"/>
                </a:lnTo>
                <a:close/>
              </a:path>
              <a:path fill="darkenLess" w="42257" h="21600">
                <a:moveTo>
                  <a:pt x="422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857" y="20200"/>
                </a:lnTo>
                <a:close/>
              </a:path>
              <a:path fill="lighten" w="422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257" h="21600">
                <a:moveTo>
                  <a:pt x="21128" y="3837"/>
                </a:moveTo>
                <a:lnTo>
                  <a:pt x="23705" y="6448"/>
                </a:lnTo>
                <a:lnTo>
                  <a:pt x="23705" y="4707"/>
                </a:lnTo>
                <a:lnTo>
                  <a:pt x="25480" y="4707"/>
                </a:lnTo>
                <a:lnTo>
                  <a:pt x="25480" y="8224"/>
                </a:lnTo>
                <a:lnTo>
                  <a:pt x="28091" y="10800"/>
                </a:lnTo>
                <a:lnTo>
                  <a:pt x="26438" y="10800"/>
                </a:lnTo>
                <a:lnTo>
                  <a:pt x="26438" y="17989"/>
                </a:lnTo>
                <a:lnTo>
                  <a:pt x="15819" y="17989"/>
                </a:lnTo>
                <a:lnTo>
                  <a:pt x="15819" y="10800"/>
                </a:lnTo>
                <a:lnTo>
                  <a:pt x="14165" y="10800"/>
                </a:lnTo>
                <a:close/>
              </a:path>
              <a:path fill="darkenLess" w="42257" h="21600">
                <a:moveTo>
                  <a:pt x="23705" y="6448"/>
                </a:moveTo>
                <a:lnTo>
                  <a:pt x="23705" y="4707"/>
                </a:lnTo>
                <a:lnTo>
                  <a:pt x="25480" y="4707"/>
                </a:lnTo>
                <a:lnTo>
                  <a:pt x="25480" y="8224"/>
                </a:lnTo>
                <a:close/>
              </a:path>
              <a:path fill="darkenLess" w="42257" h="21600">
                <a:moveTo>
                  <a:pt x="20206" y="14299"/>
                </a:moveTo>
                <a:lnTo>
                  <a:pt x="22051" y="14299"/>
                </a:lnTo>
                <a:lnTo>
                  <a:pt x="22051" y="17989"/>
                </a:lnTo>
                <a:lnTo>
                  <a:pt x="26438" y="17989"/>
                </a:lnTo>
                <a:lnTo>
                  <a:pt x="26438" y="10800"/>
                </a:lnTo>
                <a:lnTo>
                  <a:pt x="15819" y="10800"/>
                </a:lnTo>
                <a:lnTo>
                  <a:pt x="15819" y="17989"/>
                </a:lnTo>
                <a:lnTo>
                  <a:pt x="20206" y="17989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/>
          <a:srcRect l="0" t="10626" r="0" b="3044"/>
          <a:stretch/>
        </p:blipFill>
        <p:spPr>
          <a:xfrm>
            <a:off x="5516640" y="1197000"/>
            <a:ext cx="3497040" cy="431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4" dur="indefinite" restart="never" nodeType="tmRoot">
          <p:childTnLst>
            <p:seq>
              <p:cTn id="1055" dur="indefinite" nodeType="mainSeq">
                <p:childTnLst>
                  <p:par>
                    <p:cTn id="1056" fill="hold">
                      <p:stCondLst>
                        <p:cond delay="0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4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2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2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0" dur="2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4" dur="2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2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6" dur="20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0" dur="20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20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7000"/>
                            </p:stCondLst>
                            <p:childTnLst>
                              <p:par>
                                <p:cTn id="10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6" dur="8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7" dur="8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8" dur="8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fill="hold">
                            <p:stCondLst>
                              <p:cond delay="7920"/>
                            </p:stCondLst>
                            <p:childTnLst>
                              <p:par>
                                <p:cTn id="10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2" dur="8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3" dur="8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4" dur="8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9000"/>
                            </p:stCondLst>
                            <p:childTnLst>
                              <p:par>
                                <p:cTn id="109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20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20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20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20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0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2000" fill="hold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2000" fill="hold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2000" fill="hold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2000" fill="hold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0" dur="2000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1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4" dur="2000" fill="hold"/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2000" fill="hold"/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2000" fill="hold"/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2000" fill="hold"/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8" dur="2000"/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ы ошибся в первом же задании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Попробую помоч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Чтобы найти координаты вектора надо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отложить его от начала координ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разложить его по единичным векторам 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  i 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коэффициенты разложения вектора по координатным векторам и называются координатами вектора в данной системе координа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                                    a=2i+3j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тог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{2;3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   2                                     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724360" y="2852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084720" y="2852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3059280" y="400536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332000" y="5805360"/>
            <a:ext cx="540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3059280" y="4365360"/>
            <a:ext cx="1081080" cy="14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140360" y="443700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635280" y="5734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059280" y="5300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98764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987640" y="4797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987640" y="4365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059280" y="436572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132000" y="580536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3059280" y="5300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556000" y="5300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564000" y="5661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364000" y="4221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724360" y="4221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84720" y="4221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419640" y="4653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>
            <a:hlinkClick r:id="" action="ppaction://hlinkshowjump?jump=previousslide"/>
          </p:cNvPr>
          <p:cNvSpPr/>
          <p:nvPr/>
        </p:nvSpPr>
        <p:spPr>
          <a:xfrm>
            <a:off x="7164360" y="6237360"/>
            <a:ext cx="936720" cy="360360"/>
          </a:xfrm>
          <a:custGeom>
            <a:avLst/>
            <a:gdLst>
              <a:gd name="textAreaLeft" fmla="*/ 23040 w 936720"/>
              <a:gd name="textAreaRight" fmla="*/ 913680 w 936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6113" h="21600">
                <a:moveTo>
                  <a:pt x="0" y="0"/>
                </a:moveTo>
                <a:lnTo>
                  <a:pt x="56113" y="0"/>
                </a:lnTo>
                <a:lnTo>
                  <a:pt x="56113" y="21600"/>
                </a:lnTo>
                <a:lnTo>
                  <a:pt x="0" y="21600"/>
                </a:lnTo>
                <a:close/>
              </a:path>
              <a:path fill="lightenLess" w="56113" h="21600">
                <a:moveTo>
                  <a:pt x="0" y="0"/>
                </a:moveTo>
                <a:lnTo>
                  <a:pt x="56113" y="0"/>
                </a:lnTo>
                <a:lnTo>
                  <a:pt x="54713" y="1400"/>
                </a:lnTo>
                <a:lnTo>
                  <a:pt x="1400" y="1400"/>
                </a:lnTo>
                <a:close/>
              </a:path>
              <a:path fill="darken" w="56113" h="21600">
                <a:moveTo>
                  <a:pt x="56113" y="0"/>
                </a:moveTo>
                <a:lnTo>
                  <a:pt x="56113" y="21600"/>
                </a:lnTo>
                <a:lnTo>
                  <a:pt x="54713" y="20200"/>
                </a:lnTo>
                <a:lnTo>
                  <a:pt x="54713" y="1400"/>
                </a:lnTo>
                <a:close/>
              </a:path>
              <a:path fill="darkenLess" w="56113" h="21600">
                <a:moveTo>
                  <a:pt x="561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13" y="20200"/>
                </a:lnTo>
                <a:close/>
              </a:path>
              <a:path fill="lighten" w="561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13" h="21600">
                <a:moveTo>
                  <a:pt x="21050" y="7493"/>
                </a:moveTo>
                <a:lnTo>
                  <a:pt x="24557" y="7493"/>
                </a:lnTo>
                <a:lnTo>
                  <a:pt x="24557" y="12828"/>
                </a:lnTo>
                <a:cubicBezTo>
                  <a:pt x="24557" y="13751"/>
                  <a:pt x="25358" y="14482"/>
                  <a:pt x="26394" y="14482"/>
                </a:cubicBezTo>
                <a:lnTo>
                  <a:pt x="28056" y="14482"/>
                </a:lnTo>
                <a:cubicBezTo>
                  <a:pt x="29092" y="14482"/>
                  <a:pt x="29893" y="13751"/>
                  <a:pt x="29893" y="12828"/>
                </a:cubicBezTo>
                <a:lnTo>
                  <a:pt x="29893" y="7493"/>
                </a:lnTo>
                <a:lnTo>
                  <a:pt x="28056" y="7493"/>
                </a:lnTo>
                <a:lnTo>
                  <a:pt x="31564" y="3985"/>
                </a:lnTo>
                <a:lnTo>
                  <a:pt x="35237" y="7493"/>
                </a:lnTo>
                <a:lnTo>
                  <a:pt x="33400" y="7493"/>
                </a:lnTo>
                <a:lnTo>
                  <a:pt x="33400" y="12828"/>
                </a:lnTo>
                <a:cubicBezTo>
                  <a:pt x="33400" y="15596"/>
                  <a:pt x="30824" y="18155"/>
                  <a:pt x="28056" y="18155"/>
                </a:cubicBezTo>
                <a:lnTo>
                  <a:pt x="26394" y="18155"/>
                </a:lnTo>
                <a:cubicBezTo>
                  <a:pt x="23626" y="18155"/>
                  <a:pt x="21050" y="15596"/>
                  <a:pt x="21050" y="12828"/>
                </a:cubicBez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24360" y="5013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9" dur="indefinite" restart="never" nodeType="tmRoot">
          <p:childTnLst>
            <p:seq>
              <p:cTn id="1120" dur="indefinite" nodeType="mainSeq">
                <p:childTnLst>
                  <p:par>
                    <p:cTn id="1121" fill="hold">
                      <p:stCondLst>
                        <p:cond delay="0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2326 0.87517 C -0.32101 0.87402 -0.31684 0.8754 -0.31649 0.87217 C -0.3158 0.86685 -0.3191 0.862 -0.32101 0.85714 C -0.33056 0.83356 -0.33837 0.81808 -0.34323 0.79242 C -0.34132 0.7589 -0.34653 0.6669 -0.3099 0.65025 C -0.30399 0.65118 -0.29792 0.65118 -0.29201 0.65326 C -0.28194 0.65626 -0.28108 0.66066 -0.27205 0.66505 C -0.25747 0.67198 -0.24271 0.68077 -0.2276 0.68585 C -0.21615 0.70111 -0.20833 0.71891 -0.19878 0.73624 C -0.19358 0.74503 -0.18646 0.75381 -0.1809 0.76237 C -0.17517 0.77184 -0.17309 0.78271 -0.16771 0.79242 C -0.16302 0.81045 -0.16094 0.81461 -0.16771 0.84235 C -0.16875 0.84628 -0.17361 0.84466 -0.17656 0.84558 C -0.19045 0.84258 -0.20052 0.83796 -0.21215 0.82778 C -0.22917 0.78964 -0.22031 0.7485 -0.2099 0.70666 C -0.20521 0.68793 -0.2066 0.6847 -0.19878 0.66805 C -0.19045 0.65072 -0.17691 0.64286 -0.16771 0.62667 C -0.13594 0.5705 -0.19358 0.65233 -0.13646 0.57628 C -0.12413 0.55987 -0.10122 0.55686 -0.08542 0.5497 C -0.05052 0.55039 -0.01562 0.55016 0.0191 0.5527 C 0.03351 0.55386 0.04705 0.56657 0.06128 0.5705 C 0.07986 0.58691 0.09549 0.6024 0.10573 0.62968 C 0.10972 0.64031 0.11007 0.65372 0.11233 0.66505 C 0.1099 0.70781 0.11736 0.70342 0.09236 0.71243 C 0.07604 0.71151 0.05972 0.71174 0.0434 0.70943 C 0.02969 0.70689 0.01753 0.69256 0.00347 0.68886 C -0.02622 0.66851 -0.03247 0.64078 -0.03872 0.60009 C -0.03733 0.56773 -0.03767 0.53652 -0.03437 0.50508 C -0.03125 0.47388 -0.01545 0.44729 -0.00312 0.42256 C 0.01858 0.3791 0.03316 0.3472 0.07465 0.3368 C 0.08941 0.33726 0.10434 0.33726 0.1191 0.33957 C 0.13715 0.34235 0.15104 0.36754 0.16354 0.38396 C 0.17326 0.41031 0.17934 0.43412 0.18785 0.46093 C 0.19358 0.49907 0.19271 0.51918 0.1901 0.56426 C 0.18993 0.56773 0.18976 0.5712 0.18785 0.57351 C 0.18472 0.57628 0.18038 0.57466 0.17674 0.57628 C 0.16875 0.57466 0.13507 0.57466 0.12118 0.56426 C 0.08021 0.53421 0.05677 0.49584 0.05017 0.43435 C 0.05156 0.41262 0.05104 0.39043 0.05451 0.36893 C 0.05712 0.35367 0.06337 0.33957 0.06788 0.32478 C 0.07257 0.30952 0.07378 0.29265 0.07899 0.27762 C 0.08438 0.2619 0.09167 0.25612 0.09896 0.24179 C 0.12153 0.1988 0.09514 0.24225 0.11684 0.20365 C 0.13403 0.17314 0.15538 0.15349 0.17899 0.13245 C 0.19253 0.1202 0.20295 0.10818 0.2191 0.10286 C 0.25799 0.12922 0.27969 0.16898 0.29688 0.22122 C 0.29896 0.23648 0.30278 0.25035 0.30573 0.2656 C 0.30417 0.28433 0.30347 0.30328 0.30122 0.32177 C 0.30052 0.32686 0.29965 0.3331 0.29688 0.3368 C 0.2941 0.3405 0.28958 0.34073 0.28576 0.34258 C 0.28142 0.3442 0.2724 0.34859 0.2724 0.34882 C 0.18941 0.3442 0.10625 0.34397 0.02344 0.3368 C 0.01545 0.33611 0.00868 0.32848 0.00122 0.32478 C -0.02604 0.31183 -0.03212 0.30952 -0.05434 0.30074 C -0.06389 0.29103 -0.07448 0.27993 -0.08316 0.26861 C -0.09062 0.25867 -0.09427 0.23925 -0.09878 0.22723 C -0.10122 0.2025 -0.10312 0.17938 -0.09427 0.15603 C -0.08785 0.11373 -0.09687 0.16643 -0.08767 0.12968 C -0.08611 0.12344 -0.08524 0.10957 -0.08316 0.10286 C -0.08212 0.09963 -0.08003 0.09732 -0.07882 0.09408 C -0.07326 0.07906 -0.06997 0.06218 -0.06545 0.04669 C -0.06285 0.02681 -0.06059 0.01086 -0.04757 -0.00069 C -0.01753 0.00832 -0.03437 0.00532 0.00347 0.00532 E">
                                      <p:cBhvr>
                                        <p:cTn id="1124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1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4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8" dur="5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5" dur="5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2" dur="500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500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0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3" dur="500"/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500" fill="hold"/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0" dur="500"/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7" dur="500"/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6600"/>
                </a:solidFill>
                <a:latin typeface="Bauhaus 93"/>
              </a:rPr>
              <a:t>Н-да! Круто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Arial"/>
              </a:rPr>
              <a:t>Есть большое подозрение, что ты просто не умеешь считать в пределах деся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Arial"/>
              </a:rPr>
              <a:t>Если ты все же забыл правила нахождения координат суммы векторов, то напомина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 d{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+d {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39640" y="486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979640" y="472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924360" y="4797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427640" y="4797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>
            <a:hlinkClick r:id="" action="ppaction://hlinkshowjump?jump=previousslide"/>
          </p:cNvPr>
          <p:cNvSpPr/>
          <p:nvPr/>
        </p:nvSpPr>
        <p:spPr>
          <a:xfrm>
            <a:off x="6012000" y="5950080"/>
            <a:ext cx="1224000" cy="574560"/>
          </a:xfrm>
          <a:custGeom>
            <a:avLst/>
            <a:gdLst>
              <a:gd name="textAreaLeft" fmla="*/ 37080 w 1224000"/>
              <a:gd name="textAreaRight" fmla="*/ 1186920 w 122400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46000" h="21600">
                <a:moveTo>
                  <a:pt x="0" y="0"/>
                </a:moveTo>
                <a:lnTo>
                  <a:pt x="46000" y="0"/>
                </a:lnTo>
                <a:lnTo>
                  <a:pt x="46000" y="21600"/>
                </a:lnTo>
                <a:lnTo>
                  <a:pt x="0" y="21600"/>
                </a:lnTo>
                <a:close/>
              </a:path>
              <a:path fill="lightenLess" w="46000" h="21600">
                <a:moveTo>
                  <a:pt x="0" y="0"/>
                </a:moveTo>
                <a:lnTo>
                  <a:pt x="46000" y="0"/>
                </a:lnTo>
                <a:lnTo>
                  <a:pt x="44600" y="1400"/>
                </a:lnTo>
                <a:lnTo>
                  <a:pt x="1400" y="1400"/>
                </a:lnTo>
                <a:close/>
              </a:path>
              <a:path fill="darken" w="46000" h="21600">
                <a:moveTo>
                  <a:pt x="46000" y="0"/>
                </a:moveTo>
                <a:lnTo>
                  <a:pt x="46000" y="21600"/>
                </a:lnTo>
                <a:lnTo>
                  <a:pt x="44600" y="20200"/>
                </a:lnTo>
                <a:lnTo>
                  <a:pt x="44600" y="1400"/>
                </a:lnTo>
                <a:close/>
              </a:path>
              <a:path fill="darkenLess" w="46000" h="21600">
                <a:moveTo>
                  <a:pt x="46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00" y="20200"/>
                </a:lnTo>
                <a:close/>
              </a:path>
              <a:path fill="lighten" w="46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000" h="21600">
                <a:moveTo>
                  <a:pt x="15993" y="7493"/>
                </a:moveTo>
                <a:lnTo>
                  <a:pt x="19501" y="7493"/>
                </a:lnTo>
                <a:lnTo>
                  <a:pt x="19501" y="12828"/>
                </a:lnTo>
                <a:cubicBezTo>
                  <a:pt x="19501" y="13751"/>
                  <a:pt x="20302" y="14482"/>
                  <a:pt x="21337" y="14482"/>
                </a:cubicBezTo>
                <a:lnTo>
                  <a:pt x="23000" y="14482"/>
                </a:lnTo>
                <a:cubicBezTo>
                  <a:pt x="24036" y="14482"/>
                  <a:pt x="24836" y="13751"/>
                  <a:pt x="24836" y="12828"/>
                </a:cubicBezTo>
                <a:lnTo>
                  <a:pt x="24836" y="7493"/>
                </a:lnTo>
                <a:lnTo>
                  <a:pt x="23000" y="7493"/>
                </a:lnTo>
                <a:lnTo>
                  <a:pt x="26507" y="3985"/>
                </a:lnTo>
                <a:lnTo>
                  <a:pt x="30180" y="7493"/>
                </a:lnTo>
                <a:lnTo>
                  <a:pt x="28344" y="7493"/>
                </a:lnTo>
                <a:lnTo>
                  <a:pt x="28344" y="12828"/>
                </a:lnTo>
                <a:cubicBezTo>
                  <a:pt x="28344" y="15596"/>
                  <a:pt x="25768" y="18155"/>
                  <a:pt x="23000" y="18155"/>
                </a:cubicBezTo>
                <a:lnTo>
                  <a:pt x="21337" y="18155"/>
                </a:lnTo>
                <a:cubicBezTo>
                  <a:pt x="18570" y="18155"/>
                  <a:pt x="15993" y="15596"/>
                  <a:pt x="15993" y="12828"/>
                </a:cubicBez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8" dur="indefinite" restart="never" nodeType="tmRoot">
          <p:childTnLst>
            <p:seq>
              <p:cTn id="1189" dur="indefinite" nodeType="mainSeq">
                <p:childTnLst>
                  <p:par>
                    <p:cTn id="1190" fill="hold">
                      <p:stCondLst>
                        <p:cond delay="0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452 0.75451 C 0.06458 0.63107 0.43368 0.50786 0.45104 0.44383 C 0.4684 0.3798 -0.19254 0.42511 -0.2 0.36986 C -0.20747 0.31461 0.37326 0.17083 0.40659 0.11258 C 0.43993 0.05433 0.0677 0.03953 3.88889E-006 0.02081 C -0.06771 0.00208 -0.05 -4.81276E-006 3.88889E-006 -4.81276E-006 E">
                                      <p:cBhvr>
                                        <p:cTn id="1193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4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6" dur="1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7" dur="4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4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1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3" dur="1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4" dur="4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4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0" dur="1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1" dur="4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4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6600"/>
                </a:solidFill>
                <a:latin typeface="Bauhaus 93"/>
              </a:rPr>
              <a:t>Это становится закономерностью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Arial"/>
              </a:rPr>
              <a:t>Наверное, ты всё-таки  не силён в устном счё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Arial"/>
              </a:rPr>
              <a:t>Если ты все же забыл правила нахождения координат разности двух векторов, то напомина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 d{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 {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39640" y="486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979640" y="472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924360" y="4797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427640" y="4797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>
            <a:hlinkClick r:id="" action="ppaction://hlinkshowjump?jump=previousslide"/>
          </p:cNvPr>
          <p:cNvSpPr/>
          <p:nvPr/>
        </p:nvSpPr>
        <p:spPr>
          <a:xfrm>
            <a:off x="6012000" y="5950080"/>
            <a:ext cx="1224000" cy="574560"/>
          </a:xfrm>
          <a:custGeom>
            <a:avLst/>
            <a:gdLst>
              <a:gd name="textAreaLeft" fmla="*/ 37080 w 1224000"/>
              <a:gd name="textAreaRight" fmla="*/ 1186920 w 122400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46000" h="21600">
                <a:moveTo>
                  <a:pt x="0" y="0"/>
                </a:moveTo>
                <a:lnTo>
                  <a:pt x="46000" y="0"/>
                </a:lnTo>
                <a:lnTo>
                  <a:pt x="46000" y="21600"/>
                </a:lnTo>
                <a:lnTo>
                  <a:pt x="0" y="21600"/>
                </a:lnTo>
                <a:close/>
              </a:path>
              <a:path fill="lightenLess" w="46000" h="21600">
                <a:moveTo>
                  <a:pt x="0" y="0"/>
                </a:moveTo>
                <a:lnTo>
                  <a:pt x="46000" y="0"/>
                </a:lnTo>
                <a:lnTo>
                  <a:pt x="44600" y="1400"/>
                </a:lnTo>
                <a:lnTo>
                  <a:pt x="1400" y="1400"/>
                </a:lnTo>
                <a:close/>
              </a:path>
              <a:path fill="darken" w="46000" h="21600">
                <a:moveTo>
                  <a:pt x="46000" y="0"/>
                </a:moveTo>
                <a:lnTo>
                  <a:pt x="46000" y="21600"/>
                </a:lnTo>
                <a:lnTo>
                  <a:pt x="44600" y="20200"/>
                </a:lnTo>
                <a:lnTo>
                  <a:pt x="44600" y="1400"/>
                </a:lnTo>
                <a:close/>
              </a:path>
              <a:path fill="darkenLess" w="46000" h="21600">
                <a:moveTo>
                  <a:pt x="46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00" y="20200"/>
                </a:lnTo>
                <a:close/>
              </a:path>
              <a:path fill="lighten" w="46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000" h="21600">
                <a:moveTo>
                  <a:pt x="15993" y="7493"/>
                </a:moveTo>
                <a:lnTo>
                  <a:pt x="19501" y="7493"/>
                </a:lnTo>
                <a:lnTo>
                  <a:pt x="19501" y="12828"/>
                </a:lnTo>
                <a:cubicBezTo>
                  <a:pt x="19501" y="13751"/>
                  <a:pt x="20302" y="14482"/>
                  <a:pt x="21337" y="14482"/>
                </a:cubicBezTo>
                <a:lnTo>
                  <a:pt x="23000" y="14482"/>
                </a:lnTo>
                <a:cubicBezTo>
                  <a:pt x="24036" y="14482"/>
                  <a:pt x="24836" y="13751"/>
                  <a:pt x="24836" y="12828"/>
                </a:cubicBezTo>
                <a:lnTo>
                  <a:pt x="24836" y="7493"/>
                </a:lnTo>
                <a:lnTo>
                  <a:pt x="23000" y="7493"/>
                </a:lnTo>
                <a:lnTo>
                  <a:pt x="26507" y="3985"/>
                </a:lnTo>
                <a:lnTo>
                  <a:pt x="30180" y="7493"/>
                </a:lnTo>
                <a:lnTo>
                  <a:pt x="28344" y="7493"/>
                </a:lnTo>
                <a:lnTo>
                  <a:pt x="28344" y="12828"/>
                </a:lnTo>
                <a:cubicBezTo>
                  <a:pt x="28344" y="15596"/>
                  <a:pt x="25768" y="18155"/>
                  <a:pt x="23000" y="18155"/>
                </a:cubicBezTo>
                <a:lnTo>
                  <a:pt x="21337" y="18155"/>
                </a:lnTo>
                <a:cubicBezTo>
                  <a:pt x="18570" y="18155"/>
                  <a:pt x="15993" y="15596"/>
                  <a:pt x="15993" y="12828"/>
                </a:cubicBez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5" dur="indefinite" restart="never" nodeType="tmRoot">
          <p:childTnLst>
            <p:seq>
              <p:cTn id="1216" dur="indefinite" nodeType="mainSeq">
                <p:childTnLst>
                  <p:par>
                    <p:cTn id="1217" fill="hold">
                      <p:stCondLst>
                        <p:cond delay="0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 0.77531 C -0.19462 0.68238 -0.0309 0.71544 0.07569 0.71312 C 0.10538 0.71012 0.13594 0.71474 0.16458 0.70434 C 0.20434 0.68978 0.24132 0.67221 0.28003 0.65395 C 0.31198 0.63892 0.34097 0.62598 0.36233 0.58899 C 0.36371 0.58298 0.36528 0.5772 0.36667 0.57119 C 0.36736 0.56819 0.36892 0.56218 0.36892 0.56218 C 0.36649 0.5379 0.36788 0.51687 0.35781 0.49722 C 0.35139 0.47156 0.32986 0.44798 0.31111 0.43804 C 0.29618 0.43018 0.27951 0.42857 0.26458 0.42024 C 0.24826 0.411 0.23142 0.40291 0.21337 0.40244 C 0.11927 0.40059 0.02535 0.40036 -0.06875 0.39944 C -0.09844 0.39412 -0.12326 0.37748 -0.15104 0.36407 C -0.16181 0.35875 -0.16892 0.34997 -0.17986 0.34627 C -0.18854 0.33495 -0.19705 0.32662 -0.20434 0.31368 C -0.22083 0.24942 -0.19896 0.22052 -0.15556 0.20711 C -0.14288 0.20318 -0.13073 0.19556 -0.11771 0.19532 C 0.02153 0.19348 0.16076 0.19139 0.3 0.18955 C 0.33368 0.17729 0.37066 0.1662 0.40226 0.14516 C 0.41771 0.13476 0.4283 0.12205 0.44236 0.10956 C 0.44375 0.10355 0.44531 0.09777 0.4467 0.09176 C 0.45052 0.07628 0.44271 0.06495 0.43785 0.05339 C 0.43628 0.04946 0.43559 0.04461 0.43333 0.0416 C 0.43108 0.0386 0.42708 0.03814 0.42448 0.03559 C 0.42118 0.03236 0.41944 0.02635 0.41562 0.0238 C 0.40156 0.01456 0.38767 0.01271 0.37344 0.006 C 0.36806 0.00346 0.36319 -0.00047 0.35781 -0.00278 C 0.35208 -0.00532 0.34601 -0.00648 0.3401 -0.00879 C 0.29271 -0.02728 0.34583 -0.00902 0.30226 -0.02358 C 0.25937 -0.02266 0.21632 -0.02243 0.17344 -0.02058 C 0.15833 -0.01989 0.15295 -0.01503 0.1401 -0.0118 C 0.11528 -0.00579 0.08976 -0.00532 0.06458 -0.00278 C 0.03594 0.00439 0.05729 -5.46001E-006 5.55556E-007 -5.46001E-006 E">
                                      <p:cBhvr>
                                        <p:cTn id="1220" dur="2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10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4000"/>
                            </p:stCondLst>
                            <p:childTnLst>
                              <p:par>
                                <p:cTn id="124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1000" fill="hold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У тебя проблемы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Напомина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чтобы найти координаты  к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 а, г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а   х;у                      к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990033"/>
                </a:solidFill>
                <a:latin typeface="Arial"/>
                <a:ea typeface="Arial"/>
              </a:rPr>
              <a:t>а   кх;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796000" y="2349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900000" y="3284640"/>
            <a:ext cx="71640" cy="720720"/>
          </a:xfrm>
          <a:custGeom>
            <a:avLst/>
            <a:gdLst>
              <a:gd name="textAreaLeft" fmla="*/ 45720 w 71640"/>
              <a:gd name="textAreaRight" fmla="*/ 72000 w 7164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940360" y="3284640"/>
            <a:ext cx="71640" cy="720720"/>
          </a:xfrm>
          <a:custGeom>
            <a:avLst/>
            <a:gdLst>
              <a:gd name="textAreaLeft" fmla="*/ 0 w 71640"/>
              <a:gd name="textAreaRight" fmla="*/ 25920 w 7164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39640" y="342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788000" y="3284640"/>
            <a:ext cx="71280" cy="720720"/>
          </a:xfrm>
          <a:custGeom>
            <a:avLst/>
            <a:gdLst>
              <a:gd name="textAreaLeft" fmla="*/ 45720 w 71280"/>
              <a:gd name="textAreaRight" fmla="*/ 71640 w 7128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427640" y="3429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692360" y="3284640"/>
            <a:ext cx="71280" cy="720720"/>
          </a:xfrm>
          <a:custGeom>
            <a:avLst/>
            <a:gdLst>
              <a:gd name="textAreaLeft" fmla="*/ 0 w 71280"/>
              <a:gd name="textAreaRight" fmla="*/ 25560 w 7128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>
            <a:hlinkClick r:id="" action="ppaction://hlinkshowjump?jump=previousslide"/>
          </p:cNvPr>
          <p:cNvSpPr/>
          <p:nvPr/>
        </p:nvSpPr>
        <p:spPr>
          <a:xfrm>
            <a:off x="5364000" y="5805360"/>
            <a:ext cx="1079640" cy="576360"/>
          </a:xfrm>
          <a:custGeom>
            <a:avLst/>
            <a:gdLst>
              <a:gd name="textAreaLeft" fmla="*/ 37080 w 1079640"/>
              <a:gd name="textAreaRight" fmla="*/ 1042560 w 1079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0449" h="21600">
                <a:moveTo>
                  <a:pt x="0" y="0"/>
                </a:moveTo>
                <a:lnTo>
                  <a:pt x="40449" y="0"/>
                </a:lnTo>
                <a:lnTo>
                  <a:pt x="40449" y="21600"/>
                </a:lnTo>
                <a:lnTo>
                  <a:pt x="0" y="21600"/>
                </a:lnTo>
                <a:close/>
              </a:path>
              <a:path fill="lightenLess" w="40449" h="21600">
                <a:moveTo>
                  <a:pt x="0" y="0"/>
                </a:moveTo>
                <a:lnTo>
                  <a:pt x="40449" y="0"/>
                </a:lnTo>
                <a:lnTo>
                  <a:pt x="39049" y="1400"/>
                </a:lnTo>
                <a:lnTo>
                  <a:pt x="1400" y="1400"/>
                </a:lnTo>
                <a:close/>
              </a:path>
              <a:path fill="darken" w="40449" h="21600">
                <a:moveTo>
                  <a:pt x="40449" y="0"/>
                </a:moveTo>
                <a:lnTo>
                  <a:pt x="40449" y="21600"/>
                </a:lnTo>
                <a:lnTo>
                  <a:pt x="39049" y="20200"/>
                </a:lnTo>
                <a:lnTo>
                  <a:pt x="39049" y="1400"/>
                </a:lnTo>
                <a:close/>
              </a:path>
              <a:path fill="darkenLess" w="40449" h="21600">
                <a:moveTo>
                  <a:pt x="404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49" y="20200"/>
                </a:lnTo>
                <a:close/>
              </a:path>
              <a:path fill="lighten" w="404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49" h="21600">
                <a:moveTo>
                  <a:pt x="13218" y="7493"/>
                </a:moveTo>
                <a:lnTo>
                  <a:pt x="16726" y="7493"/>
                </a:lnTo>
                <a:lnTo>
                  <a:pt x="16726" y="12828"/>
                </a:lnTo>
                <a:cubicBezTo>
                  <a:pt x="16726" y="13751"/>
                  <a:pt x="17527" y="14482"/>
                  <a:pt x="18562" y="14482"/>
                </a:cubicBezTo>
                <a:lnTo>
                  <a:pt x="20225" y="14482"/>
                </a:lnTo>
                <a:cubicBezTo>
                  <a:pt x="21260" y="14482"/>
                  <a:pt x="22061" y="13751"/>
                  <a:pt x="22061" y="12828"/>
                </a:cubicBezTo>
                <a:lnTo>
                  <a:pt x="22061" y="7493"/>
                </a:lnTo>
                <a:lnTo>
                  <a:pt x="20225" y="7493"/>
                </a:lnTo>
                <a:lnTo>
                  <a:pt x="23732" y="3985"/>
                </a:lnTo>
                <a:lnTo>
                  <a:pt x="27405" y="7493"/>
                </a:lnTo>
                <a:lnTo>
                  <a:pt x="25569" y="7493"/>
                </a:lnTo>
                <a:lnTo>
                  <a:pt x="25569" y="12828"/>
                </a:lnTo>
                <a:cubicBezTo>
                  <a:pt x="25569" y="15596"/>
                  <a:pt x="22992" y="18155"/>
                  <a:pt x="20225" y="18155"/>
                </a:cubicBezTo>
                <a:lnTo>
                  <a:pt x="18562" y="18155"/>
                </a:lnTo>
                <a:cubicBezTo>
                  <a:pt x="15795" y="18155"/>
                  <a:pt x="13218" y="15596"/>
                  <a:pt x="13218" y="12828"/>
                </a:cubicBez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4" dur="indefinite" restart="never" nodeType="tmRoot">
          <p:childTnLst>
            <p:seq>
              <p:cTn id="1255" dur="indefinite" nodeType="mainSeq">
                <p:childTnLst>
                  <p:par>
                    <p:cTn id="1256" fill="hold">
                      <p:stCondLst>
                        <p:cond delay="0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066 0.70412 C -0.54653 0.65188 -0.48646 0.59963 -0.37986 0.60056 C -0.27326 0.60148 -0.00399 0.74966 0.03333 0.71013 C 0.07066 0.6706 -0.18958 0.46256 -0.15555 0.36385 C -0.12153 0.26514 0.26632 0.17892 0.23785 0.11836 C 0.20938 0.05779 -0.27101 0.01965 -0.32656 -4.98382E-006 C -0.38212 -0.01965 -0.14983 -4.98382E-006 -0.09549 -4.98382E-006 C -0.04115 -4.98382E-006 -0.01337 -4.98382E-006 -5.55556E-007 -4.98382E-006 E">
                                      <p:cBhvr>
                                        <p:cTn id="1259" dur="20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8" dur="5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4" dur="500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 fill="hold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800000"/>
                </a:solidFill>
                <a:latin typeface="Arial"/>
              </a:rPr>
              <a:t>Могу напомнить только</a:t>
            </a:r>
            <a:br>
              <a:rPr sz="5400"/>
            </a:br>
            <a:r>
              <a:rPr b="0" lang="ru-RU" sz="5400" spc="-1" strike="noStrike">
                <a:solidFill>
                  <a:srgbClr val="800000"/>
                </a:solidFill>
                <a:latin typeface="Arial"/>
              </a:rPr>
              <a:t>одно: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800000"/>
                </a:solidFill>
                <a:latin typeface="Arial"/>
              </a:rPr>
              <a:t>i{1;0}</a:t>
            </a:r>
            <a:br>
              <a:rPr sz="5400"/>
            </a:br>
            <a:br>
              <a:rPr sz="5400"/>
            </a:br>
            <a:r>
              <a:rPr b="0" lang="ru-RU" sz="5400" spc="-1" strike="noStrike">
                <a:solidFill>
                  <a:srgbClr val="800000"/>
                </a:solidFill>
                <a:latin typeface="Arial"/>
              </a:rPr>
              <a:t>Дерзай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708360" y="2781360"/>
            <a:ext cx="289080" cy="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>
            <a:hlinkClick r:id="" action="ppaction://hlinkshowjump?jump=previousslide"/>
          </p:cNvPr>
          <p:cNvSpPr/>
          <p:nvPr/>
        </p:nvSpPr>
        <p:spPr>
          <a:xfrm>
            <a:off x="6804000" y="5589720"/>
            <a:ext cx="1297080" cy="647640"/>
          </a:xfrm>
          <a:custGeom>
            <a:avLst/>
            <a:gdLst>
              <a:gd name="textAreaLeft" fmla="*/ 41760 w 1297080"/>
              <a:gd name="textAreaRight" fmla="*/ 1255320 w 12970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43248" h="21600">
                <a:moveTo>
                  <a:pt x="0" y="0"/>
                </a:moveTo>
                <a:lnTo>
                  <a:pt x="43248" y="0"/>
                </a:lnTo>
                <a:lnTo>
                  <a:pt x="43248" y="21600"/>
                </a:lnTo>
                <a:lnTo>
                  <a:pt x="0" y="21600"/>
                </a:lnTo>
                <a:close/>
              </a:path>
              <a:path fill="lightenLess" w="43248" h="21600">
                <a:moveTo>
                  <a:pt x="0" y="0"/>
                </a:moveTo>
                <a:lnTo>
                  <a:pt x="43248" y="0"/>
                </a:lnTo>
                <a:lnTo>
                  <a:pt x="41848" y="1400"/>
                </a:lnTo>
                <a:lnTo>
                  <a:pt x="1400" y="1400"/>
                </a:lnTo>
                <a:close/>
              </a:path>
              <a:path fill="darken" w="43248" h="21600">
                <a:moveTo>
                  <a:pt x="43248" y="0"/>
                </a:moveTo>
                <a:lnTo>
                  <a:pt x="43248" y="21600"/>
                </a:lnTo>
                <a:lnTo>
                  <a:pt x="41848" y="20200"/>
                </a:lnTo>
                <a:lnTo>
                  <a:pt x="41848" y="1400"/>
                </a:lnTo>
                <a:close/>
              </a:path>
              <a:path fill="darkenLess" w="43248" h="21600">
                <a:moveTo>
                  <a:pt x="43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48" y="20200"/>
                </a:lnTo>
                <a:close/>
              </a:path>
              <a:path fill="lighten" w="43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48" h="21600">
                <a:moveTo>
                  <a:pt x="14618" y="7493"/>
                </a:moveTo>
                <a:lnTo>
                  <a:pt x="18125" y="7493"/>
                </a:lnTo>
                <a:lnTo>
                  <a:pt x="18125" y="12828"/>
                </a:lnTo>
                <a:cubicBezTo>
                  <a:pt x="18125" y="13751"/>
                  <a:pt x="18926" y="14482"/>
                  <a:pt x="19962" y="14482"/>
                </a:cubicBezTo>
                <a:lnTo>
                  <a:pt x="21624" y="14482"/>
                </a:lnTo>
                <a:cubicBezTo>
                  <a:pt x="22660" y="14482"/>
                  <a:pt x="23460" y="13751"/>
                  <a:pt x="23460" y="12828"/>
                </a:cubicBezTo>
                <a:lnTo>
                  <a:pt x="23460" y="7493"/>
                </a:lnTo>
                <a:lnTo>
                  <a:pt x="21624" y="7493"/>
                </a:lnTo>
                <a:lnTo>
                  <a:pt x="25132" y="3985"/>
                </a:lnTo>
                <a:lnTo>
                  <a:pt x="28805" y="7493"/>
                </a:lnTo>
                <a:lnTo>
                  <a:pt x="26968" y="7493"/>
                </a:lnTo>
                <a:lnTo>
                  <a:pt x="26968" y="12828"/>
                </a:lnTo>
                <a:cubicBezTo>
                  <a:pt x="26968" y="15596"/>
                  <a:pt x="24392" y="18155"/>
                  <a:pt x="21624" y="18155"/>
                </a:cubicBezTo>
                <a:lnTo>
                  <a:pt x="19962" y="18155"/>
                </a:lnTo>
                <a:cubicBezTo>
                  <a:pt x="17194" y="18155"/>
                  <a:pt x="14618" y="15596"/>
                  <a:pt x="14618" y="12828"/>
                </a:cubicBez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8" dur="indefinite" restart="never" nodeType="tmRoot">
          <p:childTnLst>
            <p:seq>
              <p:cTn id="1279" dur="indefinite" nodeType="mainSeq">
                <p:childTnLst>
                  <p:par>
                    <p:cTn id="1280" fill="hold">
                      <p:stCondLst>
                        <p:cond delay="0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Arial"/>
              </a:rPr>
              <a:t>Если координаты одного вектора пропорциональны координатам другого вектора, то векторы коллинеарны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2124000" y="692280"/>
            <a:ext cx="52866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5e2f"/>
                    </a:gs>
                    <a:gs pos="100000">
                      <a:srgbClr val="ffcc66"/>
                    </a:gs>
                  </a:gsLst>
                  <a:path path="rect">
                    <a:fillToRect l="50000" t="50000" r="50000" b="50000"/>
                  </a:path>
                </a:gradFill>
                <a:latin typeface="Arial"/>
              </a:rPr>
              <a:t>Вспомни призна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5e2f"/>
                  </a:gs>
                  <a:gs pos="100000">
                    <a:srgbClr val="ffcc66"/>
                  </a:gs>
                </a:gsLst>
                <a:path path="rect">
                  <a:fillToRect l="50000" t="50000" r="50000" b="50000"/>
                </a:path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5e2f"/>
                    </a:gs>
                    <a:gs pos="100000">
                      <a:srgbClr val="ffcc66"/>
                    </a:gs>
                  </a:gsLst>
                  <a:path path="rect">
                    <a:fillToRect l="50000" t="50000" r="50000" b="50000"/>
                  </a:path>
                </a:gradFill>
                <a:latin typeface="Arial"/>
              </a:rPr>
              <a:t>коллинеарных векторов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5e2f"/>
                  </a:gs>
                  <a:gs pos="100000">
                    <a:srgbClr val="ffcc66"/>
                  </a:gs>
                </a:gsLst>
                <a:path path="rect">
                  <a:fillToRect l="50000" t="50000" r="50000" b="50000"/>
                </a:path>
              </a:gradFill>
              <a:latin typeface="Arial"/>
              <a:ea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6659640" y="465300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325" name="">
            <a:hlinkClick r:id="" action="ppaction://hlinkshowjump?jump=previousslide"/>
          </p:cNvPr>
          <p:cNvSpPr/>
          <p:nvPr/>
        </p:nvSpPr>
        <p:spPr>
          <a:xfrm>
            <a:off x="4284720" y="5734080"/>
            <a:ext cx="1295280" cy="574560"/>
          </a:xfrm>
          <a:custGeom>
            <a:avLst/>
            <a:gdLst>
              <a:gd name="textAreaLeft" fmla="*/ 37080 w 1295280"/>
              <a:gd name="textAreaRight" fmla="*/ 1258200 w 129528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48678" h="21600">
                <a:moveTo>
                  <a:pt x="0" y="0"/>
                </a:moveTo>
                <a:lnTo>
                  <a:pt x="48678" y="0"/>
                </a:lnTo>
                <a:lnTo>
                  <a:pt x="48678" y="21600"/>
                </a:lnTo>
                <a:lnTo>
                  <a:pt x="0" y="21600"/>
                </a:lnTo>
                <a:close/>
              </a:path>
              <a:path fill="lightenLess" w="48678" h="21600">
                <a:moveTo>
                  <a:pt x="0" y="0"/>
                </a:moveTo>
                <a:lnTo>
                  <a:pt x="48678" y="0"/>
                </a:lnTo>
                <a:lnTo>
                  <a:pt x="47278" y="1400"/>
                </a:lnTo>
                <a:lnTo>
                  <a:pt x="1400" y="1400"/>
                </a:lnTo>
                <a:close/>
              </a:path>
              <a:path fill="darken" w="48678" h="21600">
                <a:moveTo>
                  <a:pt x="48678" y="0"/>
                </a:moveTo>
                <a:lnTo>
                  <a:pt x="48678" y="21600"/>
                </a:lnTo>
                <a:lnTo>
                  <a:pt x="47278" y="20200"/>
                </a:lnTo>
                <a:lnTo>
                  <a:pt x="47278" y="1400"/>
                </a:lnTo>
                <a:close/>
              </a:path>
              <a:path fill="darkenLess" w="48678" h="21600">
                <a:moveTo>
                  <a:pt x="486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78" y="20200"/>
                </a:lnTo>
                <a:close/>
              </a:path>
              <a:path fill="lighten" w="486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78" h="21600">
                <a:moveTo>
                  <a:pt x="17332" y="7493"/>
                </a:moveTo>
                <a:lnTo>
                  <a:pt x="20840" y="7493"/>
                </a:lnTo>
                <a:lnTo>
                  <a:pt x="20840" y="12828"/>
                </a:lnTo>
                <a:cubicBezTo>
                  <a:pt x="20840" y="13751"/>
                  <a:pt x="21641" y="14482"/>
                  <a:pt x="22676" y="14482"/>
                </a:cubicBezTo>
                <a:lnTo>
                  <a:pt x="24339" y="14482"/>
                </a:lnTo>
                <a:cubicBezTo>
                  <a:pt x="25375" y="14482"/>
                  <a:pt x="26175" y="13751"/>
                  <a:pt x="26175" y="12828"/>
                </a:cubicBezTo>
                <a:lnTo>
                  <a:pt x="26175" y="7493"/>
                </a:lnTo>
                <a:lnTo>
                  <a:pt x="24339" y="7493"/>
                </a:lnTo>
                <a:lnTo>
                  <a:pt x="27846" y="3985"/>
                </a:lnTo>
                <a:lnTo>
                  <a:pt x="31519" y="7493"/>
                </a:lnTo>
                <a:lnTo>
                  <a:pt x="29683" y="7493"/>
                </a:lnTo>
                <a:lnTo>
                  <a:pt x="29683" y="12828"/>
                </a:lnTo>
                <a:cubicBezTo>
                  <a:pt x="29683" y="15596"/>
                  <a:pt x="27107" y="18155"/>
                  <a:pt x="24339" y="18155"/>
                </a:cubicBezTo>
                <a:lnTo>
                  <a:pt x="22676" y="18155"/>
                </a:lnTo>
                <a:cubicBezTo>
                  <a:pt x="19909" y="18155"/>
                  <a:pt x="17332" y="15596"/>
                  <a:pt x="17332" y="12828"/>
                </a:cubicBez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2" dur="indefinite" restart="never" nodeType="tmRoot">
          <p:childTnLst>
            <p:seq>
              <p:cTn id="1293" dur="indefinite" nodeType="mainSeq">
                <p:childTnLst>
                  <p:par>
                    <p:cTn id="1294" fill="hold">
                      <p:stCondLst>
                        <p:cond delay="0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8" dur="1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9" dur="4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4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6" dur="2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7" dur="2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2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2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3" dur="77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4" dur="770" fill="hold"/>
                                        <p:tgtEl>
                                          <p:spTgt spid="3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16" dur="77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18" dur="77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Нажмите зде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116000" y="549360"/>
            <a:ext cx="7272360" cy="367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9933"/>
                  </a:solidFill>
                  <a:miter/>
                </a:ln>
                <a:solidFill>
                  <a:srgbClr val="80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Ты не прав!</a:t>
            </a:r>
            <a:endParaRPr b="0" lang="en-US" sz="1800" spc="1" strike="noStrike">
              <a:ln w="12600">
                <a:solidFill>
                  <a:srgbClr val="ff9933"/>
                </a:solidFill>
                <a:miter/>
              </a:ln>
              <a:solidFill>
                <a:srgbClr val="80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9933"/>
                  </a:solidFill>
                  <a:miter/>
                </a:ln>
                <a:solidFill>
                  <a:srgbClr val="80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Больше, чем помогла, уже не помогу.</a:t>
            </a:r>
            <a:endParaRPr b="0" lang="en-US" sz="1800" spc="1" strike="noStrike">
              <a:ln w="12600">
                <a:solidFill>
                  <a:srgbClr val="ff9933"/>
                </a:solidFill>
                <a:miter/>
              </a:ln>
              <a:solidFill>
                <a:srgbClr val="80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9933"/>
                  </a:solidFill>
                  <a:miter/>
                </a:ln>
                <a:solidFill>
                  <a:srgbClr val="80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Даю ещё одну попытку.</a:t>
            </a:r>
            <a:endParaRPr b="0" lang="en-US" sz="1800" spc="1" strike="noStrike">
              <a:ln w="12600">
                <a:solidFill>
                  <a:srgbClr val="ff9933"/>
                </a:solidFill>
                <a:miter/>
              </a:ln>
              <a:solidFill>
                <a:srgbClr val="80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28" name="">
            <a:hlinkClick r:id="" action="ppaction://hlinkshowjump?jump=previousslide"/>
          </p:cNvPr>
          <p:cNvSpPr/>
          <p:nvPr/>
        </p:nvSpPr>
        <p:spPr>
          <a:xfrm>
            <a:off x="5940360" y="5877000"/>
            <a:ext cx="936720" cy="504720"/>
          </a:xfrm>
          <a:custGeom>
            <a:avLst/>
            <a:gdLst>
              <a:gd name="textAreaLeft" fmla="*/ 32400 w 936720"/>
              <a:gd name="textAreaRight" fmla="*/ 904320 w 936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0075" h="21600">
                <a:moveTo>
                  <a:pt x="0" y="0"/>
                </a:moveTo>
                <a:lnTo>
                  <a:pt x="40075" y="0"/>
                </a:lnTo>
                <a:lnTo>
                  <a:pt x="40075" y="21600"/>
                </a:lnTo>
                <a:lnTo>
                  <a:pt x="0" y="21600"/>
                </a:lnTo>
                <a:close/>
              </a:path>
              <a:path fill="lightenLess" w="40075" h="21600">
                <a:moveTo>
                  <a:pt x="0" y="0"/>
                </a:moveTo>
                <a:lnTo>
                  <a:pt x="40075" y="0"/>
                </a:lnTo>
                <a:lnTo>
                  <a:pt x="38675" y="1400"/>
                </a:lnTo>
                <a:lnTo>
                  <a:pt x="1400" y="1400"/>
                </a:lnTo>
                <a:close/>
              </a:path>
              <a:path fill="darken" w="40075" h="21600">
                <a:moveTo>
                  <a:pt x="40075" y="0"/>
                </a:moveTo>
                <a:lnTo>
                  <a:pt x="40075" y="21600"/>
                </a:lnTo>
                <a:lnTo>
                  <a:pt x="38675" y="20200"/>
                </a:lnTo>
                <a:lnTo>
                  <a:pt x="38675" y="1400"/>
                </a:lnTo>
                <a:close/>
              </a:path>
              <a:path fill="darkenLess" w="40075" h="21600">
                <a:moveTo>
                  <a:pt x="40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75" y="20200"/>
                </a:lnTo>
                <a:close/>
              </a:path>
              <a:path fill="lighten" w="40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075" h="21600">
                <a:moveTo>
                  <a:pt x="13031" y="7493"/>
                </a:moveTo>
                <a:lnTo>
                  <a:pt x="16538" y="7493"/>
                </a:lnTo>
                <a:lnTo>
                  <a:pt x="16538" y="12828"/>
                </a:lnTo>
                <a:cubicBezTo>
                  <a:pt x="16538" y="13751"/>
                  <a:pt x="17339" y="14482"/>
                  <a:pt x="18375" y="14482"/>
                </a:cubicBezTo>
                <a:lnTo>
                  <a:pt x="20037" y="14482"/>
                </a:lnTo>
                <a:cubicBezTo>
                  <a:pt x="21073" y="14482"/>
                  <a:pt x="21874" y="13751"/>
                  <a:pt x="21874" y="12828"/>
                </a:cubicBezTo>
                <a:lnTo>
                  <a:pt x="21874" y="7493"/>
                </a:lnTo>
                <a:lnTo>
                  <a:pt x="20037" y="7493"/>
                </a:lnTo>
                <a:lnTo>
                  <a:pt x="23545" y="3985"/>
                </a:lnTo>
                <a:lnTo>
                  <a:pt x="27218" y="7493"/>
                </a:lnTo>
                <a:lnTo>
                  <a:pt x="25381" y="7493"/>
                </a:lnTo>
                <a:lnTo>
                  <a:pt x="25381" y="12828"/>
                </a:lnTo>
                <a:cubicBezTo>
                  <a:pt x="25381" y="15596"/>
                  <a:pt x="22805" y="18155"/>
                  <a:pt x="20037" y="18155"/>
                </a:cubicBezTo>
                <a:lnTo>
                  <a:pt x="18375" y="18155"/>
                </a:lnTo>
                <a:cubicBezTo>
                  <a:pt x="15607" y="18155"/>
                  <a:pt x="13031" y="15596"/>
                  <a:pt x="13031" y="12828"/>
                </a:cubicBez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Навожу на мысль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Если А(х</a:t>
            </a:r>
            <a:r>
              <a:rPr b="0" lang="ru-RU" sz="3200" spc="-1" strike="noStrike" baseline="-25000">
                <a:solidFill>
                  <a:srgbClr val="cc33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;у</a:t>
            </a:r>
            <a:r>
              <a:rPr b="0" lang="ru-RU" sz="3200" spc="-1" strike="noStrike" baseline="-25000">
                <a:solidFill>
                  <a:srgbClr val="cc33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)  и  В(х</a:t>
            </a:r>
            <a:r>
              <a:rPr b="0" lang="ru-RU" sz="3200" spc="-1" strike="noStrike" baseline="-25000">
                <a:solidFill>
                  <a:srgbClr val="cc33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;у</a:t>
            </a:r>
            <a:r>
              <a:rPr b="0" lang="ru-RU" sz="3200" spc="-1" strike="noStrike" baseline="-25000">
                <a:solidFill>
                  <a:srgbClr val="cc33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то    АВ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{</a:t>
            </a: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х</a:t>
            </a:r>
            <a:r>
              <a:rPr b="0" lang="ru-RU" sz="3200" spc="-1" strike="noStrike" baseline="-25000">
                <a:solidFill>
                  <a:srgbClr val="cc3300"/>
                </a:solidFill>
                <a:latin typeface="Arial"/>
              </a:rPr>
              <a:t>2</a:t>
            </a:r>
            <a:r>
              <a:rPr b="0" lang="en-US" sz="3200" spc="-1" strike="noStrike" baseline="-25000">
                <a:solidFill>
                  <a:srgbClr val="cc33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х</a:t>
            </a:r>
            <a:r>
              <a:rPr b="0" lang="ru-RU" sz="3200" spc="-1" strike="noStrike" baseline="-25000">
                <a:solidFill>
                  <a:srgbClr val="cc33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; </a:t>
            </a: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у</a:t>
            </a:r>
            <a:r>
              <a:rPr b="0" lang="ru-RU" sz="3200" spc="-1" strike="noStrike" baseline="-25000">
                <a:solidFill>
                  <a:srgbClr val="cc3300"/>
                </a:solidFill>
                <a:latin typeface="Arial"/>
              </a:rPr>
              <a:t>2</a:t>
            </a:r>
            <a:r>
              <a:rPr b="0" lang="en-US" sz="3200" spc="-1" strike="noStrike" baseline="-25000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у</a:t>
            </a:r>
            <a:r>
              <a:rPr b="0" lang="ru-RU" sz="3200" spc="-1" strike="noStrike" baseline="-25000">
                <a:solidFill>
                  <a:srgbClr val="cc33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492360" y="3860640"/>
            <a:ext cx="574920" cy="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>
            <a:hlinkClick r:id="" action="ppaction://hlinkshowjump?jump=previousslide"/>
          </p:cNvPr>
          <p:cNvSpPr/>
          <p:nvPr/>
        </p:nvSpPr>
        <p:spPr>
          <a:xfrm>
            <a:off x="5867280" y="5877000"/>
            <a:ext cx="1368720" cy="576360"/>
          </a:xfrm>
          <a:custGeom>
            <a:avLst/>
            <a:gdLst>
              <a:gd name="textAreaLeft" fmla="*/ 37080 w 1368720"/>
              <a:gd name="textAreaRight" fmla="*/ 1331640 w 1368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51276" h="21600">
                <a:moveTo>
                  <a:pt x="0" y="0"/>
                </a:moveTo>
                <a:lnTo>
                  <a:pt x="51276" y="0"/>
                </a:lnTo>
                <a:lnTo>
                  <a:pt x="51276" y="21600"/>
                </a:lnTo>
                <a:lnTo>
                  <a:pt x="0" y="21600"/>
                </a:lnTo>
                <a:close/>
              </a:path>
              <a:path fill="lightenLess" w="51276" h="21600">
                <a:moveTo>
                  <a:pt x="0" y="0"/>
                </a:moveTo>
                <a:lnTo>
                  <a:pt x="51276" y="0"/>
                </a:lnTo>
                <a:lnTo>
                  <a:pt x="49876" y="1400"/>
                </a:lnTo>
                <a:lnTo>
                  <a:pt x="1400" y="1400"/>
                </a:lnTo>
                <a:close/>
              </a:path>
              <a:path fill="darken" w="51276" h="21600">
                <a:moveTo>
                  <a:pt x="51276" y="0"/>
                </a:moveTo>
                <a:lnTo>
                  <a:pt x="51276" y="21600"/>
                </a:lnTo>
                <a:lnTo>
                  <a:pt x="49876" y="20200"/>
                </a:lnTo>
                <a:lnTo>
                  <a:pt x="49876" y="1400"/>
                </a:lnTo>
                <a:close/>
              </a:path>
              <a:path fill="darkenLess" w="51276" h="21600">
                <a:moveTo>
                  <a:pt x="512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876" y="20200"/>
                </a:lnTo>
                <a:close/>
              </a:path>
              <a:path fill="lighten" w="512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276" h="21600">
                <a:moveTo>
                  <a:pt x="18632" y="7493"/>
                </a:moveTo>
                <a:lnTo>
                  <a:pt x="22139" y="7493"/>
                </a:lnTo>
                <a:lnTo>
                  <a:pt x="22139" y="12828"/>
                </a:lnTo>
                <a:cubicBezTo>
                  <a:pt x="22139" y="13751"/>
                  <a:pt x="22940" y="14482"/>
                  <a:pt x="23976" y="14482"/>
                </a:cubicBezTo>
                <a:lnTo>
                  <a:pt x="25638" y="14482"/>
                </a:lnTo>
                <a:cubicBezTo>
                  <a:pt x="26674" y="14482"/>
                  <a:pt x="27475" y="13751"/>
                  <a:pt x="27475" y="12828"/>
                </a:cubicBezTo>
                <a:lnTo>
                  <a:pt x="27475" y="7493"/>
                </a:lnTo>
                <a:lnTo>
                  <a:pt x="25638" y="7493"/>
                </a:lnTo>
                <a:lnTo>
                  <a:pt x="29146" y="3985"/>
                </a:lnTo>
                <a:lnTo>
                  <a:pt x="32819" y="7493"/>
                </a:lnTo>
                <a:lnTo>
                  <a:pt x="30982" y="7493"/>
                </a:lnTo>
                <a:lnTo>
                  <a:pt x="30982" y="12828"/>
                </a:lnTo>
                <a:cubicBezTo>
                  <a:pt x="30982" y="15596"/>
                  <a:pt x="28406" y="18155"/>
                  <a:pt x="25638" y="18155"/>
                </a:cubicBezTo>
                <a:lnTo>
                  <a:pt x="23976" y="18155"/>
                </a:lnTo>
                <a:cubicBezTo>
                  <a:pt x="21208" y="18155"/>
                  <a:pt x="18632" y="15596"/>
                  <a:pt x="18632" y="12828"/>
                </a:cubicBez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0" dur="indefinite" restart="never" nodeType="tmRoot">
          <p:childTnLst>
            <p:seq>
              <p:cTn id="1321" dur="indefinite" nodeType="mainSeq">
                <p:childTnLst>
                  <p:par>
                    <p:cTn id="1322" fill="hold">
                      <p:stCondLst>
                        <p:cond delay="0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9566 0.6625 C 0.20903 0.65973 0.12205 0.66343 0.03576 0.65395 C 0.02587 0.6528 -0.03785 0.62205 -0.05764 0.61257 C -0.06788 0.60772 -0.07847 0.60495 -0.08872 0.60055 C -0.09913 0.59593 -0.10955 0.59084 -0.11979 0.58576 C -0.14271 0.5742 -0.16372 0.55663 -0.18646 0.54415 C -0.20226 0.53583 -0.22014 0.53421 -0.23542 0.52381 C -0.25018 0.51387 -0.26111 0.49954 -0.27535 0.48821 C -0.28663 0.47919 -0.30087 0.4674 -0.30868 0.45261 C -0.3257 0.42025 -0.33316 0.38095 -0.34653 0.34628 C -0.35174 0.30536 -0.35677 0.25243 -0.33542 0.21891 C -0.33299 0.21521 -0.32917 0.21359 -0.32656 0.21012 C -0.31719 0.19764 -0.31406 0.19001 -0.30209 0.18053 C -0.29097 0.16112 -0.27743 0.15834 -0.2599 0.15395 C -0.20972 0.12066 -0.15018 0.15765 -0.10643 0.19232 C -0.10243 0.19949 -0.09618 0.20504 -0.09323 0.21313 C -0.0915 0.21775 -0.09202 0.22307 -0.09097 0.22792 C -0.08768 0.24249 -0.0842 0.25427 -0.08212 0.2693 C -0.08351 0.30767 -0.08316 0.34651 -0.08646 0.38465 C -0.08681 0.3895 -0.09132 0.39228 -0.09323 0.39644 C -0.09983 0.41054 -0.10486 0.43134 -0.10868 0.44683 C -0.11198 0.46047 -0.11459 0.47434 -0.11754 0.48821 C -0.11979 0.49907 -0.12795 0.50601 -0.13316 0.51479 C -0.14514 0.53513 -0.15799 0.55039 -0.17535 0.56195 C -0.18663 0.5816 -0.1967 0.58576 -0.2132 0.59477 C -0.23611 0.60749 -0.21667 0.60125 -0.23976 0.60656 C -0.27604 0.60448 -0.31268 0.60541 -0.34879 0.60055 C -0.3599 0.59894 -0.375 0.58599 -0.3842 0.57697 C -0.39184 0.56935 -0.40643 0.5534 -0.40643 0.5534 C -0.41216 0.53467 -0.4099 0.53953 -0.41979 0.5208 C -0.42413 0.51271 -0.43316 0.49699 -0.43316 0.49699 C -0.43594 0.48197 -0.43976 0.46764 -0.44202 0.45261 C -0.44132 0.41516 -0.44167 0.37771 -0.43976 0.34027 C -0.43906 0.32848 -0.42969 0.31299 -0.42656 0.30189 C -0.41979 0.27785 -0.41719 0.26005 -0.40643 0.23971 C -0.40365 0.23463 -0.40018 0.23023 -0.39757 0.22492 C -0.39497 0.21937 -0.39375 0.21243 -0.39097 0.20712 C -0.38854 0.20249 -0.38455 0.19995 -0.38212 0.19533 C -0.37917 0.18978 -0.37795 0.18308 -0.37535 0.17753 C -0.37275 0.17221 -0.36893 0.16805 -0.3665 0.16274 C -0.3599 0.14794 -0.35764 0.13546 -0.34653 0.12436 C -0.33281 0.11072 -0.31823 0.09894 -0.30434 0.08576 C -0.29913 0.0809 -0.29497 0.07258 -0.28872 0.07096 C -0.26285 0.06426 -0.23594 0.05317 -0.21094 0.04138 C -0.18507 0.02912 -0.16077 0.0141 -0.13316 0.00878 C -0.08455 -0.01225 -0.0783 1.01711E-007 2.5E-006 1.01711E-007 E">
                                      <p:cBhvr>
                                        <p:cTn id="1325" dur="20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8" dur="1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9" dur="4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4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5" dur="100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6" dur="4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4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332000" y="907920"/>
            <a:ext cx="6408720" cy="489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cc6600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Желаю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cc6600"/>
                  </a:gs>
                  <a:gs pos="100000">
                    <a:srgbClr val="ff993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cc6600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дачи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cc6600"/>
                  </a:gs>
                  <a:gs pos="100000">
                    <a:srgbClr val="ff993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">
            <a:hlinkClick r:id="" action="ppaction://hlinkshowjump?jump=nextslide"/>
          </p:cNvPr>
          <p:cNvSpPr/>
          <p:nvPr/>
        </p:nvSpPr>
        <p:spPr>
          <a:xfrm>
            <a:off x="7020000" y="6093000"/>
            <a:ext cx="1081080" cy="431640"/>
          </a:xfrm>
          <a:custGeom>
            <a:avLst/>
            <a:gdLst>
              <a:gd name="textAreaLeft" fmla="*/ 27720 w 1081080"/>
              <a:gd name="textAreaRight" fmla="*/ 1053360 w 1081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4072" h="21600">
                <a:moveTo>
                  <a:pt x="0" y="0"/>
                </a:moveTo>
                <a:lnTo>
                  <a:pt x="54072" y="0"/>
                </a:lnTo>
                <a:lnTo>
                  <a:pt x="54072" y="21600"/>
                </a:lnTo>
                <a:lnTo>
                  <a:pt x="0" y="21600"/>
                </a:lnTo>
                <a:close/>
              </a:path>
              <a:path fill="lightenLess" w="54072" h="21600">
                <a:moveTo>
                  <a:pt x="0" y="0"/>
                </a:moveTo>
                <a:lnTo>
                  <a:pt x="54072" y="0"/>
                </a:lnTo>
                <a:lnTo>
                  <a:pt x="52672" y="1400"/>
                </a:lnTo>
                <a:lnTo>
                  <a:pt x="1400" y="1400"/>
                </a:lnTo>
                <a:close/>
              </a:path>
              <a:path fill="darken" w="54072" h="21600">
                <a:moveTo>
                  <a:pt x="54072" y="0"/>
                </a:moveTo>
                <a:lnTo>
                  <a:pt x="54072" y="21600"/>
                </a:lnTo>
                <a:lnTo>
                  <a:pt x="52672" y="20200"/>
                </a:lnTo>
                <a:lnTo>
                  <a:pt x="52672" y="1400"/>
                </a:lnTo>
                <a:close/>
              </a:path>
              <a:path fill="darkenLess" w="54072" h="21600">
                <a:moveTo>
                  <a:pt x="54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72" y="20200"/>
                </a:lnTo>
                <a:close/>
              </a:path>
              <a:path fill="lighten" w="54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72" h="21600">
                <a:moveTo>
                  <a:pt x="20030" y="3794"/>
                </a:moveTo>
                <a:lnTo>
                  <a:pt x="34042" y="10800"/>
                </a:lnTo>
                <a:lnTo>
                  <a:pt x="20030" y="17806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9360">
            <a:solidFill>
              <a:srgbClr val="9900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Каждая координата середины отрезка равна полусумме соответствующих координат его конц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547640" y="260280"/>
            <a:ext cx="662472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Нус, повторимс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35" name="">
            <a:hlinkClick r:id="" action="ppaction://hlinkshowjump?jump=previousslide"/>
          </p:cNvPr>
          <p:cNvSpPr/>
          <p:nvPr/>
        </p:nvSpPr>
        <p:spPr>
          <a:xfrm>
            <a:off x="6804000" y="5734080"/>
            <a:ext cx="1152720" cy="719280"/>
          </a:xfrm>
          <a:custGeom>
            <a:avLst/>
            <a:gdLst>
              <a:gd name="textAreaLeft" fmla="*/ 46440 w 1152720"/>
              <a:gd name="textAreaRight" fmla="*/ 1106280 w 11527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4610" h="21600">
                <a:moveTo>
                  <a:pt x="0" y="0"/>
                </a:moveTo>
                <a:lnTo>
                  <a:pt x="34610" y="0"/>
                </a:lnTo>
                <a:lnTo>
                  <a:pt x="34610" y="21600"/>
                </a:lnTo>
                <a:lnTo>
                  <a:pt x="0" y="21600"/>
                </a:lnTo>
                <a:close/>
              </a:path>
              <a:path fill="lightenLess" w="34610" h="21600">
                <a:moveTo>
                  <a:pt x="0" y="0"/>
                </a:moveTo>
                <a:lnTo>
                  <a:pt x="34610" y="0"/>
                </a:lnTo>
                <a:lnTo>
                  <a:pt x="33210" y="1400"/>
                </a:lnTo>
                <a:lnTo>
                  <a:pt x="1400" y="1400"/>
                </a:lnTo>
                <a:close/>
              </a:path>
              <a:path fill="darken" w="34610" h="21600">
                <a:moveTo>
                  <a:pt x="34610" y="0"/>
                </a:moveTo>
                <a:lnTo>
                  <a:pt x="34610" y="21600"/>
                </a:lnTo>
                <a:lnTo>
                  <a:pt x="33210" y="20200"/>
                </a:lnTo>
                <a:lnTo>
                  <a:pt x="33210" y="1400"/>
                </a:lnTo>
                <a:close/>
              </a:path>
              <a:path fill="darkenLess" w="34610" h="21600">
                <a:moveTo>
                  <a:pt x="34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210" y="20200"/>
                </a:lnTo>
                <a:close/>
              </a:path>
              <a:path fill="lighten" w="34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610" h="21600">
                <a:moveTo>
                  <a:pt x="10298" y="7493"/>
                </a:moveTo>
                <a:lnTo>
                  <a:pt x="13806" y="7493"/>
                </a:lnTo>
                <a:lnTo>
                  <a:pt x="13806" y="12828"/>
                </a:lnTo>
                <a:cubicBezTo>
                  <a:pt x="13806" y="13751"/>
                  <a:pt x="14607" y="14482"/>
                  <a:pt x="15642" y="14482"/>
                </a:cubicBezTo>
                <a:lnTo>
                  <a:pt x="17305" y="14482"/>
                </a:lnTo>
                <a:cubicBezTo>
                  <a:pt x="18341" y="14482"/>
                  <a:pt x="19141" y="13751"/>
                  <a:pt x="19141" y="12828"/>
                </a:cubicBezTo>
                <a:lnTo>
                  <a:pt x="19141" y="7493"/>
                </a:lnTo>
                <a:lnTo>
                  <a:pt x="17305" y="7493"/>
                </a:lnTo>
                <a:lnTo>
                  <a:pt x="20812" y="3985"/>
                </a:lnTo>
                <a:lnTo>
                  <a:pt x="24485" y="7493"/>
                </a:lnTo>
                <a:lnTo>
                  <a:pt x="22649" y="7493"/>
                </a:lnTo>
                <a:lnTo>
                  <a:pt x="22649" y="12828"/>
                </a:lnTo>
                <a:cubicBezTo>
                  <a:pt x="22649" y="15596"/>
                  <a:pt x="20073" y="18155"/>
                  <a:pt x="17305" y="18155"/>
                </a:cubicBezTo>
                <a:lnTo>
                  <a:pt x="15642" y="18155"/>
                </a:lnTo>
                <a:cubicBezTo>
                  <a:pt x="12875" y="18155"/>
                  <a:pt x="10298" y="15596"/>
                  <a:pt x="10298" y="12828"/>
                </a:cubicBez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0" dur="indefinite" restart="never" nodeType="tmRoot">
          <p:childTnLst>
            <p:seq>
              <p:cTn id="1341" dur="indefinite" nodeType="mainSeq">
                <p:childTnLst>
                  <p:par>
                    <p:cTn id="1342" fill="hold">
                      <p:stCondLst>
                        <p:cond delay="0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25 0.31045 C -0.00225 0.31114 0.00018 0.33842 0.00226 0.34304 C 0.01459 0.37101 0.03073 0.39297 0.0533 0.40523 C 0.06042 0.41447 0.0658 0.42233 0.07553 0.4288 C 0.07848 0.43088 0.08178 0.43204 0.08455 0.43481 C 0.09827 0.44845 0.08768 0.44522 0.10226 0.45215 C 0.11025 0.45631 0.11858 0.45793 0.12674 0.4614 C 0.14115 0.48058 0.12935 0.46741 0.14896 0.48197 C 0.15678 0.48775 0.16042 0.49584 0.16893 0.49977 C 0.17553 0.5067 0.18091 0.51711 0.18889 0.52057 C 0.19914 0.5252 0.20782 0.53352 0.21789 0.53837 C 0.23976 0.54901 0.26251 0.55502 0.28455 0.56496 C 0.30382 0.56403 0.32396 0.56981 0.34219 0.56195 C 0.34792 0.55941 0.34514 0.54623 0.34671 0.53837 C 0.34757 0.53398 0.34966 0.53028 0.35122 0.52635 C 0.34705 0.48197 0.34428 0.44915 0.32448 0.41401 C 0.32067 0.39898 0.31459 0.39575 0.30452 0.38743 C 0.29862 0.38257 0.2948 0.37425 0.28889 0.36963 C 0.28438 0.36593 0.27257 0.36269 0.26667 0.36084 C 0.25695 0.35414 0.24862 0.35183 0.23785 0.34882 C 0.21494 0.34975 0.19185 0.34998 0.16893 0.35183 C 0.15573 0.35275 0.14115 0.3687 0.129 0.37263 C 0.11251 0.37795 0.0981 0.38627 0.0823 0.3932 C 0.07639 0.39575 0.06442 0.39921 0.06442 0.39921 C 0.04341 0.41308 0.02275 0.42187 8.33333E-006 0.4288 C -0.01805 0.44105 -0.03593 0.44614 -0.05555 0.45215 C -0.07569 0.46602 -0.09774 0.47319 -0.11996 0.4792 C -0.1302 0.48821 -0.13715 0.49885 -0.14878 0.50277 C -0.15104 0.50462 -0.15312 0.50717 -0.15555 0.50878 C -0.16128 0.51295 -0.17326 0.52057 -0.17326 0.52057 C -0.22569 0.51826 -0.23472 0.53837 -0.25555 0.49676 C -0.25781 0.48474 -0.26215 0.47619 -0.2644 0.46417 C -0.25624 0.42695 -0.26371 0.45885 -0.25555 0.4288 C -0.25312 0.42002 -0.25295 0.40962 -0.24878 0.40222 C -0.22361 0.35737 -0.26163 0.42279 -0.23333 0.38142 C -0.19895 0.33102 -0.23298 0.37194 -0.21336 0.35183 C -0.18784 0.32571 -0.20052 0.33241 -0.18437 0.32524 C -0.17361 0.31091 -0.11857 0.28733 -0.10225 0.28687 C -0.01631 0.28502 0.06962 0.28479 0.15556 0.28387 C 0.18959 0.28179 0.22379 0.28109 0.25782 0.27786 C 0.27674 0.27601 0.29306 0.26283 0.31112 0.25728 C 0.31893 0.25035 0.32744 0.24642 0.33334 0.23625 C 0.33733 0.22977 0.34063 0.22261 0.34445 0.21567 C 0.34671 0.21174 0.35122 0.20388 0.35122 0.20388 C 0.35469 0.18955 0.35782 0.17707 0.36007 0.16251 C 0.35938 0.15465 0.35886 0.14679 0.35782 0.13893 C 0.35747 0.13592 0.3573 0.13199 0.35556 0.12991 C 0.33872 0.1098 0.31598 0.11003 0.29775 0.09455 C 0.27778 0.09547 0.25782 0.0957 0.23785 0.09732 C 0.22987 0.09801 0.22136 0.10657 0.21337 0.10934 C 0.19254 0.13084 0.17205 0.14586 0.14896 0.16251 C 0.13785 0.17037 0.13126 0.18192 0.11997 0.18909 C 0.11771 0.1921 0.1158 0.19533 0.11337 0.19811 C 0.11129 0.20042 0.10869 0.20134 0.10678 0.20388 C 0.09671 0.21729 0.10851 0.21036 0.09567 0.21567 C 0.0724 0.23879 0.03872 0.24018 0.01112 0.24226 C -0.09218 0.2411 -0.22638 0.2841 -0.30885 0.17129 C -0.31284 0.15557 -0.30989 0.16505 -0.31996 0.14471 C -0.32586 0.13292 -0.32586 0.11419 -0.33107 0.10032 C -0.33732 0.05941 -0.33576 0.05987 -0.33107 -0.00023 C -0.32916 -0.02335 -0.31406 -0.04299 -0.29999 -0.0534 C -0.26874 -0.07651 -0.23541 -0.09015 -0.19999 -0.09501 C -0.15555 -0.09293 -0.11111 -0.09177 -0.06666 -0.089 C -0.05624 -0.0883 -0.03281 -0.05895 -0.01996 -0.05062 C -0.0177 -0.04762 -0.01579 -0.04438 -0.01336 -0.04161 C -0.01058 -0.03837 -0.00607 -0.03722 -0.00433 -0.03282 C -0.0019 -0.02658 -0.00312 -0.01895 -0.00225 -0.01202 C -0.00173 -0.00809 8.33333E-006 -0.00023 8.33333E-006 -0.00023 E">
                                      <p:cBhvr>
                                        <p:cTn id="1345" dur="2000" fill="hold"/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9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2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6" dur="10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10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8" dur="10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9" dur="10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Длина вектора а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{x;y}</a:t>
            </a: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 вычисляется по формуле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900000" y="907920"/>
            <a:ext cx="740088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66"/>
                  </a:solidFill>
                  <a:miter/>
                </a:ln>
                <a:solidFill>
                  <a:srgbClr val="cc33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Надеюсь, это твоя последняя ошибка?</a:t>
            </a:r>
            <a:endParaRPr b="0" lang="en-US" sz="1800" spc="1" strike="noStrike">
              <a:ln w="9360">
                <a:solidFill>
                  <a:srgbClr val="ffcc66"/>
                </a:solidFill>
                <a:miter/>
              </a:ln>
              <a:solidFill>
                <a:srgbClr val="cc33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4500720" y="4076640"/>
                <a:ext cx="338436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а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40" name=""/>
          <p:cNvSpPr/>
          <p:nvPr/>
        </p:nvSpPr>
        <p:spPr>
          <a:xfrm>
            <a:off x="4716360" y="436572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132000" y="2708280"/>
            <a:ext cx="217800" cy="0"/>
          </a:xfrm>
          <a:prstGeom prst="line">
            <a:avLst/>
          </a:prstGeom>
          <a:ln w="93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>
            <a:hlinkClick r:id="" action="ppaction://hlinkshowjump?jump=previousslide"/>
          </p:cNvPr>
          <p:cNvSpPr/>
          <p:nvPr/>
        </p:nvSpPr>
        <p:spPr>
          <a:xfrm>
            <a:off x="6227640" y="5950080"/>
            <a:ext cx="936720" cy="574560"/>
          </a:xfrm>
          <a:custGeom>
            <a:avLst/>
            <a:gdLst>
              <a:gd name="textAreaLeft" fmla="*/ 37080 w 936720"/>
              <a:gd name="textAreaRight" fmla="*/ 899640 w 93672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35207" h="21600">
                <a:moveTo>
                  <a:pt x="0" y="0"/>
                </a:moveTo>
                <a:lnTo>
                  <a:pt x="35207" y="0"/>
                </a:lnTo>
                <a:lnTo>
                  <a:pt x="35207" y="21600"/>
                </a:lnTo>
                <a:lnTo>
                  <a:pt x="0" y="21600"/>
                </a:lnTo>
                <a:close/>
              </a:path>
              <a:path fill="lightenLess" w="35207" h="21600">
                <a:moveTo>
                  <a:pt x="0" y="0"/>
                </a:moveTo>
                <a:lnTo>
                  <a:pt x="35207" y="0"/>
                </a:lnTo>
                <a:lnTo>
                  <a:pt x="33807" y="1400"/>
                </a:lnTo>
                <a:lnTo>
                  <a:pt x="1400" y="1400"/>
                </a:lnTo>
                <a:close/>
              </a:path>
              <a:path fill="darken" w="35207" h="21600">
                <a:moveTo>
                  <a:pt x="35207" y="0"/>
                </a:moveTo>
                <a:lnTo>
                  <a:pt x="35207" y="21600"/>
                </a:lnTo>
                <a:lnTo>
                  <a:pt x="33807" y="20200"/>
                </a:lnTo>
                <a:lnTo>
                  <a:pt x="33807" y="1400"/>
                </a:lnTo>
                <a:close/>
              </a:path>
              <a:path fill="darkenLess" w="35207" h="21600">
                <a:moveTo>
                  <a:pt x="352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807" y="20200"/>
                </a:lnTo>
                <a:close/>
              </a:path>
              <a:path fill="lighten" w="352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207" h="21600">
                <a:moveTo>
                  <a:pt x="10597" y="7493"/>
                </a:moveTo>
                <a:lnTo>
                  <a:pt x="14104" y="7493"/>
                </a:lnTo>
                <a:lnTo>
                  <a:pt x="14104" y="12828"/>
                </a:lnTo>
                <a:cubicBezTo>
                  <a:pt x="14104" y="13751"/>
                  <a:pt x="14905" y="14482"/>
                  <a:pt x="15941" y="14482"/>
                </a:cubicBezTo>
                <a:lnTo>
                  <a:pt x="17603" y="14482"/>
                </a:lnTo>
                <a:cubicBezTo>
                  <a:pt x="18639" y="14482"/>
                  <a:pt x="19440" y="13751"/>
                  <a:pt x="19440" y="12828"/>
                </a:cubicBezTo>
                <a:lnTo>
                  <a:pt x="19440" y="7493"/>
                </a:lnTo>
                <a:lnTo>
                  <a:pt x="17603" y="7493"/>
                </a:lnTo>
                <a:lnTo>
                  <a:pt x="21111" y="3985"/>
                </a:lnTo>
                <a:lnTo>
                  <a:pt x="24784" y="7493"/>
                </a:lnTo>
                <a:lnTo>
                  <a:pt x="22947" y="7493"/>
                </a:lnTo>
                <a:lnTo>
                  <a:pt x="22947" y="12828"/>
                </a:lnTo>
                <a:cubicBezTo>
                  <a:pt x="22947" y="15596"/>
                  <a:pt x="20371" y="18155"/>
                  <a:pt x="17603" y="18155"/>
                </a:cubicBezTo>
                <a:lnTo>
                  <a:pt x="15941" y="18155"/>
                </a:lnTo>
                <a:cubicBezTo>
                  <a:pt x="13173" y="18155"/>
                  <a:pt x="10597" y="15596"/>
                  <a:pt x="10597" y="12828"/>
                </a:cubicBez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60" dur="indefinite" restart="never" nodeType="tmRoot">
          <p:childTnLst>
            <p:seq>
              <p:cTn id="1361" dur="indefinite" nodeType="mainSeq">
                <p:childTnLst>
                  <p:par>
                    <p:cTn id="1362" fill="hold">
                      <p:stCondLst>
                        <p:cond delay="0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774 0.21012 C 0.08263 0.19648 0.08958 0.20064 0.07777 0.19533 C 0.07482 0.19232 0.07065 0.1907 0.06892 0.18631 C 0.06666 0.18007 0.06666 0.17267 0.06666 0.16574 C 0.06666 0.13869 0.08628 0.13222 0.09999 0.12136 C 0.11579 0.12367 0.1276 0.12529 0.14219 0.13315 C 0.14896 0.14193 0.15261 0.14794 0.15556 0.15973 C 0.15486 0.17267 0.15573 0.18585 0.1533 0.1981 C 0.1507 0.21151 0.13663 0.23208 0.12673 0.23671 C 0.09774 0.23509 0.07222 0.23486 0.04444 0.22792 C 0.04323 0.2233 0.0401 0.21151 0.0401 0.20712 C 0.0401 0.19856 0.04723 0.184 0.04895 0.17452 C 0.04965 0.16366 0.04982 0.15256 0.05121 0.14193 C 0.05208 0.13592 0.05555 0.12436 0.05555 0.12436 C 0.05485 0.12043 0.05294 0.1165 0.05329 0.11234 C 0.05468 0.09847 0.06666 0.09061 0.07343 0.08275 C 0.07586 0.07998 0.07725 0.07605 0.08003 0.07397 C 0.08472 0.07027 0.09044 0.07027 0.09566 0.06796 C 0.10312 0.06888 0.11058 0.06888 0.11789 0.07096 C 0.13316 0.07512 0.14688 0.08761 0.16233 0.09177 C 0.17292 0.11974 0.16978 0.10679 0.17344 0.13014 C 0.17136 0.1736 0.17761 0.25173 0.14896 0.28987 C 0.14028 0.31854 0.14982 0.29473 0.13785 0.31068 C 0.12777 0.32408 0.14028 0.31715 0.12448 0.32247 C 0.09774 0.32015 0.06944 0.3264 0.04444 0.31368 C 0.04201 0.31253 0.04027 0.30929 0.03784 0.30767 C 0.03576 0.30628 0.03333 0.30559 0.03108 0.30467 C 0.02708 0.28779 0.02951 0.30397 0.03108 0.2871 C 0.03524 0.24156 0.02742 0.26005 0.03784 0.23971 C 0.03853 0.23093 0.04063 0.22191 0.0401 0.21313 C 0.03992 0.20943 0.03715 0.20712 0.03558 0.20411 C 0.01892 0.1736 0.02569 0.18146 -8.05556E-006 0.17152 C -0.00956 0.1632 -0.00712 0.16019 -0.01337 0.14794 C -0.01945 0.12205 -0.00956 0.15927 -0.02223 0.13014 C -0.02379 0.12667 -0.02379 0.12228 -0.02449 0.11835 C -0.02171 0.10749 -0.01546 0.10217 -0.00886 0.09477 C -0.00244 0.08761 0.00503 0.08183 0.0111 0.07397 C 0.01336 0.07096 0.01527 0.0675 0.01788 0.06518 C 0.02343 0.06033 0.0302 0.05825 0.03558 0.05316 C 0.04426 0.0453 0.0526 0.03652 0.06006 0.02658 C 0.06301 0.02265 0.06562 0.01826 0.06892 0.01479 C 0.07499 0.00855 0.08298 0.00647 0.08888 3.78641E-006 C 0.11025 -0.02289 0.09392 -0.0141 0.10886 -0.02081 C 0.13663 -0.04785 0.09688 -0.00971 0.129 -0.03838 C 0.12951 -0.03884 0.14219 -0.05225 0.14445 -0.05317 C 0.14948 -0.05525 0.15486 -0.05525 0.16007 -0.05618 C 0.16978 -0.06057 0.18889 -0.07097 0.18889 -0.07097 C 0.19478 -0.07004 0.20104 -0.07051 0.20677 -0.06796 C 0.21025 -0.06635 0.21233 -0.06149 0.21563 -0.05918 C 0.22396 -0.05294 0.23334 -0.05132 0.24219 -0.04739 C 0.2658 -0.02312 0.25504 -0.03237 0.27344 -0.0178 C 0.28316 -0.00162 0.28768 0.01502 0.29566 0.03259 C 0.29844 0.05224 0.29861 0.07235 0.30226 0.09177 C 0.3 0.13407 0.29948 0.17683 0.29566 0.21891 C 0.29497 0.2263 0.29063 0.23254 0.28889 0.23971 C 0.28473 0.25728 0.28125 0.27508 0.27778 0.29288 C 0.27032 0.33079 0.26598 0.3687 0.25556 0.40545 C 0.25539 0.40615 0.25226 0.42395 0.25122 0.42603 C 0.24479 0.43897 0.23611 0.44937 0.229 0.46162 C 0.21615 0.48382 0.20591 0.50254 0.18455 0.51179 C 0.16683 0.52959 0.14375 0.53143 0.12223 0.5356 C 0.06232 0.53074 0.06353 0.54369 0.03108 0.51479 C 0.02031 0.47896 0.01858 0.49468 0.02899 0.4674 C 0.02551 0.44059 0.01996 0.41955 0.01562 0.39343 C 0.01215 0.37217 0.01024 0.34812 0.00225 0.32848 C -0.00556 0.30906 -0.01511 0.29172 -0.02223 0.2723 C -0.03091 0.24873 -0.03959 0.22561 -0.05105 0.20411 C -0.05591 0.19487 -0.06667 0.17753 -0.06667 0.17753 C -0.07153 0.1588 -0.06528 0.17891 -0.07553 0.15973 C -0.07744 0.15603 -0.07831 0.15164 -0.08004 0.14794 C -0.08195 0.14378 -0.08438 0.14008 -0.08664 0.13615 C -0.08976 0.11951 -0.09636 0.10517 -0.10001 0.08876 C -0.11476 0.02126 -0.1356 -0.04577 -0.14445 -0.11535 C -0.14289 -0.13893 -0.14376 -0.1632 -0.13994 -0.18632 C -0.13942 -0.18932 -0.13542 -0.18516 -0.13334 -0.18354 C -0.13004 -0.181 -0.12726 -0.178 -0.12449 -0.17453 C -0.09949 -0.14332 -0.10452 -0.15026 -0.0889 -0.12136 C -0.06789 -0.08253 -0.10487 -0.14194 -0.07778 -0.09478 C -0.06945 -0.08045 -0.05973 -0.06403 -0.04879 -0.05317 C -0.03473 -0.0252 -0.02258 -0.01572 -8.05556E-006 3.78641E-006 E">
                                      <p:cBhvr>
                                        <p:cTn id="1365" dur="20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9" dur="10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10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1" dur="10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4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5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8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0" dur="1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1" dur="4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4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468360" y="2923920"/>
            <a:ext cx="8229600" cy="31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В прямоугольной системе координат уравнение окружности радиуса 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r </a:t>
            </a: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с центром в точке С(х</a:t>
            </a:r>
            <a:r>
              <a:rPr b="0" lang="ru-RU" sz="3200" spc="-1" strike="noStrike" baseline="-25000">
                <a:solidFill>
                  <a:srgbClr val="990033"/>
                </a:solidFill>
                <a:latin typeface="Arial"/>
              </a:rPr>
              <a:t>0 </a:t>
            </a: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;у</a:t>
            </a:r>
            <a:r>
              <a:rPr b="0" lang="ru-RU" sz="3200" spc="-1" strike="noStrike" baseline="-25000">
                <a:solidFill>
                  <a:srgbClr val="990033"/>
                </a:solidFill>
                <a:latin typeface="Arial"/>
              </a:rPr>
              <a:t> 0 </a:t>
            </a: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) имеет вид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(х-х</a:t>
            </a:r>
            <a:r>
              <a:rPr b="0" lang="ru-RU" sz="3200" spc="-1" strike="noStrike" baseline="-25000">
                <a:solidFill>
                  <a:srgbClr val="990033"/>
                </a:solidFill>
                <a:latin typeface="Arial"/>
              </a:rPr>
              <a:t>0</a:t>
            </a: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)</a:t>
            </a:r>
            <a:r>
              <a:rPr b="0" lang="ru-RU" sz="3200" spc="-1" strike="noStrike" baseline="30000">
                <a:solidFill>
                  <a:srgbClr val="990033"/>
                </a:solidFill>
                <a:latin typeface="Arial"/>
              </a:rPr>
              <a:t>2 </a:t>
            </a: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+(у-у</a:t>
            </a:r>
            <a:r>
              <a:rPr b="0" lang="ru-RU" sz="3200" spc="-1" strike="noStrike" baseline="-25000">
                <a:solidFill>
                  <a:srgbClr val="990033"/>
                </a:solidFill>
                <a:latin typeface="Arial"/>
              </a:rPr>
              <a:t>0</a:t>
            </a: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) </a:t>
            </a:r>
            <a:r>
              <a:rPr b="0" lang="ru-RU" sz="3200" spc="-1" strike="noStrike" baseline="30000">
                <a:solidFill>
                  <a:srgbClr val="990033"/>
                </a:solidFill>
                <a:latin typeface="Arial"/>
              </a:rPr>
              <a:t>2 </a:t>
            </a: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r </a:t>
            </a:r>
            <a:r>
              <a:rPr b="0" lang="ru-RU" sz="3200" spc="-1" strike="noStrike" baseline="30000">
                <a:solidFill>
                  <a:srgbClr val="990033"/>
                </a:solidFill>
                <a:latin typeface="Arial"/>
              </a:rPr>
              <a:t>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835280" y="404640"/>
            <a:ext cx="5329080" cy="247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80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роще придумать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80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80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не могла, извини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80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45" name="">
            <a:hlinkClick r:id="" action="ppaction://hlinkshowjump?jump=previousslide"/>
          </p:cNvPr>
          <p:cNvSpPr/>
          <p:nvPr/>
        </p:nvSpPr>
        <p:spPr>
          <a:xfrm>
            <a:off x="6372360" y="5877000"/>
            <a:ext cx="936360" cy="576360"/>
          </a:xfrm>
          <a:custGeom>
            <a:avLst/>
            <a:gdLst>
              <a:gd name="textAreaLeft" fmla="*/ 37080 w 936360"/>
              <a:gd name="textAreaRight" fmla="*/ 899280 w 93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5083" h="21600">
                <a:moveTo>
                  <a:pt x="0" y="0"/>
                </a:moveTo>
                <a:lnTo>
                  <a:pt x="35083" y="0"/>
                </a:lnTo>
                <a:lnTo>
                  <a:pt x="35083" y="21600"/>
                </a:lnTo>
                <a:lnTo>
                  <a:pt x="0" y="21600"/>
                </a:lnTo>
                <a:close/>
              </a:path>
              <a:path fill="lightenLess" w="35083" h="21600">
                <a:moveTo>
                  <a:pt x="0" y="0"/>
                </a:moveTo>
                <a:lnTo>
                  <a:pt x="35083" y="0"/>
                </a:lnTo>
                <a:lnTo>
                  <a:pt x="33683" y="1400"/>
                </a:lnTo>
                <a:lnTo>
                  <a:pt x="1400" y="1400"/>
                </a:lnTo>
                <a:close/>
              </a:path>
              <a:path fill="darken" w="35083" h="21600">
                <a:moveTo>
                  <a:pt x="35083" y="0"/>
                </a:moveTo>
                <a:lnTo>
                  <a:pt x="35083" y="21600"/>
                </a:lnTo>
                <a:lnTo>
                  <a:pt x="33683" y="20200"/>
                </a:lnTo>
                <a:lnTo>
                  <a:pt x="33683" y="1400"/>
                </a:lnTo>
                <a:close/>
              </a:path>
              <a:path fill="darkenLess" w="35083" h="21600">
                <a:moveTo>
                  <a:pt x="350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83" y="20200"/>
                </a:lnTo>
                <a:close/>
              </a:path>
              <a:path fill="lighten" w="350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083" h="21600">
                <a:moveTo>
                  <a:pt x="10535" y="7493"/>
                </a:moveTo>
                <a:lnTo>
                  <a:pt x="14043" y="7493"/>
                </a:lnTo>
                <a:lnTo>
                  <a:pt x="14043" y="12828"/>
                </a:lnTo>
                <a:cubicBezTo>
                  <a:pt x="14043" y="13751"/>
                  <a:pt x="14843" y="14482"/>
                  <a:pt x="15879" y="14482"/>
                </a:cubicBezTo>
                <a:lnTo>
                  <a:pt x="17542" y="14482"/>
                </a:lnTo>
                <a:cubicBezTo>
                  <a:pt x="18577" y="14482"/>
                  <a:pt x="19378" y="13751"/>
                  <a:pt x="19378" y="12828"/>
                </a:cubicBezTo>
                <a:lnTo>
                  <a:pt x="19378" y="7493"/>
                </a:lnTo>
                <a:lnTo>
                  <a:pt x="17542" y="7493"/>
                </a:lnTo>
                <a:lnTo>
                  <a:pt x="21049" y="3985"/>
                </a:lnTo>
                <a:lnTo>
                  <a:pt x="24722" y="7493"/>
                </a:lnTo>
                <a:lnTo>
                  <a:pt x="22886" y="7493"/>
                </a:lnTo>
                <a:lnTo>
                  <a:pt x="22886" y="12828"/>
                </a:lnTo>
                <a:cubicBezTo>
                  <a:pt x="22886" y="15596"/>
                  <a:pt x="20309" y="18155"/>
                  <a:pt x="17542" y="18155"/>
                </a:cubicBezTo>
                <a:lnTo>
                  <a:pt x="15879" y="18155"/>
                </a:lnTo>
                <a:cubicBezTo>
                  <a:pt x="13111" y="18155"/>
                  <a:pt x="10535" y="15596"/>
                  <a:pt x="10535" y="12828"/>
                </a:cubicBez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5" dur="indefinite" restart="never" nodeType="tmRoot">
          <p:childTnLst>
            <p:seq>
              <p:cTn id="1396" dur="indefinite" nodeType="mainSeq">
                <p:childTnLst>
                  <p:par>
                    <p:cTn id="1397" fill="hold">
                      <p:stCondLst>
                        <p:cond delay="0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9565 0.49976 C -0.38263 0.50416 -0.37673 0.51525 -0.36458 0.52034 C -0.35069 0.53282 -0.3368 0.54785 -0.32222 0.55894 C -0.30295 0.57374 -0.33367 0.54184 -0.30451 0.57073 C -0.30208 0.57327 -0.30051 0.5772 -0.29791 0.57951 C -0.29131 0.58506 -0.28663 0.58483 -0.28003 0.58853 C -0.26475 0.59708 -0.2486 0.60055 -0.23333 0.6091 C -0.21822 0.61766 -0.20242 0.62297 -0.1868 0.62991 C -0.171 0.63707 -0.15676 0.64401 -0.1401 0.64771 C -0.12256 0.65672 -0.10485 0.66458 -0.0868 0.67129 C 0.03699 0.66828 0.16077 0.66828 0.28438 0.6625 C 0.29011 0.66227 0.29462 0.6558 0.30001 0.65349 C 0.3191 0.64493 0.33855 0.63846 0.35765 0.62991 C 0.36789 0.62528 0.3889 0.61812 0.3889 0.61812 C 0.43212 0.58506 0.37761 0.62459 0.41997 0.60032 C 0.43629 0.59107 0.44636 0.57582 0.4599 0.56195 C 0.47396 0.54761 0.49601 0.5349 0.50886 0.51756 C 0.52674 0.49352 0.52883 0.45769 0.53994 0.4288 C 0.56494 0.26537 0.52761 0.12159 0.48438 -0.02405 C 0.47778 -0.04624 0.4724 -0.07074 0.46442 -0.09201 C 0.46129 -0.10033 0.45643 -0.10749 0.4533 -0.11582 C 0.44462 -0.1387 0.43872 -0.1632 0.43108 -0.18678 C 0.42813 -0.19557 0.42709 -0.2062 0.42223 -0.21337 C 0.41702 -0.22123 0.41112 -0.22839 0.4066 -0.23694 C 0.39219 -0.26399 0.39914 -0.26515 0.38212 -0.29034 C 0.36702 -0.313 0.33924 -0.33449 0.32223 -0.34952 C 0.30435 -0.36547 0.28646 -0.38466 0.26667 -0.39691 C 0.24983 -0.40754 0.24705 -0.40338 0.23108 -0.4117 C 0.22275 -0.41609 0.21511 -0.4228 0.2066 -0.4265 C 0.19063 -0.43366 0.15765 -0.44406 0.15765 -0.44406 C 0.11546 -0.44221 0.0731 -0.44245 0.03108 -0.43828 C 0.01303 -0.43644 -0.00433 -0.42719 -0.02222 -0.42349 C -0.09548 -0.39436 -0.16701 -0.3583 -0.2401 -0.32871 C -0.26406 -0.31901 -0.26163 -0.32317 -0.28229 -0.31092 C -0.29826 -0.30144 -0.30312 -0.2952 -0.32013 -0.28734 C -0.33038 -0.28271 -0.34079 -0.27948 -0.35121 -0.27555 C -0.35416 -0.27462 -0.36006 -0.27254 -0.36006 -0.27254 C -0.36753 -0.26653 -0.37482 -0.26075 -0.38229 -0.25474 C -0.38628 -0.25151 -0.38749 -0.24411 -0.39114 -0.23995 C -0.39357 -0.23718 -0.39704 -0.23602 -0.39999 -0.23417 C -0.40312 -0.21753 -0.40676 -0.21799 -0.41336 -0.20458 C -0.41666 -0.18701 -0.41961 -0.17384 -0.42447 -0.15719 C -0.42308 -0.11767 -0.4236 -0.07814 -0.42013 -0.03884 C -0.41909 -0.02636 -0.41319 -0.01549 -0.4111 -0.00324 C -0.40711 0.01918 -0.40208 0.03929 -0.3934 0.05894 C -0.38558 0.11072 -0.35833 0.15279 -0.33558 0.19486 C -0.30555 0.25011 -0.35607 0.16273 -0.3111 0.23925 C -0.3085 0.24387 -0.30729 0.24965 -0.30451 0.25404 C -0.30138 0.25889 -0.29687 0.26167 -0.2934 0.26606 C -0.27795 0.28525 -0.25746 0.32108 -0.23784 0.33402 C -0.23333 0.33703 -0.22864 0.33934 -0.22447 0.34281 C -0.21024 0.35483 -0.19756 0.37124 -0.18229 0.38118 C -0.16649 0.39204 -0.14982 0.39713 -0.13333 0.40499 C -0.10572 0.41816 -0.07812 0.43203 -0.04895 0.43758 C 0.02327 0.43296 0.09705 0.44429 0.16667 0.41678 C 0.18317 0.4103 0.19549 0.39528 0.20886 0.38118 C 0.22553 0.3643 0.24723 0.3539 0.26216 0.33402 C 0.2691 0.32478 0.2724 0.31183 0.27778 0.30143 C 0.27969 0.28594 0.28021 0.27854 0.28664 0.26606 C 0.28994 0.24456 0.29827 0.22538 0.30209 0.20388 C 0.29983 0.17036 0.29862 0.13661 0.29549 0.10332 C 0.29358 0.08298 0.28629 0.06403 0.28212 0.04415 C 0.27605 0.01571 0.26806 -0.01156 0.2599 -0.03884 C 0.25678 -0.04924 0.24949 -0.05641 0.24445 -0.06542 C 0.24063 -0.07236 0.23837 -0.08091 0.23334 -0.08623 C 0.2264 -0.09362 0.22032 -0.10264 0.2132 -0.10981 C 0.20244 -0.1209 0.18942 -0.12969 0.17778 -0.13963 C 0.16841 -0.14725 0.15712 -0.15858 0.14653 -0.16297 C 0.13924 -0.16598 0.1316 -0.16621 0.12431 -0.16898 C 0.11528 -0.17222 0.09775 -0.18077 0.09775 -0.18077 C 0.07327 -0.17985 0.04879 -0.18031 0.02431 -0.17777 C 0.01962 -0.1773 0.01563 -0.17384 0.01112 -0.17199 C 0.000699999999999999 -0.16783 -0.01024 -0.16598 -0.02013 -0.1602 C -0.02534 -0.15719 -0.03038 -0.15373 -0.03558 -0.15118 C -0.05017 -0.14425 -0.06579 -0.13893 -0.08003 -0.13061 C -0.08923 -0.12552 -0.10676 -0.11281 -0.10676 -0.11281 C -0.11909 -0.09617 -0.13211 -0.08184 -0.14444 -0.06542 C -0.15555 -0.02913 -0.14201 -0.06589 -0.15555 -0.04462 C -0.16215 -0.03445 -0.16545 -0.02035 -0.17117 -0.00925 C -0.17395 0.00161 -0.17517 0.01248 -0.17777 0.02334 C -0.17638 0.0957 -0.18558 0.10702 -0.16892 0.15048 C -0.16354 0.19325 -0.13767 0.25288 -0.10902 0.27484 C -0.10121 0.28086 -0.09305 0.29218 -0.08454 0.29565 C -0.06857 0.30212 -0.04982 0.30675 -0.03333 0.31021 C -0.00972 0.30952 0.01407 0.31021 0.03768 0.30744 C 0.04515 0.30651 0.05244 0.29334 0.05556 0.28663 C 0.06563 0.26514 0.06527 0.23855 0.07553 0.21867 C 0.07396 0.17406 0.07466 0.12713 0.05556 0.08853 C 0.054 0.08067 0.05539 0.0705 0.05105 0.06472 C 0.03699 0.046 0.02657 0.01826 0.0066 0.01155 C -0.01267 0.02034 -0.01232 0.03536 -0.02222 0.05594 C -0.02447 0.07397 -0.02847 0.09107 -0.03124 0.1091 C -0.03055 0.12297 -0.0302 0.13684 -0.02899 0.15048 C -0.02621 0.18215 -0.00242 0.22376 0.01771 0.23925 C 0.02153 0.24225 0.0323 0.24433 0.03542 0.24526 C 0.05001 0.25497 0.06459 0.25913 0.07987 0.26606 C 0.15296 0.26352 0.14115 0.27022 0.17987 0.25705 C 0.19827 0.23277 0.19688 0.21798 0.20435 0.18908 C 0.20296 0.13337 0.20678 0.08945 0.1889 0.04114 C 0.18629 0.02404 0.18247 0.00601 0.17327 -0.00625 C 0.1698 -0.01965 0.16337 -0.02705 0.1533 -0.03283 C 0.14688 -0.03653 0.13334 -0.04184 0.13334 -0.04184 C 0.10296 -0.03976 0.07258 -0.0393 0.04219 -0.03583 C 0.03039 -0.03445 0.01546 -0.02289 0.00435 -0.01804 C 0.00365 -0.01503 0.00278 -0.01226 0.00209 -0.00925 C 0.0014 -0.00625 7.77778E-006 -0.00024 7.77778E-006 -0.00024 E">
                                      <p:cBhvr>
                                        <p:cTn id="1400" dur="2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3" dur="10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10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5" dur="1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8" dur="10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10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0" dur="10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3059280" y="3500280"/>
            <a:ext cx="2808000" cy="25927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Радиусом окружности называется отрезок, соединяющий центр окружности с любой точкой  окруж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                                   </a:t>
            </a: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о             ов – </a:t>
            </a: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ради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33"/>
                </a:solidFill>
                <a:latin typeface="Arial"/>
              </a:rPr>
              <a:t>                                       </a:t>
            </a: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692360" y="765000"/>
            <a:ext cx="57592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Вспомни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427640" y="4869000"/>
            <a:ext cx="1008000" cy="86508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>
            <a:hlinkClick r:id="" action="ppaction://hlinkshowjump?jump=previousslide"/>
          </p:cNvPr>
          <p:cNvSpPr/>
          <p:nvPr/>
        </p:nvSpPr>
        <p:spPr>
          <a:xfrm>
            <a:off x="6804000" y="6021360"/>
            <a:ext cx="1008000" cy="576360"/>
          </a:xfrm>
          <a:custGeom>
            <a:avLst/>
            <a:gdLst>
              <a:gd name="textAreaLeft" fmla="*/ 37080 w 1008000"/>
              <a:gd name="textAreaRight" fmla="*/ 970920 w 1008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7766" h="21600">
                <a:moveTo>
                  <a:pt x="0" y="0"/>
                </a:moveTo>
                <a:lnTo>
                  <a:pt x="37766" y="0"/>
                </a:lnTo>
                <a:lnTo>
                  <a:pt x="37766" y="21600"/>
                </a:lnTo>
                <a:lnTo>
                  <a:pt x="0" y="21600"/>
                </a:lnTo>
                <a:close/>
              </a:path>
              <a:path fill="lightenLess" w="37766" h="21600">
                <a:moveTo>
                  <a:pt x="0" y="0"/>
                </a:moveTo>
                <a:lnTo>
                  <a:pt x="37766" y="0"/>
                </a:lnTo>
                <a:lnTo>
                  <a:pt x="36366" y="1400"/>
                </a:lnTo>
                <a:lnTo>
                  <a:pt x="1400" y="1400"/>
                </a:lnTo>
                <a:close/>
              </a:path>
              <a:path fill="darken" w="37766" h="21600">
                <a:moveTo>
                  <a:pt x="37766" y="0"/>
                </a:moveTo>
                <a:lnTo>
                  <a:pt x="37766" y="21600"/>
                </a:lnTo>
                <a:lnTo>
                  <a:pt x="36366" y="20200"/>
                </a:lnTo>
                <a:lnTo>
                  <a:pt x="36366" y="1400"/>
                </a:lnTo>
                <a:close/>
              </a:path>
              <a:path fill="darkenLess" w="37766" h="21600">
                <a:moveTo>
                  <a:pt x="37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6" y="20200"/>
                </a:lnTo>
                <a:close/>
              </a:path>
              <a:path fill="lighten" w="37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6" h="21600">
                <a:moveTo>
                  <a:pt x="11877" y="7493"/>
                </a:moveTo>
                <a:lnTo>
                  <a:pt x="15384" y="7493"/>
                </a:lnTo>
                <a:lnTo>
                  <a:pt x="15384" y="12828"/>
                </a:lnTo>
                <a:cubicBezTo>
                  <a:pt x="15384" y="13751"/>
                  <a:pt x="16185" y="14482"/>
                  <a:pt x="17221" y="14482"/>
                </a:cubicBezTo>
                <a:lnTo>
                  <a:pt x="18883" y="14482"/>
                </a:lnTo>
                <a:cubicBezTo>
                  <a:pt x="19919" y="14482"/>
                  <a:pt x="20720" y="13751"/>
                  <a:pt x="20720" y="12828"/>
                </a:cubicBezTo>
                <a:lnTo>
                  <a:pt x="20720" y="7493"/>
                </a:lnTo>
                <a:lnTo>
                  <a:pt x="18883" y="7493"/>
                </a:lnTo>
                <a:lnTo>
                  <a:pt x="22391" y="3985"/>
                </a:lnTo>
                <a:lnTo>
                  <a:pt x="26064" y="7493"/>
                </a:lnTo>
                <a:lnTo>
                  <a:pt x="24227" y="7493"/>
                </a:lnTo>
                <a:lnTo>
                  <a:pt x="24227" y="12828"/>
                </a:lnTo>
                <a:cubicBezTo>
                  <a:pt x="24227" y="15596"/>
                  <a:pt x="21651" y="18155"/>
                  <a:pt x="18883" y="18155"/>
                </a:cubicBezTo>
                <a:lnTo>
                  <a:pt x="17221" y="18155"/>
                </a:lnTo>
                <a:cubicBezTo>
                  <a:pt x="14453" y="18155"/>
                  <a:pt x="11877" y="15596"/>
                  <a:pt x="11877" y="12828"/>
                </a:cubicBez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1" dur="indefinite" restart="never" nodeType="tmRoot">
          <p:childTnLst>
            <p:seq>
              <p:cTn id="1412" dur="indefinite" nodeType="mainSeq">
                <p:childTnLst>
                  <p:par>
                    <p:cTn id="1413" fill="hold">
                      <p:stCondLst>
                        <p:cond delay="0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7" dur="1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8" dur="10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10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10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3" dur="1000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4" dur="10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10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10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9" dur="1000"/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0" dur="1000" fill="hold"/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1000" fill="hold"/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1000" fill="hold"/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3334 -0.72793 C -0.43125 -0.67106 -0.43299 -0.60796 -0.4 -0.56519 C -0.39566 -0.54809 -0.39931 -0.55988 -0.38663 -0.5356 C -0.38212 -0.52682 -0.37778 -0.5178 -0.37344 -0.50902 C -0.37205 -0.50648 -0.37222 -0.50278 -0.37118 -0.5 C -0.36736 -0.48983 -0.36476 -0.48267 -0.35781 -0.47643 C -0.35 -0.46117 -0.35469 -0.46926 -0.34011 -0.45007 C -0.33715 -0.44614 -0.33108 -0.43805 -0.33108 -0.43805 C -0.32691 -0.42049 -0.33229 -0.43667 -0.32222 -0.42326 C -0.32031 -0.42072 -0.31962 -0.41702 -0.31788 -0.41424 C -0.30382 -0.39298 -0.28854 -0.3798 -0.27118 -0.36408 C -0.25747 -0.35183 -0.26788 -0.35784 -0.25556 -0.35206 C -0.23247 -0.32987 -0.24184 -0.3405 -0.21337 -0.32848 C -0.17518 -0.3123 -0.13768 -0.2878 -0.09774 -0.2811 C -0.08403 -0.28179 0.19774 -0.24087 0.26441 -0.35206 C 0.27517 -0.3946 0.28715 -0.4362 0.29548 -0.47966 C 0.29479 -0.49191 0.29566 -0.51272 0.29114 -0.52682 C 0.28628 -0.54208 0.28368 -0.54277 0.27552 -0.55918 C 0.26076 -0.589 0.25156 -0.61304 0.22882 -0.63315 C 0.22135 -0.63986 0.2151 -0.64887 0.2066 -0.65396 C 0.19149 -0.66297 0.16302 -0.67453 0.1467 -0.68054 C 0.13403 -0.68516 0.10885 -0.69233 0.10885 -0.69233 C 0.03403 -0.68932 -0.0408 -0.68886 -0.11563 -0.68355 C -0.13334 -0.68216 -0.15313 -0.66436 -0.17118 -0.65997 C -0.18229 -0.65234 -0.19184 -0.6424 -0.20226 -0.63315 C -0.20955 -0.62645 -0.21563 -0.60449 -0.21997 -0.59478 C -0.22465 -0.57005 -0.23195 -0.54508 -0.23802 -0.52081 C -0.23941 -0.5148 -0.24219 -0.50301 -0.24219 -0.50301 C -0.24427 -0.48382 -0.24879 -0.47111 -0.2533 -0.45285 C -0.25191 -0.40569 -0.25156 -0.35807 -0.24896 -0.31068 C -0.24792 -0.28942 -0.23507 -0.2633 -0.22674 -0.24596 C -0.21823 -0.22793 -0.20886 -0.20712 -0.19774 -0.19233 C -0.18403 -0.17407 -0.15851 -0.15558 -0.14445 -0.1424 C -0.14011 -0.13801 -0.1342 -0.13847 -0.12899 -0.13616 C -0.10747 -0.12737 -0.08646 -0.11882 -0.06441 -0.11281 C 0.06476 -0.11582 0.01163 -0.09478 0.05989 -0.12761 C 0.06441 -0.1424 0.06753 -0.15673 0.07083 -0.17199 C 0.07291 -0.19141 0.07465 -0.20412 0.08003 -0.22192 C 0.07934 -0.24365 0.07969 -0.26561 0.0776 -0.28711 C 0.07691 -0.29681 0.07083 -0.30444 0.06892 -0.31369 C 0.06267 -0.34073 0.06163 -0.34698 0.04444 -0.36709 C 0.03246 -0.38049 0.01719 -0.3909 0.00226 -0.39668 C -0.00521 -0.39922 -0.02014 -0.40245 -0.02014 -0.40245 C -0.06302 -0.40037 -0.07188 -0.40454 -0.10226 -0.3909 C -0.1217 -0.36501 -0.12882 -0.32825 -0.13334 -0.29288 C -0.13195 -0.27324 -0.13264 -0.25313 -0.12899 -0.23371 C -0.12795 -0.22816 -0.12257 -0.22631 -0.11997 -0.22192 C -0.09601 -0.18355 -0.12136 -0.21475 -0.09774 -0.19233 C -0.09097 -0.18586 -0.08577 -0.17569 -0.07778 -0.17199 C -0.05955 -0.16343 -0.04063 -0.15627 -0.02222 -0.14795 C -0.00608 -0.14933 0.02673 -0.13916 0.02448 -0.15974 C 0.02291 -0.1743 0.00798 -0.20389 -0.00243 -0.21013 C -0.00799 -0.2136 -0.02014 -0.21637 -0.02014 -0.21637 C -0.03993 -0.21244 -0.04427 -0.21105 -0.06024 -0.19534 C -0.0658 -0.17337 -0.05816 -0.20042 -0.06667 -0.17754 C -0.07066 -0.1669 -0.0717 -0.15373 -0.07344 -0.1424 C -0.06875 -0.09524 -0.06893 -0.07583 -0.04011 -0.05063 C -0.03993 -0.05063 -0.0059 -0.05132 0.00226 -0.06219 C 0.00625 -0.0675 0.00625 -0.07629 0.00885 -0.08322 C 0.00729 -0.09016 0.00712 -0.09779 0.00434 -0.10356 C 0.00226 -0.10773 -0.00174 -0.10957 -0.00452 -0.11281 C -0.00695 -0.11535 -0.00834 -0.11975 -0.01129 -0.12136 C -0.01441 -0.12391 -0.01875 -0.12368 -0.02222 -0.12437 C -0.02761 -0.12368 -0.03316 -0.1246 -0.03785 -0.12136 C -0.0434 -0.11743 -0.05139 -0.10356 -0.05139 -0.10356 C -0.05452 -0.08068 -0.05955 -0.06357 -0.05347 -0.03884 C -0.05156 -0.03214 -0.04566 -0.02913 -0.04219 -0.02405 C -0.03229 -0.00902 -0.02327 0.00208 -0.00886 0.00855 C 0.00139 0.00508 2.77778E-006 0.00994 2.77778E-006 1.2945E-007 E">
                                      <p:cBhvr>
                                        <p:cTn id="1434" dur="20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9774 0.11512 C 0.38576 0.11651 0.37431 0.12413 0.36215 0.12413 C 0.21024 0.12506 0.05851 0.12205 -0.0934 0.12113 C -0.17552 0.08992 -0.2 0.0994 -0.31788 0.09154 C -0.33681 0.08414 -0.35451 0.07906 -0.37344 0.07074 C -0.3941 0.06172 -0.41337 0.04878 -0.43333 0.03814 C -0.45729 0.02543 -0.48646 0.01202 -0.49566 -0.02381 C -0.49497 -0.02681 -0.49583 -0.03282 -0.4934 -0.03282 C -0.46285 -0.03282 -0.44462 -0.02103 -0.41788 -0.01202 C -0.40538 -0.00786 -0.38004 -0.00023 -0.38004 -0.00023 C -0.34948 0.02011 -0.31632 0.02797 -0.28455 0.04415 C -0.27622 0.04831 -0.26858 0.05525 -0.26007 0.05895 C -0.23611 0.06958 -0.2099 0.07166 -0.18681 0.08553 C -0.16354 0.09963 -0.14201 0.10749 -0.11788 0.11812 C -0.1 0.12598 -0.09045 0.13569 -0.07118 0.13893 C -0.04826 0.14286 -0.02517 0.14193 -0.00226 0.14471 C 0.07483 0.1417 0.15191 0.14124 0.22882 0.13592 C 0.23733 0.13523 0.24514 0.12968 0.2533 0.12691 C 0.28507 0.11628 0.31545 0.11165 0.33108 0.07074 C 0.33038 0.06195 0.3309 0.05271 0.32882 0.04415 C 0.32708 0.03745 0.3224 0.0326 0.31996 0.02635 C 0.31771 0.02057 0.30972 -0.00208 0.3066 -0.00624 C 0.30139 -0.01317 0.29479 -0.01803 0.28889 -0.02381 C 0.28594 -0.02681 0.28351 -0.03121 0.27986 -0.03282 C 0.26111 -0.04114 0.24792 -0.04646 0.22882 -0.05062 C 0.21181 -0.04854 0.19462 -0.04831 0.17778 -0.04461 C 0.1559 -0.03976 0.13733 -0.02473 0.11545 -0.02103 C 0.06892 -0.01294 0.05608 -0.01687 -0.01111 -0.01502 C -0.14184 -0.01757 -0.23924 0.01595 -0.34896 -0.03282 C -0.39132 -0.05155 -0.43333 -0.07027 -0.47569 -0.089 C -0.49115 -0.09593 -0.52222 -0.1098 -0.52222 -0.1098 C -0.52674 -0.11373 -0.53142 -0.11697 -0.53559 -0.12159 C -0.54045 -0.12691 -0.54896 -0.13939 -0.54896 -0.13939 C -0.54826 -0.14424 -0.54931 -0.15072 -0.5467 -0.15418 C -0.5434 -0.15857 -0.53333 -0.15996 -0.53333 -0.15996 C -0.41181 -0.15904 -0.29045 -0.15973 -0.16892 -0.15696 C -0.13125 -0.15603 -0.09254 -0.12852 -0.05556 -0.11858 C 0.05781 -0.11974 0.1908 -0.04808 0.28437 -0.13338 C 0.29306 -0.16713 0.24861 -0.18169 0.23108 -0.18654 C 0.22587 -0.18793 0.22066 -0.18863 0.21545 -0.18955 C 0.19687 -0.18863 0.1783 -0.18978 0.1599 -0.18654 C 0.15503 -0.18562 0.15104 -0.18053 0.14653 -0.17776 C 0.1342 -0.17036 0.12222 -0.16597 0.10885 -0.16297 C 0.09635 -0.15441 0.08281 -0.14979 0.07101 -0.13939 C 0.06788 -0.13661 0.06458 -0.13407 0.06215 -0.13037 C 0.05868 -0.12506 0.0533 -0.11257 0.0533 -0.11257 C 0.04653 -0.07744 0.04028 -0.05363 0.02431 -0.02381 C 0.02101 -0.01757 0.01858 -0.01017 0.01319 -0.00624 C 0.0092 -0.00323 -3.33333E-006 -0.00023 -3.33333E-006 -0.00023 E">
                                      <p:cBhvr>
                                        <p:cTn id="1436" dur="20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1997 0.39944 C -0.51841 0.32848 -0.52101 0.30721 -0.5066 0.2515 C -0.50573 0.2478 -0.50139 0.23093 -0.49775 0.22769 C -0.49236 0.2226 -0.48177 0.22052 -0.47552 0.21891 C -0.41563 0.22145 -0.41337 0.1988 -0.39549 0.24549 C -0.39254 0.27323 -0.3875 0.30975 -0.39549 0.33426 C -0.39792 0.34165 -0.40747 0.33033 -0.41337 0.32824 C -0.4198 0.32616 -0.43108 0.31646 -0.43108 0.31646 C -0.43438 0.30998 -0.43907 0.30513 -0.44219 0.29843 C -0.44566 0.29172 -0.44896 0.27739 -0.45105 0.26907 C -0.45035 0.23948 -0.46424 0.20134 -0.44879 0.1803 C -0.43542 0.16181 -0.41007 0.18192 -0.39115 0.18608 C -0.38716 0.18724 -0.38195 0.20041 -0.38004 0.20411 C -0.36962 0.22376 -0.36302 0.2404 -0.35782 0.26329 C -0.36129 0.31206 -0.35938 0.2901 -0.36667 0.26629 C -0.36476 0.17198 -0.37865 0.18285 -0.35556 0.14193 C -0.34497 0.12344 -0.35434 0.12968 -0.34219 0.12413 C -0.33993 0.12113 -0.33872 0.11604 -0.33559 0.11535 C -0.3316 0.11442 -0.31667 0.11951 -0.31111 0.12113 C -0.29601 0.13638 -0.29445 0.15025 -0.28889 0.17152 C -0.28959 0.19117 -0.28941 0.21105 -0.29115 0.2307 C -0.29167 0.23601 -0.29184 0.24341 -0.29549 0.24549 C -0.29914 0.24757 -0.30295 0.24156 -0.3066 0.23948 C -0.30886 0.23462 -0.31146 0.22977 -0.31337 0.22469 C -0.31806 0.21243 -0.3158 0.2018 -0.32223 0.18932 C -0.31893 0.13338 -0.32292 0.06403 -0.27327 0.04715 C -0.27032 0.049 -0.26702 0.05039 -0.26441 0.05316 C -0.25139 0.0675 -0.27032 0.05825 -0.25105 0.06495 C -0.24879 0.06796 -0.24688 0.07119 -0.24445 0.07397 C -0.24167 0.0772 -0.2382 0.07929 -0.23559 0.08275 C -0.22917 0.09107 -0.22709 0.10425 -0.22448 0.11535 C -0.22605 0.15834 -0.22136 0.18585 -0.24879 0.20989 C -0.26684 0.18654 -0.24757 0.21428 -0.25782 0.19232 C -0.26181 0.184 -0.26702 0.17683 -0.27101 0.16851 C -0.27327 0.15672 -0.275 0.1491 -0.28004 0.13892 C -0.29045 0.08021 -0.26893 0.0453 -0.24445 0.00277 C -0.24306 0.00023 -0.23993 0.00115 -0.23768 3.6847E-006 C -0.22795 -0.00555 -0.21823 -0.01156 -0.20886 -0.0178 C -0.18768 -0.00856 -0.18438 0.00231 -0.17327 0.02658 C -0.16858 0.05108 -0.16858 0.06773 -0.17101 0.09454 C -0.17136 0.09778 -0.17153 0.10125 -0.17327 0.10356 C -0.175 0.10587 -0.17778 0.10541 -0.18004 0.10633 C -0.19323 0.09477 -0.19323 0.0994 -0.20226 0.07975 C -0.20295 0.07374 -0.2033 0.06773 -0.20434 0.06195 C -0.20486 0.05894 -0.20677 0.05617 -0.2066 0.05316 C -0.20539 0.01918 -0.20469 -0.02196 -0.18004 -0.04161 C -0.17309 -0.04716 -0.16545 -0.04832 -0.15782 -0.0504 C -0.14896 -0.04947 -0.13976 -0.0504 -0.13108 -0.04739 C -0.12466 -0.04508 -0.12396 -0.03583 -0.12223 -0.02959 C -0.11771 -0.01387 -0.11198 -0.00162 -0.10886 0.01479 C -0.1099 0.03675 -0.10174 0.07512 -0.12448 0.06495 C -0.12674 0.06102 -0.13091 0.05802 -0.13108 0.05316 C -0.1316 0.0312 -0.13299 -0.01595 -0.11771 -0.0356 C -0.11129 -0.06057 -0.08837 -0.06935 -0.07101 -0.07698 C -0.04688 -0.07328 -0.04393 -0.0712 -0.02448 -0.0534 C -0.01841 -0.04785 -0.0125 -0.04161 -0.0066 -0.0356 C -0.00417 -0.03306 -0.0007 -0.03075 3.61111E-006 -0.02682 C 0.00156 -0.01803 3.61111E-006 -0.00902 3.61111E-006 3.6847E-006 E">
                                      <p:cBhvr>
                                        <p:cTn id="1438" dur="20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Задание №1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Найти координаты вектора а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076720" y="1700280"/>
            <a:ext cx="360360" cy="0"/>
          </a:xfrm>
          <a:prstGeom prst="line">
            <a:avLst/>
          </a:prstGeom>
          <a:ln w="93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>
            <a:lum bright="-6000"/>
          </a:blip>
          <a:srcRect l="0" t="7590" r="0" b="0"/>
          <a:stretch/>
        </p:blipFill>
        <p:spPr>
          <a:xfrm>
            <a:off x="6300720" y="1413000"/>
            <a:ext cx="2108160" cy="1757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1258920" y="3645000"/>
                <a:ext cx="2020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5435640" y="3500280"/>
                <a:ext cx="202068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t xml:space="preserve">)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1403280" y="5157720"/>
                <a:ext cx="202104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r>
                      <m:t xml:space="preserve">)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5607000" y="5084640"/>
                <a:ext cx="196524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г</m:t>
                    </m:r>
                    <m:r>
                      <m:t xml:space="preserve">)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236 0.54138 C 0.13698 0.54485 0.13229 0.55063 0.12673 0.5534 C 0.11666 0.55849 0.10781 0.55849 0.09791 0.56519 C 0.00903 0.56218 -0.09653 0.58877 -0.18663 0.54739 C -0.20868 0.53722 -0.24792 0.52451 -0.26875 0.50601 C -0.27257 0.50255 -0.29341 0.48035 -0.3 0.47342 C -0.3066 0.46648 -0.31771 0.44961 -0.31771 0.44961 C -0.32084 0.42927 -0.32518 0.41008 -0.33108 0.39066 C -0.33768 0.33819 -0.34132 0.26607 -0.31771 0.21891 C -0.31372 0.19811 -0.31858 0.21498 -0.30886 0.19834 C -0.30556 0.19279 -0.30174 0.18701 -0.3 0.18031 C -0.29931 0.17753 -0.29931 0.17407 -0.29775 0.17152 C -0.29584 0.16829 -0.28525 0.1595 -0.28212 0.15673 C -0.26945 0.14494 -0.26337 0.13801 -0.24879 0.13315 C -0.19601 0.13731 -0.22379 0.12807 -0.19549 0.15396 C -0.19063 0.17291 -0.18472 0.18979 -0.18212 0.21013 C -0.18438 0.3264 -0.16858 0.30005 -0.19323 0.34628 C -0.19549 0.35044 -0.19879 0.36292 -0.20209 0.36685 C -0.21806 0.38535 -0.24045 0.39598 -0.2599 0.40523 C -0.26372 0.40731 -0.26719 0.40939 -0.27101 0.41124 C -0.27986 0.4154 -0.29775 0.42279 -0.29775 0.42279 C -0.3 0.42603 -0.30157 0.43019 -0.30434 0.43204 C -0.30764 0.43412 -0.31181 0.43343 -0.31545 0.43482 C -0.3316 0.44083 -0.34549 0.44684 -0.36216 0.44961 C -0.46702 0.4466 -0.55643 0.47619 -0.63768 0.39321 C -0.63924 0.38858 -0.64028 0.38327 -0.64219 0.37864 C -0.64393 0.37425 -0.64722 0.37125 -0.64879 0.36685 C -0.65191 0.35715 -0.65295 0.34697 -0.65556 0.33703 C -0.65868 0.32548 -0.66146 0.31369 -0.66441 0.3019 C -0.6658 0.29589 -0.66875 0.2841 -0.66875 0.2841 C -0.67552 0.22099 -0.67153 0.14217 -0.64445 0.08576 C -0.64115 0.06427 -0.63334 0.01757 -0.61545 0.00879 C -0.61198 0.00694 -0.60799 0.00694 -0.60434 0.00601 C -0.59254 0.00786 -0.58021 0.00717 -0.56875 0.01179 C -0.56268 0.01433 -0.55834 0.0215 -0.5533 0.02659 C -0.55035 0.02959 -0.54445 0.0356 -0.54445 0.0356 C -0.54254 0.0504 -0.53889 0.0601 -0.53542 0.07397 C -0.53143 0.10865 -0.52986 0.14193 -0.5533 0.16274 C -0.58438 0.1602 -0.58768 0.15788 -0.6132 0.15095 C -0.62431 0.14193 -0.6382 0.13338 -0.65104 0.13015 C -0.66025 0.11789 -0.6717 0.10842 -0.67986 0.09455 C -0.68559 0.0853 -0.69549 0.06519 -0.69549 0.06519 C -0.70018 0.04647 -0.70417 0.02844 -0.7066 0.00879 C -0.70504 -0.03282 -0.70521 -0.0742 -0.70209 -0.11535 C -0.70157 -0.12274 -0.6974 -0.12922 -0.69549 -0.13615 C -0.68663 -0.16898 -0.68212 -0.19926 -0.66667 -0.22792 C -0.64809 -0.30143 -0.67396 -0.21058 -0.64653 -0.27531 C -0.62275 -0.33125 -0.63854 -0.30582 -0.62431 -0.34628 C -0.6217 -0.35367 -0.61788 -0.35968 -0.61545 -0.36685 C -0.60365 -0.4006 -0.59705 -0.43735 -0.58438 -0.47041 C -0.58368 -0.47642 -0.58438 -0.48289 -0.58212 -0.48821 C -0.58091 -0.49098 -0.57743 -0.49283 -0.57552 -0.49121 C -0.57066 -0.48705 -0.56858 -0.47896 -0.56441 -0.47341 C -0.55955 -0.46694 -0.55434 -0.46093 -0.54879 -0.45561 C -0.52986 -0.43782 -0.51771 -0.43273 -0.49549 -0.42603 C -0.48472 -0.41886 -0.4816 -0.4184 -0.47327 -0.40823 C -0.46788 -0.40175 -0.45764 -0.38765 -0.45764 -0.38765 C -0.45122 -0.37009 -0.45018 -0.35067 -0.44219 -0.33426 C -0.4415 -0.32755 -0.4415 -0.32039 -0.43993 -0.31368 C -0.43907 -0.31021 -0.43646 -0.30813 -0.43542 -0.30467 C -0.4342 -0.30097 -0.43403 -0.29681 -0.43334 -0.29288 C -0.43472 -0.227 -0.42396 -0.20388 -0.4533 -0.16574 C -0.45469 -0.16204 -0.45955 -0.14586 -0.46441 -0.14494 C -0.46841 -0.14424 -0.47188 -0.14886 -0.47552 -0.15095 C -0.479 -0.15811 -0.48386 -0.16389 -0.48663 -0.17175 C -0.48872 -0.17707 -0.48959 -0.18331 -0.49097 -0.18955 C -0.49167 -0.19255 -0.49323 -0.19856 -0.49323 -0.19856 C -0.49063 -0.22538 -0.49028 -0.24064 -0.47327 -0.25774 C -0.47032 -0.26075 -0.46788 -0.26445 -0.46441 -0.26629 C -0.45868 -0.26953 -0.44653 -0.2723 -0.44653 -0.2723 C -0.41771 -0.27046 -0.38872 -0.2693 -0.3599 -0.26629 C -0.35018 -0.2656 -0.34775 -0.26445 -0.34219 -0.25451 C -0.33733 -0.24595 -0.33368 -0.23647 -0.32882 -0.22792 C -0.32813 -0.22399 -0.32761 -0.21983 -0.32657 -0.2159 C -0.32535 -0.21197 -0.32309 -0.20827 -0.32222 -0.20411 C -0.32101 -0.19856 -0.32101 -0.19209 -0.31997 -0.18654 C -0.31875 -0.1803 -0.31545 -0.16874 -0.31545 -0.16874 C -0.31893 -0.10518 -0.31268 -0.14517 -0.32222 -0.11535 C -0.32309 -0.11257 -0.32275 -0.10864 -0.32431 -0.10679 C -0.32604 -0.10448 -0.32882 -0.10448 -0.33108 -0.10379 C -0.33907 -0.1306 -0.34184 -0.16112 -0.32882 -0.18654 C -0.32188 -0.22353 -0.28472 -0.2337 -0.26216 -0.2485 C -0.23334 -0.24665 -0.20417 -0.24757 -0.17552 -0.24272 C -0.16893 -0.24156 -0.16354 -0.23463 -0.15764 -0.2307 C -0.13229 -0.21359 -0.12535 -0.20411 -0.10886 -0.17452 C -0.11025 -0.13592 -0.10764 -0.08322 -0.14219 -0.06796 C -0.14445 -0.06888 -0.1467 -0.06935 -0.14879 -0.07096 C -0.15347 -0.07466 -0.16216 -0.08275 -0.16216 -0.08275 C -0.17743 -0.11072 -0.17188 -0.13615 -0.15764 -0.16273 C -0.15365 -0.17013 -0.15087 -0.17868 -0.14445 -0.18354 C -0.14115 -0.18608 -0.13698 -0.18539 -0.13334 -0.18654 C -0.09427 -0.21243 -0.12205 -0.19856 -0.04445 -0.19556 C -0.03646 -0.18747 -0.03229 -0.17868 -0.02431 -0.17175 C -0.02014 -0.15418 -0.02518 -0.16967 -0.01111 -0.15095 C -0.0092 -0.1484 -0.00834 -0.1447 -0.0066 -0.14193 C 0.00156 -0.12945 0.00868 -0.11743 0.01562 -0.10379 C 0.02153 -0.09177 0.02552 -0.07859 0.02899 -0.06518 C 0.02968 -0.06218 0.03055 -0.05917 0.03125 -0.05617 C 0.03194 -0.05316 0.03333 -0.04739 0.03333 -0.04739 C 0.03264 -0.04045 0.03368 -0.03282 0.03125 -0.02681 C 0.03125 -0.02635 0.00868 0.00578 0.00451 0.00301 C 0.00295 0.00208 0.00156 0.00093 3.05556E-006 2.08044E-006 E">
                                      <p:cBhvr>
                                        <p:cTn id="119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Задание №2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Найти координаты вектора а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76720" y="1700280"/>
            <a:ext cx="360360" cy="0"/>
          </a:xfrm>
          <a:prstGeom prst="line">
            <a:avLst/>
          </a:prstGeom>
          <a:ln w="93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1547640" y="3554280"/>
                <a:ext cx="266724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5240160" y="3500280"/>
                <a:ext cx="241308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t xml:space="preserve">)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1430280" y="5157720"/>
                <a:ext cx="196524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r>
                      <m:t xml:space="preserve">)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5607000" y="5084640"/>
                <a:ext cx="196524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г</m:t>
                    </m:r>
                    <m:r>
                      <m:t xml:space="preserve">)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156360" y="765000"/>
            <a:ext cx="2287440" cy="24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323 -0.41724 C 0.1901 -0.39621 0.18403 -0.39181 0.17552 -0.37586 C 0.17361 -0.37216 0.17326 -0.36731 0.17101 -0.36384 C 0.16476 -0.3539 0.15642 -0.34766 0.14878 -0.34026 C 0.14097 -0.33264 0.13385 -0.32223 0.12656 -0.31368 C 0.11059 -0.29496 0.125 -0.31322 0.10885 -0.29889 C 0.08854 -0.28086 0.0691 -0.26075 0.04878 -0.24271 C 0.03993 -0.23486 0.02865 -0.23023 0.02222 -0.21891 C 0.01996 -0.21498 0.01823 -0.21035 0.01545 -0.20712 C 0.00434 -0.19394 -0.01024 -0.18932 -0.02222 -0.17753 C -0.04115 -0.15903 -0.06111 -0.14285 -0.08021 -0.12436 C -0.09375 -0.11095 -0.10642 -0.09731 -0.12222 -0.08876 C -0.12917 -0.07998 -0.13698 -0.06934 -0.14444 -0.06218 C -0.1566 -0.05108 -0.17257 -0.04184 -0.18472 -0.02958 C -0.18802 -0.02612 -0.18993 -0.0208 -0.1934 -0.0178 C -0.20035 -0.01179 -0.2092 -0.00994 -0.21563 -0.003 C -0.22795 0.00971 -0.24254 0.01803 -0.25347 0.0326 C -0.26927 0.05363 -0.28924 0.07028 -0.30677 0.08877 C -0.31094 0.09316 -0.31615 0.09594 -0.32014 0.10056 C -0.32656 0.10796 -0.3309 0.11813 -0.33785 0.12437 C -0.34236 0.1283 -0.34688 0.132 -0.35122 0.13616 C -0.37882 0.16343 -0.36319 0.15696 -0.38455 0.16274 C -0.39479 0.17638 -0.40747 0.18262 -0.41806 0.19533 C -0.42396 0.20296 -0.42969 0.21105 -0.43559 0.21891 C -0.43872 0.22307 -0.4434 0.22446 -0.44688 0.22793 C -0.4533 0.23417 -0.46979 0.25174 -0.47778 0.26029 C -0.50694 0.29127 -0.4934 0.27208 -0.51563 0.28988 C -0.54497 0.31346 -0.55677 0.33264 -0.59132 0.34027 C -0.61024 0.35322 -0.62101 0.34813 -0.64444 0.34628 C -0.65608 0.3412 -0.65295 0.33403 -0.66007 0.32247 C -0.66875 0.3086 -0.67535 0.29381 -0.68229 0.27809 C -0.68594 0.25382 -0.68906 0.24365 -0.69566 0.22192 C -0.69774 0.20481 -0.70191 0.19349 -0.70677 0.17753 C -0.70747 0.16968 -0.70903 0.16182 -0.70903 0.15396 C -0.70903 0.13015 -0.70851 0.10634 -0.70677 0.08276 C -0.70521 0.06172 -0.6901 0.02127 -0.67569 0.0148 C -0.66059 -0.00138 -0.66198 -0.00208 -0.64236 -0.00601 C -0.60764 -0.0282 -0.57813 -0.00208 -0.5467 0.01179 C -0.53889 0.01896 -0.53125 0.02566 -0.52222 0.02959 C -0.51684 0.04069 -0.51007 0.043 -0.50226 0.0504 C -0.49358 0.05872 -0.48629 0.06843 -0.47778 0.07698 C -0.47552 0.08183 -0.47379 0.08715 -0.47135 0.09177 C -0.46944 0.09501 -0.46632 0.09709 -0.46458 0.10056 C -0.46319 0.1031 -0.46354 0.1068 -0.46233 0.10957 C -0.45469 0.12714 -0.44514 0.14679 -0.43559 0.16274 C -0.43299 0.16713 -0.42934 0.17014 -0.42674 0.17453 C -0.42205 0.18285 -0.41806 0.19233 -0.41337 0.20111 C -0.40521 0.21729 -0.3974 0.23278 -0.38889 0.2485 C -0.38194 0.26098 -0.37847 0.27555 -0.36892 0.2841 C -0.34774 0.32201 -0.375 0.27601 -0.35556 0.3019 C -0.35295 0.30537 -0.35156 0.31022 -0.34896 0.31369 C -0.33507 0.33218 -0.3184 0.34836 -0.30451 0.36686 C -0.30191 0.37032 -0.30069 0.37541 -0.29792 0.37864 C -0.29097 0.3872 -0.28247 0.39367 -0.27569 0.40245 C -0.27014 0.40985 -0.26632 0.41979 -0.26007 0.42603 C -0.25694 0.42927 -0.25226 0.42927 -0.24896 0.43204 C -0.2349 0.44406 -0.2217 0.46256 -0.20677 0.47342 C -0.20139 0.47735 -0.19097 0.48012 -0.18472 0.4822 C -0.16493 0.49815 -0.14201 0.50532 -0.12014 0.5148 C -0.09861 0.51364 -0.07656 0.51642 -0.05556 0.50902 C -0.03698 0.50232 -0.02188 0.48544 -0.00451 0.47643 C 0.00556 0.45863 0.01319 0.43898 0.02222 0.42025 C 0.0309 0.40199 0.04062 0.38581 0.04878 0.36686 C 0.05434 0.33426 0.06076 0.30121 0.07326 0.27231 C 0.07483 0.2633 0.07604 0.25428 0.07778 0.2455 C 0.08056 0.23163 0.08663 0.20412 0.08663 0.20412 C 0.08368 0.08669 0.08264 -0.03074 0.07778 -0.14794 C 0.07743 -0.15719 0.07309 -0.16551 0.07101 -0.17452 C 0.06736 -0.19001 0.06406 -0.20781 0.05764 -0.22191 C 0.04149 -0.25751 0.0125 -0.273 -0.01563 -0.28409 C -0.04861 -0.29727 -0.08056 -0.31276 -0.11337 -0.32547 C -0.15417 -0.32316 -0.19653 -0.33217 -0.23576 -0.31669 C -0.2559 -0.3086 -0.2691 -0.28294 -0.28229 -0.26329 C -0.29462 -0.24503 -0.30434 -0.23439 -0.30903 -0.21012 C -0.30833 -0.1944 -0.3092 -0.17822 -0.30677 -0.16273 C -0.30608 -0.15857 -0.30156 -0.15765 -0.3 -0.15395 C -0.28333 -0.11488 -0.31858 -0.17545 -0.29115 -0.12713 C -0.27691 -0.10194 -0.26198 -0.08229 -0.24444 -0.06218 C -0.23455 -0.05062 -0.23594 -0.04669 -0.22222 -0.03837 C -0.20608 -0.02843 -0.18594 -0.02589 -0.16892 -0.0178 C -0.15694 -0.01202 -0.14601 2.63523E-007 -0.13351 2.63523E-007 C -0.08889 2.63523E-007 -0.04444 2.63523E-007 4.44444E-006 2.63523E-007 E">
                                      <p:cBhvr>
                                        <p:cTn id="154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Задание №3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Найти координаты вектора а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076720" y="1700280"/>
            <a:ext cx="360360" cy="0"/>
          </a:xfrm>
          <a:prstGeom prst="line">
            <a:avLst/>
          </a:prstGeom>
          <a:ln w="93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1258920" y="3722760"/>
                <a:ext cx="230508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5292720" y="3716280"/>
                <a:ext cx="252576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t xml:space="preserve">)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1430280" y="5157720"/>
                <a:ext cx="196524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r>
                      <m:t xml:space="preserve">)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5607000" y="5084640"/>
                <a:ext cx="196524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г</m:t>
                    </m:r>
                    <m:r>
                      <m:t xml:space="preserve">)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6227640" y="907920"/>
            <a:ext cx="2051280" cy="25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5348 -0.21891 C -0.75087 -0.19163 -0.74966 -0.1632 -0.74671 -0.13639 C -0.74462 -0.11697 -0.74046 -0.11882 -0.7356 -0.10056 C -0.73195 -0.08692 -0.73108 -0.07236 -0.72674 -0.05918 C -0.71164 -0.01272 -0.70105 0.0349 -0.68889 0.08275 C -0.68612 0.11419 -0.68855 0.14632 -0.68455 0.17753 C -0.68004 0.2129 -0.66337 0.25358 -0.65348 0.28687 C -0.64063 0.33079 -0.63316 0.37586 -0.62223 0.42002 C -0.61407 0.45307 -0.604 0.48497 -0.59566 0.51757 C -0.58108 0.46972 -0.57014 0.41863 -0.55782 0.36962 C -0.55261 0.34928 -0.55087 0.32732 -0.54445 0.30744 C -0.54219 0.30074 -0.53959 0.29426 -0.53785 0.28687 C -0.53438 0.27346 -0.53282 0.25913 -0.529 0.24549 C -0.51007 0.17915 -0.49185 0.11303 -0.47778 0.04438 C -0.46858 -0.00093 -0.45382 -0.04577 -0.44011 -0.08877 C -0.43178 -0.11512 -0.43473 -0.11304 -0.429 -0.13893 C -0.42188 -0.17106 -0.41077 -0.20134 -0.40452 -0.23371 C -0.39289 -0.1424 -0.40764 -0.26353 -0.39792 -0.00324 C -0.3974 0.01109 -0.38994 0.03097 -0.38681 0.04438 C -0.38108 0.06888 -0.37431 0.09362 -0.36893 0.11812 C -0.35382 0.18654 -0.33629 0.25289 -0.31789 0.31946 C -0.30591 0.36361 -0.29983 0.41008 -0.28455 0.45284 C -0.28108 0.47318 -0.27796 0.49699 -0.26893 0.51479 C -0.26823 0.5215 -0.26806 0.52866 -0.26667 0.5356 C -0.2658 0.53953 -0.26528 0.54923 -0.26233 0.54715 C -0.25816 0.54461 -0.25938 0.5356 -0.25782 0.52935 C -0.25469 0.51733 -0.25226 0.51664 -0.24671 0.50601 C -0.2198 0.454 -0.19254 0.40291 -0.17119 0.34604 C -0.16389 0.30328 -0.1691 0.32801 -0.15348 0.2723 C -0.14896 0.25058 -0.14462 0.22885 -0.14011 0.20712 C -0.13247 0.16967 -0.13195 0.18677 -0.12223 0.15395 C -0.11685 0.13546 -0.11216 0.1165 -0.10678 0.09755 C -0.10122 0.0779 -0.09636 0.05802 -0.09115 0.0386 C -0.08525 0.01595 -0.07466 -0.00416 -0.06893 -0.02659 C -0.05521 -0.08114 -0.07101 -0.03838 -0.05122 -0.08576 C -0.04375 -0.12945 -0.02848 -0.16806 -0.01789 -0.21013 C -0.01459 -0.19741 -0.01216 -0.18424 -0.00903 -0.17152 C -0.00591 -0.15927 -0.00018 -0.14864 0.00208 -0.13639 C 0.00451 -0.12252 0.0059 -0.10795 0.00885 -0.09455 C 0.01701 -0.05826 0.03003 -0.02936 0.03541 0.00901 C 0.03402 0.13731 0.03385 0.26537 0.03107 0.39366 C 0.0309 0.39852 0.02361 0.41493 0.02222 0.42002 C 0.01388 0.45007 0.01076 0.47665 -0.01563 0.4852 C -0.02639 0.47573 -0.02726 0.45931 -0.03125 0.44383 C -0.03924 0.41146 -0.04601 0.38003 -0.04896 0.34604 C -0.04844 0.31299 -0.05556 0.20712 -0.04011 0.15095 C -0.03855 0.14563 -0.03507 0.14147 -0.03334 0.13615 C -0.02639 0.1135 -0.02396 0.08252 -0.01337 0.06195 C -0.01042 0.04623 -0.00903 0.03536 -0.00452 0.0208 C 0.00052 0.00416 4.16667E-006 0.01109 4.16667E-006 3.34258E-006 E">
                                      <p:cBhvr>
                                        <p:cTn id="189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Задание №4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Найти координаты вектора а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076720" y="1700280"/>
            <a:ext cx="360360" cy="0"/>
          </a:xfrm>
          <a:prstGeom prst="line">
            <a:avLst/>
          </a:prstGeom>
          <a:ln w="93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1258920" y="3740040"/>
                <a:ext cx="202068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4986360" y="3500280"/>
                <a:ext cx="291924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t xml:space="preserve">)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403280" y="5157720"/>
                <a:ext cx="202104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r>
                      <m:t xml:space="preserve">)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5410080" y="5084640"/>
                <a:ext cx="235908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г</m:t>
                    </m:r>
                    <m:r>
                      <m:t xml:space="preserve">)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084720" y="907920"/>
            <a:ext cx="2001960" cy="223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path" presetID="2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7 -0.01331 0.014 -0.02796 0.021 -0.0466 C 0.04 -0.09986 0.045 -0.15179 0.031 -0.15978 C 0.017 -0.1691 -0.01 -0.13182 -0.029 -0.07856 C -0.039 -0.0506 -0.045 -0.02397 -0.047 -0.00399 C -0.05 0.01198 -0.051 0.02796 -0.051 0.0466 C -0.051 0.10652 -0.038 0.15578 -0.023 0.15578 C -0.008 0.15578 0.005 0.10652 0.005 0.0466 C 0.005 0.01864 0.002 -0.00799 -0.003 -0.02663 C -0.005 -0.04261 -0.01 -0.05992 -0.016 -0.07723 C -0.036 -0.13182 -0.063 -0.1691 -0.077 -0.15978 C -0.091 -0.15046 -0.086 -0.09986 -0.066 -0.04527 C -0.058 -0.01997 -0.047 0.00133 -0.036 0.01598 C -0.028 0.02929 -0.019 0.04128 -0.007 0.05326 C 0.029 0.09187 0.065 0.10918 0.075 0.0932 C 0.084 0.07723 0.064 0.03329 0.028 -0.00399 C 0.013 -0.01997 -0.003 -0.03196 -0.016 -0.03994 C -0.028 -0.04793 -0.043 -0.05459 -0.059 -0.05859 C -0.103 -0.0719 -0.141 -0.06791 -0.144 -0.0466 C -0.148 -0.02663 -0.115 0 -0.071 0.01331 C -0.051 0.01864 -0.032 0.0213 -0.017 0.01997 C -0.004 0.01997 0.01 0.01731 0.025 0.01331 C 0.069 0 0.102 -0.02796 0.098 -0.04793 C 0.095 -0.06791 0.057 -0.07323 0.013 -0.05992 C -0.008 -0.05326 -0.027 -0.04394 -0.04 -0.03329 C -0.051 -0.0253 -0.062 -0.01598 -0.074 -0.00399 C -0.109 0.03462 -0.13 0.07723 -0.12 0.0932 C -0.111 0.10918 -0.074 0.09187 -0.039 0.05459 C -0.022 0.03595 -0.008 0.01731 0 0 Z">
                                      <p:cBhvr>
                                        <p:cTn id="224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Задание №5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Найти координаты вектора а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76720" y="1700280"/>
            <a:ext cx="360360" cy="0"/>
          </a:xfrm>
          <a:prstGeom prst="line">
            <a:avLst/>
          </a:prstGeom>
          <a:ln w="93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1258920" y="3645000"/>
                <a:ext cx="2020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5435640" y="3500280"/>
                <a:ext cx="202068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t xml:space="preserve">)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1179360" y="5157720"/>
                <a:ext cx="247032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r>
                      <m:t xml:space="preserve">)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5410080" y="5084640"/>
                <a:ext cx="235908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г</m:t>
                    </m:r>
                    <m:r>
                      <m:t xml:space="preserve">)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156360" y="981000"/>
            <a:ext cx="2117520" cy="230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path" presetID="3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5 0.03196 0.037 0.06524 0.055 0.07856 C 0.082 0.09986 0.108 0.10785 0.113 0.0972 C 0.117 0.08655 0.099 0.05992 0.072 0.03861 C 0.054 0.0253 0.021 0.01598 -0.008 0.01465 C -0.036 0.01598 -0.07 0.0253 -0.088 0.03861 C -0.115 0.05992 -0.133 0.08655 -0.128 0.0972 C -0.123 0.10785 -0.097 0.09986 -0.071 0.07856 C -0.053 0.06524 -0.03 0.03196 -0.016 0 C -0.001 -0.03329 0.009 -0.07723 0.009 -0.10519 C 0.009 -0.14779 0.002 -0.18108 -0.008 -0.18108 C -0.017 -0.18108 -0.025 -0.14779 -0.025 -0.10519 C -0.025 -0.07723 -0.014 -0.03329 0 0 Z">
                                      <p:cBhvr>
                                        <p:cTn id="260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7T16:02:00Z</dcterms:created>
  <dc:creator>Lena</dc:creator>
  <dc:description/>
  <dc:language>en-US</dc:language>
  <cp:lastModifiedBy>Lena</cp:lastModifiedBy>
  <dcterms:modified xsi:type="dcterms:W3CDTF">2006-04-09T18:15:44Z</dcterms:modified>
  <cp:revision>10</cp:revision>
  <dc:subject/>
  <dc:title>Слайд 1</dc:title>
</cp:coreProperties>
</file>