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242-DBC6-4E4F-88F4-269EBC23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CE4-513B-4C72-ABC5-2E196BF0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A0A-0208-4CF8-A684-68DC16AF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98F-2079-4C6B-B6CB-1EB41BD9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29A-4D86-4B02-83C9-C446497C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357-0941-493C-9F00-4042E1B0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4BF-325B-4188-A13A-605D731D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F75-8E17-4888-A8A8-73AEBD9F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309-7881-42AB-A1FE-0CBB157D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1F5-6897-49A8-B31F-191FEB9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629-17AA-4616-B3DB-F5348C2F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ED2-1582-49FC-B8B6-F4CBA034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A5A5-6998-4C15-AB9A-43A568971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mbria"/>
              </a:rPr>
              <a:t>Русская монетная система </a:t>
            </a:r>
            <a:r>
              <a:rPr b="1" lang="en-US" sz="4400" spc="-1" strike="noStrike">
                <a:solidFill>
                  <a:srgbClr val="953735"/>
                </a:solidFill>
                <a:latin typeface="Cambria"/>
              </a:rPr>
              <a:t>XVI – XVII </a:t>
            </a:r>
            <a:r>
              <a:rPr b="1" lang="ru-RU" sz="4400" spc="-1" strike="noStrike">
                <a:solidFill>
                  <a:srgbClr val="953735"/>
                </a:solidFill>
                <a:latin typeface="Cambria"/>
              </a:rPr>
              <a:t>в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9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3252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38080" y="761760"/>
            <a:ext cx="74678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</a:t>
            </a:r>
            <a:r>
              <a:rPr b="1" lang="ru-RU" sz="3200" spc="-1" strike="noStrike">
                <a:solidFill>
                  <a:srgbClr val="632523"/>
                </a:solidFill>
                <a:latin typeface="Cambria"/>
              </a:rPr>
              <a:t>1612 г.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оисходит очередное понижение веса копейки </a:t>
            </a:r>
            <a:r>
              <a:rPr b="1" lang="ru-RU" sz="3200" spc="-1" strike="noStrike">
                <a:solidFill>
                  <a:srgbClr val="632523"/>
                </a:solidFill>
                <a:latin typeface="Cambria"/>
              </a:rPr>
              <a:t>(до 0, 51 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0" t="0" r="0" b="11020"/>
          <a:stretch/>
        </p:blipFill>
        <p:spPr>
          <a:xfrm>
            <a:off x="4851360" y="2286000"/>
            <a:ext cx="359244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4606920" y="4952880"/>
            <a:ext cx="40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неж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емп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ручной чеканки. Конец XVII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55520" y="-982800"/>
            <a:ext cx="3333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947880" y="2606760"/>
            <a:ext cx="3579840" cy="19461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960480" y="4946760"/>
            <a:ext cx="33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емп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чеканы) для ручной чеканки мо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XV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9144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ажной страницей в истории русской монетной чеканки является выпуск монет правительством </a:t>
            </a:r>
            <a:r>
              <a:rPr b="1" lang="ru-RU" sz="3200" spc="-1" strike="noStrike">
                <a:solidFill>
                  <a:srgbClr val="632523"/>
                </a:solidFill>
                <a:latin typeface="Cambria"/>
              </a:rPr>
              <a:t>Народного ополчения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, осуществлявшейся на денежном дворе в Ярославле в </a:t>
            </a:r>
            <a:r>
              <a:rPr b="1" lang="ru-RU" sz="3200" spc="-1" strike="noStrike">
                <a:solidFill>
                  <a:srgbClr val="632523"/>
                </a:solidFill>
                <a:latin typeface="Cambria"/>
              </a:rPr>
              <a:t>1611 – 1613 гг.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по весовой норме, соответствующей заниженному весу монет интервентов, но от имени царя Федора Иванович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349280" y="2743200"/>
            <a:ext cx="2362320" cy="2894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80880" y="60948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авительство первого царя новой династии </a:t>
            </a:r>
            <a:r>
              <a:rPr b="1" lang="ru-RU" sz="3200" spc="-1" strike="noStrike">
                <a:solidFill>
                  <a:srgbClr val="632523"/>
                </a:solidFill>
                <a:latin typeface="Cambria"/>
              </a:rPr>
              <a:t>Михаила Федорович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1613-1645) приняло весовую нор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0, 51 г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, или </a:t>
            </a: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400 копеек из гривенки серебра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339920" y="57913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Федорович Ром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419720" y="3352680"/>
            <a:ext cx="3876480" cy="1735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4724280" y="529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ейка Михаила Федорович, 16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91404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дальнейшем в течение всего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XVII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. вес копейки постепенно снижался и в начале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в. составлял уже менее половины первоначального, установленного реформой 153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Овал 3"/>
          <p:cNvGrpSpPr/>
          <p:nvPr/>
        </p:nvGrpSpPr>
        <p:grpSpPr>
          <a:xfrm>
            <a:off x="817560" y="3687840"/>
            <a:ext cx="1560600" cy="1401840"/>
            <a:chOff x="817560" y="3687840"/>
            <a:chExt cx="1560600" cy="1401840"/>
          </a:xfrm>
        </p:grpSpPr>
        <p:pic>
          <p:nvPicPr>
            <p:cNvPr id="77" name="Овал 3" descr=""/>
            <p:cNvPicPr/>
            <p:nvPr/>
          </p:nvPicPr>
          <p:blipFill>
            <a:blip r:embed="rId1"/>
            <a:stretch/>
          </p:blipFill>
          <p:spPr>
            <a:xfrm>
              <a:off x="817560" y="3687840"/>
              <a:ext cx="15606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89000" y="3913200"/>
              <a:ext cx="102240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855880" y="3716280"/>
            <a:ext cx="1560600" cy="140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4818240" y="3697200"/>
            <a:ext cx="1562040" cy="1408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912960" y="41036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0,48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2968560" y="41036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0,4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4932360" y="4119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0,38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4"/>
          <a:stretch/>
        </p:blipFill>
        <p:spPr>
          <a:xfrm>
            <a:off x="6781680" y="3697200"/>
            <a:ext cx="1560600" cy="1408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3"/>
          <p:cNvSpPr/>
          <p:nvPr/>
        </p:nvSpPr>
        <p:spPr>
          <a:xfrm>
            <a:off x="6832440" y="41036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0,28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706320" y="513864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-е г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6"/>
          <p:cNvSpPr/>
          <p:nvPr/>
        </p:nvSpPr>
        <p:spPr>
          <a:xfrm>
            <a:off x="2687760" y="51436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-е г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4818240" y="51246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82-168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8"/>
          <p:cNvSpPr/>
          <p:nvPr/>
        </p:nvSpPr>
        <p:spPr>
          <a:xfrm>
            <a:off x="6781680" y="51069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9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1760" y="68580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и царях Михаиле Федоровиче и Алексее Михайловиче кроме копеек и денег чеканились </a:t>
            </a: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полушки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, весившие 0,11 – 0, 14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нтересным эпизодом в истории русского денежного обращения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XVII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в. Является проникновение в него в 20-30-х гг. так называемых </a:t>
            </a: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«корело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ни чеканились по договоренности с русским правительством от имени датского короля Христиана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ля обеспечения торговли датских купцов в Лапланд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360" y="69840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Различают два типа корело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 именем царя Михаила Федоровича и латинской буквой Р, помещаемой под всадником (это знак копенгагенского мюнцмейстера Иоганна Пос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 именем  и титулом датского короля, переданными латинскими или русскими буквами, но со знаком московского денежного двора – «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676520" y="4924440"/>
            <a:ext cx="3240000" cy="1514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5181480" y="5357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релки« с именем короля Христиана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Корелки» чеканились из серебра худшего качества, чем русские мон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авительство было вынуждено предпринять специальные меры для их изъя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1620 г. в ряд торговых городов был отправлен царский указ, запрещающий торговлю на «воровские копейки» и грозивший смертной казнью за его наруш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mbria"/>
              </a:rPr>
              <a:t>Монетная реформа </a:t>
            </a:r>
            <a:br>
              <a:rPr sz="4400"/>
            </a:br>
            <a:r>
              <a:rPr b="1" lang="ru-RU" sz="4400" spc="-1" strike="noStrike">
                <a:solidFill>
                  <a:srgbClr val="632523"/>
                </a:solidFill>
                <a:latin typeface="Cambria"/>
              </a:rPr>
              <a:t>1654-1663 г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mbria"/>
              </a:rPr>
              <a:t>Основные задачи реформы</a:t>
            </a:r>
            <a:r>
              <a:rPr b="0" lang="en-US" sz="2800" spc="-1" strike="noStrike">
                <a:solidFill>
                  <a:srgbClr val="632523"/>
                </a:solidFill>
                <a:latin typeface="Cambria"/>
              </a:rPr>
              <a:t>:</a:t>
            </a:r>
            <a:r>
              <a:rPr b="0" lang="ru-RU" sz="2800" spc="-1" strike="noStrike">
                <a:solidFill>
                  <a:srgbClr val="632523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вод в обращение крупных номиналов монет, прежде всего серебряных рублевиков по образцу западноевропейских тале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иведение общерусской денежной системы в соответствии с украинской, основанной на свободном обращении западноевропейских талеров и разменной польской мон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440" y="6858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еформа началась с чеканки и ввода в обращение </a:t>
            </a:r>
            <a:r>
              <a:rPr b="1" lang="ru-RU" sz="2600" spc="-1" strike="noStrike">
                <a:solidFill>
                  <a:srgbClr val="632523"/>
                </a:solidFill>
                <a:latin typeface="Cambria"/>
              </a:rPr>
              <a:t>серебряных рублей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1" lang="ru-RU" sz="2600" spc="-1" strike="noStrike">
                <a:solidFill>
                  <a:srgbClr val="632523"/>
                </a:solidFill>
                <a:latin typeface="Cambria"/>
              </a:rPr>
              <a:t>полуполтин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а также </a:t>
            </a:r>
            <a:r>
              <a:rPr b="1" lang="ru-RU" sz="2600" spc="-1" strike="noStrike">
                <a:solidFill>
                  <a:srgbClr val="632523"/>
                </a:solidFill>
                <a:latin typeface="Cambria"/>
              </a:rPr>
              <a:t>медных полтин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ес рубля приравнивался к весу талера (28-29 г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Овал 3"/>
          <p:cNvGrpSpPr/>
          <p:nvPr/>
        </p:nvGrpSpPr>
        <p:grpSpPr>
          <a:xfrm>
            <a:off x="1158840" y="2633760"/>
            <a:ext cx="1944720" cy="1706400"/>
            <a:chOff x="1158840" y="2633760"/>
            <a:chExt cx="1944720" cy="1706400"/>
          </a:xfrm>
        </p:grpSpPr>
        <p:pic>
          <p:nvPicPr>
            <p:cNvPr id="99" name="Овал 3" descr=""/>
            <p:cNvPicPr/>
            <p:nvPr/>
          </p:nvPicPr>
          <p:blipFill>
            <a:blip r:embed="rId1"/>
            <a:stretch/>
          </p:blipFill>
          <p:spPr>
            <a:xfrm>
              <a:off x="1158840" y="2633760"/>
              <a:ext cx="19447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487520" y="2901960"/>
              <a:ext cx="12920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4"/>
          <p:cNvSpPr/>
          <p:nvPr/>
        </p:nvSpPr>
        <p:spPr>
          <a:xfrm>
            <a:off x="1409760" y="2860560"/>
            <a:ext cx="1447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у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5"/>
          <p:cNvGrpSpPr/>
          <p:nvPr/>
        </p:nvGrpSpPr>
        <p:grpSpPr>
          <a:xfrm>
            <a:off x="5810400" y="2633760"/>
            <a:ext cx="1942920" cy="1706400"/>
            <a:chOff x="5810400" y="2633760"/>
            <a:chExt cx="1942920" cy="1706400"/>
          </a:xfrm>
        </p:grpSpPr>
        <p:pic>
          <p:nvPicPr>
            <p:cNvPr id="103" name="Овал 5" descr=""/>
            <p:cNvPicPr/>
            <p:nvPr/>
          </p:nvPicPr>
          <p:blipFill>
            <a:blip r:embed="rId2"/>
            <a:stretch/>
          </p:blipFill>
          <p:spPr>
            <a:xfrm>
              <a:off x="5810400" y="2633760"/>
              <a:ext cx="19429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135840" y="2901960"/>
              <a:ext cx="12920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6"/>
          <p:cNvSpPr/>
          <p:nvPr/>
        </p:nvSpPr>
        <p:spPr>
          <a:xfrm>
            <a:off x="5943600" y="2903400"/>
            <a:ext cx="17524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опе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3809880" y="3200400"/>
            <a:ext cx="1295640" cy="0"/>
          </a:xfrm>
          <a:prstGeom prst="line">
            <a:avLst/>
          </a:prstGeom>
          <a:ln cap="rnd"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3711600" y="3525840"/>
            <a:ext cx="1463760" cy="165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4"/>
          <a:stretch/>
        </p:blipFill>
        <p:spPr>
          <a:xfrm>
            <a:off x="1138320" y="4572000"/>
            <a:ext cx="1938240" cy="170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5"/>
          <a:stretch/>
        </p:blipFill>
        <p:spPr>
          <a:xfrm>
            <a:off x="5867280" y="4572000"/>
            <a:ext cx="1938600" cy="17064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ая соединительная линия 12"/>
          <p:cNvSpPr/>
          <p:nvPr/>
        </p:nvSpPr>
        <p:spPr>
          <a:xfrm>
            <a:off x="3795840" y="5105520"/>
            <a:ext cx="1295280" cy="0"/>
          </a:xfrm>
          <a:prstGeom prst="line">
            <a:avLst/>
          </a:prstGeom>
          <a:ln cap="rnd"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6"/>
          <a:stretch/>
        </p:blipFill>
        <p:spPr>
          <a:xfrm>
            <a:off x="3735360" y="5424480"/>
            <a:ext cx="1463760" cy="165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4"/>
          <p:cNvSpPr/>
          <p:nvPr/>
        </p:nvSpPr>
        <p:spPr>
          <a:xfrm>
            <a:off x="5961240" y="4856040"/>
            <a:ext cx="17524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опе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1301760" y="4545000"/>
            <a:ext cx="1663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лу-пол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335640" y="3228840"/>
            <a:ext cx="2149560" cy="1689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61760" y="685800"/>
            <a:ext cx="73911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овая система вводившихся в обращение монетных единиц не отменяла старую – серебряные проволочные копейки оставались в денежном обращении и чеканка их не прекращала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914400" y="3228840"/>
            <a:ext cx="2857680" cy="14194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990720" y="4800600"/>
            <a:ext cx="27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54. Серебряный рубль царя Алексея Михайло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4038480" y="3235320"/>
            <a:ext cx="2297160" cy="16527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4060800" y="5060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полтинник. 1654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mbria"/>
              </a:rPr>
              <a:t>Денежная реформа 1535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7720" y="1752480"/>
            <a:ext cx="4038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енежная реформа 1535 г., известная в литературе как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еформа Елены Глинской,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была осуществлена правительством в малолетство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вана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55520" y="-1646280"/>
            <a:ext cx="280044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5423040" y="1981080"/>
            <a:ext cx="2522520" cy="30974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4665600" y="51148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нская Елена Васильевна, великая русская княги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оизводилась чеканка </a:t>
            </a:r>
            <a:r>
              <a:rPr b="0" lang="ru-RU" sz="2800" spc="-1" strike="noStrike">
                <a:solidFill>
                  <a:srgbClr val="632523"/>
                </a:solidFill>
                <a:latin typeface="Cambria"/>
              </a:rPr>
              <a:t>полуполтинников (четвертаков), гривенников, рублев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а одной стороне рублевика помещалось традиционное изображение царя, скачущего на коне и держащего в правой руке скипе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а другой стороне монеты был изображен двуглавый орел, увенчанный коро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менно на монетах зафиксирован новый царский титул «царь и великий князь всея Великая и Малыя России», отразивший воссоединение Украины и Росс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160" y="53316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ыпуск монет крупных номиналов потребовал перехода от ручной к машинной чеканке, что явилось непреодолимой трудностью на пути рефор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ля их чеканки был открыт специальный денежный двор, называвший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Новым Московским Английским денежным двором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5830920" y="960480"/>
            <a:ext cx="2320920" cy="37623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"/>
          <p:cNvSpPr/>
          <p:nvPr/>
        </p:nvSpPr>
        <p:spPr>
          <a:xfrm>
            <a:off x="5451480" y="4876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емпели и станок для чеканки монет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ашины для чеканки новых момент – </a:t>
            </a: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«молотовые снаряды»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часто ломались, монетные штемпели быстро изнашивались, остро ощущалась нехватка квалифицированных мастеров денежного де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</a:t>
            </a:r>
            <a:r>
              <a:rPr b="0" lang="ru-RU" sz="2800" spc="-1" strike="noStrike">
                <a:solidFill>
                  <a:srgbClr val="632523"/>
                </a:solidFill>
                <a:latin typeface="Cambria"/>
              </a:rPr>
              <a:t>1655 году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еканку монет новых крупных номиналов пришлось прекрат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дные алтыны стали опять чеканить на обрезках расплющенной проволоки, вернувшись к ручной технике чека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666880" y="3962520"/>
            <a:ext cx="3810240" cy="174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53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1655 году правительство выпустило в обращение так называемые </a:t>
            </a: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«ефимки с признаком»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, убедившись в невозможности наладить чеканку и ввести в обращение рублев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mbria"/>
              </a:rPr>
              <a:t>Ефимок официально приравнивался к 64 копейкам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, т. е. к среднему числу копеечных монет, изготовлявшихся из одного тале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805040" y="5562720"/>
            <a:ext cx="54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фим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1655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неудавшейся денежной ре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440" y="6854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1655 г.  начинается чеканка медных проволочных копеек, приравненных в цене к серебряным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ни чеканились в громадном количестве сразу на нескольких монетных домах – в Москве, Новгороде, Пскове, Кукенойс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дные копейки, постоянно падая в цене в сравнении с серебряными, находились в обращении до 1663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азный курс серебряных и медных монет привел к тяжелому расстройству денежно-рыночных отнош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езультатом этого явилось московское восстание </a:t>
            </a: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1662 г.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«медный бунт»,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оторый поставил правительство перед необходимостью восстановить дореформенную денежную сист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125360" y="685800"/>
            <a:ext cx="6858000" cy="47052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"/>
          <p:cNvSpPr/>
          <p:nvPr/>
        </p:nvSpPr>
        <p:spPr>
          <a:xfrm>
            <a:off x="1828800" y="55627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ный бунт. 1662. (Эрнест Лисснер, 193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14040" y="9144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смотря на общую неудачу реформы Алексея Михайловича, она все же оставила и положительный след в истории русского денежного хозяйств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кончательная ликвидация старых правовых норм свободной чеканки моне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оизводство монет стало исключительно государственным д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09120" y="99072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правление царя </a:t>
            </a: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Федора Алексеевич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(1676 - 1682) вес копейки сохранялся неизменным, т. е. серебряный рубль содержал 46 г сереб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онеты этого царя отличаются особым изяществом выполнения штемпелей – четкостью рисунка и надпис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703840" y="1450800"/>
            <a:ext cx="2551320" cy="30322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703840" y="4673520"/>
            <a:ext cx="27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ор Алексеевич Ром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762120" y="838080"/>
            <a:ext cx="76197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овое снижение веса копейки (до 0,38 г) было осуществлено в самом начале регентства </a:t>
            </a: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царевны Софьи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этот период серебряные монеты (копейки и денги) чеканились раздельно от имени каждого из братьев-соправителей – Ивана и Петра Алексеевич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895480" cy="1779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2819520" y="5943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евна Соф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mbria"/>
              </a:rPr>
              <a:t>Цель рефор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66320" y="1828800"/>
            <a:ext cx="7086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нификация русской денежной системы, ликвидация кризиса денежного обращения, разразившегося во время правления Василия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в начале 30-х 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66680" y="99072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усская денежно-весовая система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XVI – XVII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в. стала одним из важных рычагов в системе организации власти и управления единого государ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еслучайно, именно монетная реформа явилась одной из самых первых в преобразовательных мероприятиях Великого Пет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mbria"/>
              </a:rPr>
              <a:t>Значение рефор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880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енежная реформа знаменовала собой завершение процесса образования Русского централизованного государства. В ее результате на основе двух местных монетных систем – московской и новгородской – была создана единая общегосударственная денеж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38080" y="837720"/>
            <a:ext cx="6019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амой крупной монетой в новой системе стала </a:t>
            </a: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серебряная копейк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, или </a:t>
            </a: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новгородк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вое название она получила по изображению на лицевой стороне всадника с копь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амая маленькая монета – </a:t>
            </a:r>
            <a:r>
              <a:rPr b="1" lang="ru-RU" sz="2800" spc="-1" strike="noStrike">
                <a:solidFill>
                  <a:srgbClr val="632523"/>
                </a:solidFill>
                <a:latin typeface="Cambria"/>
              </a:rPr>
              <a:t>полушк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, равная полови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енги или четверти копей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а ней была изображена пт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791320" y="1371600"/>
            <a:ext cx="2781360" cy="1279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943600" y="28954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яная копейка Елены Глинской, 153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146640" y="4038480"/>
            <a:ext cx="2190960" cy="1095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638172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шка, 153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914400"/>
            <a:ext cx="7467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результате реформы вес монет был официально пониж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з гривенки серебра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204,756 г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 стали чеканить монет не на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2,6 рубля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 прежде, а на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3 рубля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Теоретический и практический вес копейки стал равен </a:t>
            </a:r>
            <a:r>
              <a:rPr b="1" lang="ru-RU" sz="3200" spc="-1" strike="noStrike">
                <a:solidFill>
                  <a:srgbClr val="632523"/>
                </a:solidFill>
                <a:latin typeface="Cambria"/>
              </a:rPr>
              <a:t>0,68 г</a:t>
            </a: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Этот вес копейка сохраняла неизменным в течении почти 100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38080" y="762120"/>
            <a:ext cx="78487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еканка монет осуществлялась на денежных дворах </a:t>
            </a: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Москвы, Новгорода и Пскова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Место чеканки обозначалось на монетах начальными буквами городов </a:t>
            </a: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М, МО (Москва); Н, НО (Новгород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ПС (Пск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Москве и Новгороде эти знаки появились при царе </a:t>
            </a: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Фёдоре Ивановиче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1584-1598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400" y="1219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ыпуск в обращение копеек не прекращался ни при одном ца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Копейка служила основной монетной единицей вплоть до реформы Петра </a:t>
            </a:r>
            <a:r>
              <a:rPr b="0" lang="en-US" sz="3200" spc="-1" strike="noStrike">
                <a:solidFill>
                  <a:srgbClr val="632523"/>
                </a:solidFill>
                <a:latin typeface="Cambri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, на протяжении всего этого периода времени ее тип не изменя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45840" y="533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ес копейки, установленный рефор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0,68 г), сохранился неизменным до Смутного времени начала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XVII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ействия поляков в Москве и шведов в Новгороде сильно подорвало русскую экономи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033560" y="297180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</a:t>
            </a:r>
            <a:r>
              <a:rPr b="1" lang="ru-RU" sz="2400" spc="-1" strike="noStrike">
                <a:solidFill>
                  <a:srgbClr val="632523"/>
                </a:solidFill>
                <a:latin typeface="Cambria"/>
              </a:rPr>
              <a:t>Москв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чеканили монеты пониженного веса (0,55-0,56 г) от имени королевича Владислава Жигимонтов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2971800"/>
            <a:ext cx="38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</a:t>
            </a:r>
            <a:r>
              <a:rPr b="1" lang="ru-RU" sz="2400" spc="-1" strike="noStrike">
                <a:solidFill>
                  <a:srgbClr val="632523"/>
                </a:solidFill>
                <a:latin typeface="Cambria"/>
              </a:rPr>
              <a:t>Новгород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 легковесную копейку подлинными штемпелями Василия Шуйского и поддельными штемпелями Михаила Федоров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User</cp:lastModifiedBy>
  <dcterms:modified xsi:type="dcterms:W3CDTF">2022-11-18T13:48:39Z</dcterms:modified>
  <cp:revision>35</cp:revision>
  <dc:subject/>
  <dc:title>Название презентации</dc:title>
</cp:coreProperties>
</file>