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208E-28BB-4030-B256-3AB5D327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8864-F00A-4271-A0D6-29AEC9B4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9B27-DE91-489C-AF04-07185C63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1418-BC84-42F8-B4F4-B3C41E4E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3014-DC63-4543-983F-C7A99BAC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0C9B-A0F3-4099-8B06-B002E672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8524-ACCF-4737-BFC0-694F6653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6C68-ACD8-4F89-A76A-AC5B29D8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8216-6F70-41D1-B8E2-C40B4DBE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20FD-FD09-48BF-AEDD-9DD87D7D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EF8D-F449-4439-9F29-9196D0B5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10A2-07A9-481B-B93B-B70F756F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E03F-E74D-46FF-867B-19ADAF5F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889A-DB91-4C11-817D-E16842BD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23D8-531E-4E54-BACB-887C211E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EF28-D2E9-4C64-A4FB-B83FDF39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CE74-95AE-439E-83DA-9D563D3A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CF20-BD4B-4D8F-AD47-12126D65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94DA-39E1-44F0-AC00-EEA602F3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F7C7-1284-49ED-AF73-43AD78F6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720-4D95-486C-8FCB-FFF74F79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04CE-89FC-4EFF-984A-8F5D6994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6BD4-1D0C-4AC3-AC3C-AD04E664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4598-76B4-467B-920C-74198C18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841B-803D-45B4-9091-878FDD65EC7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4C37-7239-46A9-B0D5-328292C343D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2565000"/>
            <a:ext cx="777564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НЕТРАДИЦИОННЫЕ ТЕХНИКИ РИСОВАНИЯ С ДЕТЬМИ ДОШКОЛЬНОГО ВОЗРАСТА</a:t>
            </a:r>
            <a:br>
              <a:rPr sz="4000"/>
            </a:b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356000" y="5516280"/>
            <a:ext cx="47880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Ebrima"/>
              </a:rPr>
              <a:t>Подготовила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Ebrima"/>
              </a:rPr>
              <a:t>Воспитатель Стулова Т.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400" spc="-1" strike="noStrike">
                <a:solidFill>
                  <a:srgbClr val="ff0000"/>
                </a:solidFill>
                <a:latin typeface="Comic Sans MS"/>
              </a:rPr>
              <a:t>Рисование ладонями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жно считать этот способ следующим шагом после рисования пальцами. Здесь будет задействована вся ладонь. Краски можно использовать те же, что и для пальцеграфии. Вот несколько вариантов рисования ладонями: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· Цыплёнок. Следует нанести жёлтую краску на ладонь и оставить отпечаток на бумаге — получилось тело. Затем нанести краску на кулачок и таким образом сделать цыплёнку головку. Осталось добавить клюв, лапки и глаза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· Рыбка. Для этого можно нанести на ладонь разные цвета, затем оставить отпечаток на бумаге и добавить к изображению глазки и плавники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· Дерево. Для этого следует использовать коричневую или чёрную краску для отпечатка ладони. Затем получившееся дерево украсить листьями с помощью пальцеграфии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· Павлин. Эта красивая птица получится из двух или более отпечатков ладошек. Затем следует пририсовать голову, лапы, глаза и украсить хвост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· Цветок. Стоит использовать яркую краску, чтобы оставить отпечаток. Затем к нему пририсовать стебель с листочками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116000" y="3500280"/>
            <a:ext cx="3357720" cy="2516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419904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4000" y="115560"/>
            <a:ext cx="76960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Рисование сыпучими веществами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ля этого способа можно использовать соль, песок или какую-либо крупу. Рисование происходит поэтапно. Сначала следует нанести на бумагу какой-либо рисунок. Затем в определённые места капнуть клей ПВА и посыпать их солью или крупой. После засыхания следует стряхнуть лишнее. Получится необычный объёмный рисунок. Можно поэкспериментировать с этим способом рисования на следующие тематики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· Зимний лес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· Фейерверки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· Вьюга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· Узор на крыльях бабочки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· Цветы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348000" y="2133720"/>
            <a:ext cx="520380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7696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ластилинограф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Размазывани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самый упрощенный способ пластилинографии, доступный даже самым маленьким. Пластилин размазывается пальчиками по гладкой поверхности. Можно использовать шабло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435640" y="2276640"/>
            <a:ext cx="2952720" cy="3933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11280" y="2492280"/>
            <a:ext cx="43671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7696080" cy="29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Штампинг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та техника довольно простая в реализации и подойдёт даже младшим детсадовским группам. Смысл в том, чтобы обмакнуть какой-либо штамп в краску и оставить на бумаге отпечаток. Причём в качестве штампа можно выбрать что угодно, например, следующее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· Листь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· Овощи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· Фрукт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· Пробк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435640" y="2133720"/>
            <a:ext cx="3181320" cy="4449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187280" y="3357720"/>
            <a:ext cx="398016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же начиная с младшего дошкольного возраста можно использовать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рисование методом «тычка» жесткой полусухой кистью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Данная техника доступна и интересна детям, они легко ее осваиваю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Рекомендации при рисовании методом «тычка»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раска должна быть густой (консистенция сметаны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источка должна быть жесткой и сухой, т.е. ее не надо окунать в вод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раски на кисточку нужно набирать мало, только на ее кра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и рисовании кисточка должна находиться в вертикальном положении, тогда ворс расплющивается и получается большая «пушистая» точ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сле каждого промывания кисточку следует насухо вытере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411280" y="3616200"/>
            <a:ext cx="48848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7696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Советы родителям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атериалы (карандаши, краски, кисти, фломастеры, восковые карандаши и т.д.) необходимо располагать в поле зрения детей, чтобы у них возникло желание творить; Знакомьте их с окружающим миром вещей, живой и неживой природой, предметами изобразительного искусства, предлагайте рисовать всё, о чем дети любят говорить, и беседовать с ними обо всём, что они любят рисовать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е критикуйте детей и не торопите, наоборот, время от времени стимулируйте занятия детей рисованием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валите, помогайте им, доверяйте им. Знайте, каждый ребёнок индивидуален!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626112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https://ds04.infourok.ru/uploads/ex/007f/00019aa6-fc682679/img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_AlgeriusCapsNr"/>
              </a:rPr>
              <a:t>Актуальность: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Antikvarika"/>
              </a:rPr>
              <a:t>Актуальность нетрадиционного рисования состоит в том, что изобразительная продуктивная деятельность с использованием нетрадиционных техник рисования является наиболее благоприятной для творческого развития способности дет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Antikvarika"/>
              </a:rPr>
              <a:t>На занятиях решаются задачи всестороннего развития детей, которое необходимо для успешного обучения в школе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Antikvarika"/>
              </a:rPr>
              <a:t>В процессе работы у детей формируются мыслительные операции (анализ, синтез, сравнение и др.), навыки работы в коллективе, умение согласовывать свои действия с действиями сверстник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9324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26560" y="692280"/>
            <a:ext cx="7696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се дети любят рисовать. Испытав интерес к творчеству, они сами находят нужные способы. Но далеко не у всех это получается, тем более, что многие дети только начинают овладевать художественной деятельностью. Дети любят узнавать новое, с удовольствием учатся. Именно обучаясь, получая знания, навыки ребенок чувствует себя уверенн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исование необычными материалами, оригинальными техниками позволяет детям ощутить незабываемые положительные эмоции. Нетрадиционное рисование раскрывает новые возможности использования хорошо знакомых им предметов в качестве художественных материалов, удивляет своей непредсказуемостью. Оригинальное рисование без кисточки и карандаша расковывает ребенка, позволяет почувствовать краски, их характер, настроение. Незаметно для себя дети учатся наблюдать, думать, фантазировать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7705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10 причин использовать для развития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ребёнка нетрадиционные техники рисова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mic Sans MS"/>
              </a:rPr>
              <a:t>Заниматься рисованием вообще и рисовать оригинальными способами в  частности очень полезно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mic Sans MS"/>
              </a:rPr>
              <a:t>Расширение кругозор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mic Sans MS"/>
              </a:rPr>
              <a:t>Обогащение сенсорного опыт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mic Sans MS"/>
              </a:rPr>
              <a:t>Развитие познавательного интерес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mic Sans MS"/>
              </a:rPr>
              <a:t>Развитие нестандартного мышле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mic Sans MS"/>
              </a:rPr>
              <a:t>Развитие творческого самовыраже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mic Sans MS"/>
              </a:rPr>
              <a:t>Стимуляция эмоционального интеллект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mic Sans MS"/>
              </a:rPr>
              <a:t>Стимуляция наблюдательности и любознательност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mic Sans MS"/>
              </a:rPr>
              <a:t>Стимуляция мелкой моторики и технических умени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mic Sans MS"/>
              </a:rPr>
              <a:t>Формирование потребности к созида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mic Sans MS"/>
              </a:rPr>
              <a:t>Формирование эстетического вкуса и художественной чуткост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696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Существует много техник нетрадиционного рисования, их необычность состоит в том, что они позволяют детям быстро достичь желаемого результата. Мы рассмотрим такие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исование смятой бумагой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ттиск пробкам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исование ватными палочками (метод тычка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ластилинограф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исование пальчиками и ладошкой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исование манной крупой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ляксограф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ычок жесткой кистью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Эти техники способствуют развитию у ребёнка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елкой моторики рук и тактильного восприятия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странственной ориентировки на листе бумаги, глазомера и зрительного восприятия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нимания и усидчивости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зобразительных навыков и умений, наблюдательности, эстетического восприятия, эмоциональной отзывчивости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роме того, в процессе этой деятельности у дошкольника формируются навыки контроля и самоконтрол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ждая из этих техник - это маленькая игра. Их использование позволяет детям чувствовать себя раскованнее, смелее, непосредственнее, развивает воображение, дает полную свободу для самовыраже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651640" y="981000"/>
            <a:ext cx="24638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Рисование мятой бумаго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ля этого способа удобней использовать гуашь. Понадобится небольшой кусочек бумаги, который необходимо смять. Затем обмакнуть этот комок в краску (при необходимости в гуашь следует добавить воды) и начать прикладывать его к бумаге. Рисунок при этом получается воздушный и лёгкий. Вот несколько идей, что можно нарисовать таким способом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етки сирени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дуванчики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блака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Заснеженные ели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Цветущий луг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ыб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92360" y="3141720"/>
            <a:ext cx="511668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Нетрадиционная техника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: 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рисование ватными палочками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Цель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знакомить детей с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нетрадиционной техникой рисования - рисование ватными палочкам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звивать интерес к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нетрадиционном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изображению на бумаге, развивать мелкую моторику рук, развивать внимание и мышле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Материал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гуашь,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атные палочк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листы тонированной бумаги , либо белой, стаканчики с водой, салфет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Рисунок 2" descr="https://i07.fotocdn.net/s10/153/public_pin_l/177/2453188760.jpg"/>
          <p:cNvPicPr/>
          <p:nvPr/>
        </p:nvPicPr>
        <p:blipFill>
          <a:blip r:embed="rId1"/>
          <a:stretch/>
        </p:blipFill>
        <p:spPr>
          <a:xfrm>
            <a:off x="1042920" y="2781360"/>
            <a:ext cx="747396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76248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Кляксография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— раздувание капель краски через трубочку с непредсказуемым эффектом случайного результата, который затем дорабатывается с помощью дополнительной прорисовки (цветы, салют, звёзды и т. д.) Такое творческое занятие не только увлекает, но и укрепляет здоровье, поскольку одновременно является артикуляционной гимнастикой, следовательно, оказывает благотворное воздействие на дыхательную систем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Рисунок 2" descr="http://prakti4no.ru/wp-content/uploads/2016/04/klyaksografia-4.jpg"/>
          <p:cNvPicPr/>
          <p:nvPr/>
        </p:nvPicPr>
        <p:blipFill>
          <a:blip r:embed="rId1"/>
          <a:stretch/>
        </p:blipFill>
        <p:spPr>
          <a:xfrm>
            <a:off x="1332000" y="3213000"/>
            <a:ext cx="727236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Пальцеграф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или рисование пальчиками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ый простой и распространённый способ нетрадиционной техники — рисование подушечками пальцев. Для этого хорошо подходят специальные пальчиковые краски, также можно использовать гуашь или акварель, предварительно намочив её водой. Всё, что требуется от ребёнка, — это обмакнуть палец в краску и оставить на бумаге отпечаток. Таким образом интересно разукрашивать шаблоны (их можно распечатать или же нарисовать от руки)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· К голому дереву добавить листьев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· На стебель и сердцевину — лепестки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· Для божьей коровки сделать пятнышки на спине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· Для новогодней ёлки — игрушки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· Белые пятна на шляпке мухомора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· Пятна у бабочек на крылышках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63640" y="3789360"/>
            <a:ext cx="3303720" cy="2478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364000" y="1844640"/>
            <a:ext cx="3113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4T07:39:28Z</dcterms:created>
  <dc:creator>Сергей С</dc:creator>
  <dc:description/>
  <dc:language>en-US</dc:language>
  <cp:lastModifiedBy>Сергей С</cp:lastModifiedBy>
  <dcterms:modified xsi:type="dcterms:W3CDTF">2022-11-18T08:14:55Z</dcterms:modified>
  <cp:revision>12</cp:revision>
  <dc:subject/>
  <dc:title>НЕТРАДИЦИОННЫЕ ТЕХНИКИ РИСОВАНИЯ С ДЕТЬМИ ДОШКОЛЬНОГО ВОЗРАСТА </dc:title>
</cp:coreProperties>
</file>