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3CB-1CE2-423C-8CD2-1EE06E89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243-3F44-4366-9A96-0AB36BD9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8E29D-E117-48BA-9DC2-B0E6F43D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75954-695F-47AA-AA27-8EC6BB10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FC8E2-3320-4D5E-854F-73649BDA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52935-6AF4-4D89-9B35-BCEEE423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9835C-D115-4843-826A-91796752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7C5A4-175F-47AB-9709-97DAE0A8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11CF2-C51B-4E60-95B6-6BA1D08A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E695D-78CE-4563-BB2F-62EBC4FF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F96BF-E65B-4A15-AF2E-0A1C482C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33269-06D5-4EF6-A248-283B9B97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D7E-1234-455C-8748-09DCB05F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7C6E8-7025-4711-AA9C-2AC35C2C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9BCBA-E206-4FD2-8A51-3284311E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81906-0C75-48FF-94E0-73E0A859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30936-E2CB-4520-A0BD-A6C9D879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E278E-7A4A-420D-A607-5C4DA6FC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73208-77C3-49E6-B1C6-D2B350C0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E5DF0-4DCF-4EAF-BA79-D0538CA9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70B48-F403-4249-96E3-87C01970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5D9F7-17CD-4EA8-B486-B96E2A12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F3E61-ED3F-4A76-ABA8-6301BB09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F20-8CFD-43CD-9DED-41548B78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66046-344B-4445-9442-32CFBDA4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94066-A1F4-4807-8604-8104CD61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2165D-D8DB-4678-8987-BDE5F624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E2B8B-4234-403C-BFF1-17CE679C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096B7-50D3-43D8-97EB-485D5378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20387-4AF3-4AA7-B0B2-688FD4E2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F5008-65F7-4CBE-99C3-691F5C63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01780-858A-40C1-8917-CD46F20D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9416C-61AE-49F3-A0BB-CA6C0302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AA043-6631-485B-B36A-AAA3019A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D7AC-9953-4663-997C-B77E6FA5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7CFC1-60DA-41D3-87ED-5DF25822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0D241-2615-4159-BD06-4466ED70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77082-A746-4B4D-866C-AECC8131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B0B58-D1E0-415E-A5F5-AFAA8A2D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E1123-8D55-4965-B9FD-5103D2D2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1C612-E68A-4604-9F82-D4A45DFC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16F5E-EA2C-4700-A67B-C4BF1BCD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BF51F-210D-4E2C-961D-5DDE1AF2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77E63-DD20-4E2F-896D-1B2AD9CD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D61E8-99EE-4129-864C-B9B1E91A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4DBA-42BC-4A59-AE7C-351AF984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FAEE3-D1E5-4DDE-8541-3EB22445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2B31E-30AE-48F9-AA17-D21E3D00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734A6-607E-4F6B-91E3-45AD48E2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032E7-6657-47C6-B1B3-4539E1BC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08E5D-BC22-4BB8-9195-C17BE91B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DE1D-E5E8-403B-A44F-94A5B285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4106-EE73-44BF-8399-7BE75117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69C2-F3AA-469E-BCAC-B70D9209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2F8C-AAA0-4F2C-9ECD-A089BE2A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5A6B-7BE7-4A2C-A6AD-60829653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B35-F4CC-4A66-8430-7A9D1BD7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10A3-B5B1-4D80-AD71-1E02A141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EB52-6E68-43DB-ABD9-3B54800C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CBDA-AEAE-4FA3-9EF3-C34A76CC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945D-57C6-486C-B41F-CE2A836F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7585-4B5D-44DE-9148-0709B24F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1980D-2F4A-4CE2-A128-C725DDC7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74C0-8FDF-4F9D-91F8-8F0D22EB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C382D-2B05-4039-BCF4-B0E5A769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7FEBE-A577-414F-A493-ADB2D03B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A2464-00A7-4681-AD0A-3BA46F3C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174-D750-4D4D-BF10-3CED180B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F46AC-374F-46C3-BC16-3C33876D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B9451-F1C6-403C-95A8-EC81FBDA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2ED5A-0DD7-49FD-BD69-0AD6B76E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10E43-0067-412A-B2B3-87301F74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A232-8D77-499A-AF0A-72410EA8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994CC-0299-4A6A-B46C-3B866E25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01541-A06F-47C9-B10B-12EACCAD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8F82F-F8FF-4E4B-9619-09F36B52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07438-2466-4E50-A2FE-BC3E0AC7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9261A-56F2-4932-AA6C-4FF35A7D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868-0DCE-440A-B714-D576462F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28BBB-9802-4738-A5BE-3300EE6E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4A6B2-F008-4C06-9783-A3267EE1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D901C-6337-4360-AE66-BC5A3602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10EB9-2AA8-4001-BC25-DF977738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ED879-C72D-4152-88A2-CA60741F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79587-69B7-44A1-A997-AB026AA2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6500E-55AB-4CAB-A7D2-DDF9643F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40A75-EFA2-45B8-A213-3A6E6492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C35F8-7EDB-480C-86FF-02F65E25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7FBFB-E50E-4953-8F36-6E68F1CE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969-9297-4D21-A7D5-952955D0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F5383-257A-4EE9-B759-7D2CD361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86633-DD12-47EA-8B84-BF1AFB41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E4105-7732-4FBF-AECB-7FB774F7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CF27A-67CD-4742-BA80-F3CDFAC2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BC2BD-1C16-4115-84A0-DA0C5816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4DF91-2045-423F-A9D3-83DCB97A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EF313-238C-488A-A033-602DBBB4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B1265-1C3A-49F6-BEA6-A966F9D1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CBC86-7F28-4E05-8470-2F28A954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D166B-1736-46FF-9E43-0C8AD8EC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788-A229-4E64-AC9A-7CA34F52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7F985-0241-4588-B052-1C6BF0C7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14EC3-FE72-48C3-9361-AC4A8DC0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AD1BA-BD2C-4DC1-96B4-0AA72005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4D1B2-0254-4A6F-959A-271C8453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84BDB-725E-4BFC-8728-95DBC70B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A58FE-41E5-44A9-A0BD-EA53EAE4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649CF-DC6C-4735-8146-5A2DCF7E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1E16B-2696-4BAD-93A9-AABBF70B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372DB-6471-4EEC-A4F5-FD263CC6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1A8C7-C31E-470D-9D08-96A7FBA8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C40-CAAB-4004-B065-39B51FC1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96D0D-F963-4AA9-93A7-C3942085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4E356-4604-4951-AA86-EDF2989D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86CAD-B347-405F-B019-A31DCCFD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38E15-3BE7-415F-8CCE-5E457B27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7363E-AC92-4EFC-8D3B-5490D7D8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C11E6-FE92-49D2-8739-1BF1B245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01C19-D839-49F1-BCA7-7824B510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A800C-0FBE-4786-B915-09A538EE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9C73E-0578-404B-BB76-F922D790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2A4D2-537B-49FE-8507-C0724F6B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16E-F382-46B5-9750-46BDF5E9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45A53-548A-4F8F-94B2-A03BBB94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075A7-110C-4B9A-BD5F-BFC49CD6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F3B52-4A73-43C4-9F4D-5F0E4934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E4CE3-51AB-4098-BE21-6EE29D4C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0B4C2-244E-43C0-8CED-F2505B7F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AADC4-A85E-47F8-8E98-EB2D7F18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0332D-14A3-41FA-8570-7786A754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94FD7-B5FE-4FBD-8FED-E183D3F8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0CA4F-BFE7-440C-81C9-05151C80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17203-1BD8-4530-9D79-3697573A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3CB-764E-4DD8-853B-832B330D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F0580-CE39-4122-B01A-EADDECF1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93DC0-CC8F-4C27-9916-4CD4CE52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962CA-4F43-447C-B4D4-9E418331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1998D-6E8E-4B4A-A0AF-8DFD24CE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44292-AB65-4C1A-AC28-26C521BA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053E7-F78A-4058-8C11-B4A86C42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076A6-1894-4952-B22A-32A7A5D6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6F3E9-731F-4185-A16B-217244D1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DFA7D-9AAC-49E7-98BF-69970BF0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09606-FF39-4DFD-A583-D55FC0F9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fbf"/>
            </a:gs>
            <a:gs pos="100000">
              <a:srgbClr val="f9cf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F6DF-0AF8-45E1-9430-DD73071FD0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fbf"/>
            </a:gs>
            <a:gs pos="100000">
              <a:srgbClr val="f9cf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2E89-7931-4C25-A9DE-31DAE1D94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fbf"/>
            </a:gs>
            <a:gs pos="100000">
              <a:srgbClr val="f9cf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E04A-633A-4D82-BC6A-45950B8879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fbf"/>
            </a:gs>
            <a:gs pos="100000">
              <a:srgbClr val="f9cf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2F39-27D9-40B2-B940-6BD0734102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fbf"/>
            </a:gs>
            <a:gs pos="100000">
              <a:srgbClr val="f9cf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3CDD-1B7C-4CD8-AD1B-425220E746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fbf"/>
            </a:gs>
            <a:gs pos="100000">
              <a:srgbClr val="f9cf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518B-4BA7-41FE-83AE-8E868470B3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fbf"/>
            </a:gs>
            <a:gs pos="100000">
              <a:srgbClr val="f9cf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8BEA-67C7-4126-ABC6-895C915236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fbf"/>
            </a:gs>
            <a:gs pos="100000">
              <a:srgbClr val="f9cf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427B-D57A-4057-8D7C-B5FE3BD3B9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fbf"/>
            </a:gs>
            <a:gs pos="100000">
              <a:srgbClr val="f9cf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0D67-1109-460D-8BDE-C717C89E36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fbf"/>
            </a:gs>
            <a:gs pos="100000">
              <a:srgbClr val="f9cf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158A-137D-43CA-8C2C-280FBB02C2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fbf"/>
            </a:gs>
            <a:gs pos="100000">
              <a:srgbClr val="f9cf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A7C1-32E0-4306-A668-092B521B30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9fbf"/>
            </a:gs>
            <a:gs pos="100000">
              <a:srgbClr val="f9cf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7EF8-EB11-4BD5-ACD4-81BE0D8B3C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f9cfe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1320" y="1052280"/>
            <a:ext cx="8001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довия в годы Октябрьской революции и Гражданской войны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4"/>
          <p:cNvSpPr/>
          <p:nvPr/>
        </p:nvSpPr>
        <p:spPr>
          <a:xfrm>
            <a:off x="4500720" y="5229360"/>
            <a:ext cx="44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Выполнили ученики 9 Б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МОУ СОШ № 28 г. Сара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иняева Наталья и Рябов Мат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f9cfe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1"/>
          <p:cNvSpPr/>
          <p:nvPr/>
        </p:nvSpPr>
        <p:spPr>
          <a:xfrm>
            <a:off x="179280" y="90360"/>
            <a:ext cx="338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2 июля белочехи захватили Симбирск, а 7 августа – Каз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бирский комитет партии переехал в Алаты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рикрытия станций Инза и Майна была создана Алатырская группа войск, состоящая из рабочих и крестьян Алатыря и Ардатова. На помощь к ним присоединилась группа красноармейцев под командованием Г.Д. Г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E:\Documents and Settings\Администратор\Рабочий стол\Изображение 010.jpg"/>
          <p:cNvPicPr/>
          <p:nvPr/>
        </p:nvPicPr>
        <p:blipFill>
          <a:blip r:embed="rId1"/>
          <a:stretch/>
        </p:blipFill>
        <p:spPr>
          <a:xfrm>
            <a:off x="3708360" y="90360"/>
            <a:ext cx="5256360" cy="662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f9cfe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Прямоугольник 1"/>
          <p:cNvSpPr/>
          <p:nvPr/>
        </p:nvSpPr>
        <p:spPr>
          <a:xfrm>
            <a:off x="222120" y="189000"/>
            <a:ext cx="881388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том и осенью 1918 г. Советское правительство развернуло мобилизацию людских и материальных сил. В Саранске размещался мобилизационный отдел 1-й армии, в уездах были созданы военные комиссариат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918 г. было мобилизовано более 35 тыс. солдат и офицеров, свыше 80 тыс. человек прошли военную подготовк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 за годы Гражданской войны мобилизовано из местного населения около 74 тыс. челове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осени 1918 г. необходимые для наступления Красной Армии силы были накоплены и боевые действия были перенесены на Ура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E:\Documents and Settings\Администратор\Рабочий стол\Изображение 011.jpg"/>
          <p:cNvPicPr/>
          <p:nvPr/>
        </p:nvPicPr>
        <p:blipFill>
          <a:blip r:embed="rId1"/>
          <a:srcRect l="0" t="6877" r="0" b="0"/>
          <a:stretch/>
        </p:blipFill>
        <p:spPr>
          <a:xfrm>
            <a:off x="222120" y="3821040"/>
            <a:ext cx="4608720" cy="2921040"/>
          </a:xfrm>
          <a:prstGeom prst="rect">
            <a:avLst/>
          </a:prstGeom>
          <a:ln w="0">
            <a:noFill/>
          </a:ln>
        </p:spPr>
      </p:pic>
      <p:sp>
        <p:nvSpPr>
          <p:cNvPr id="523" name="Прямоугольник 1"/>
          <p:cNvSpPr/>
          <p:nvPr/>
        </p:nvSpPr>
        <p:spPr>
          <a:xfrm>
            <a:off x="4932360" y="3716280"/>
            <a:ext cx="41036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ако осенью 1919 г. в Саранске и его окрестностях спешно укреплялись 1-я Кубанская Советская кавалерийская бригада, 1-й и 2-й кавалерийские полки Восточного фрон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f9cfe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Заголовок 1"/>
          <p:cNvSpPr/>
          <p:nvPr/>
        </p:nvSpPr>
        <p:spPr>
          <a:xfrm>
            <a:off x="214200" y="142920"/>
            <a:ext cx="8786880" cy="12142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же приведены две точки зрения на причины победы «красных» в Гражданской войн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Содержимое 2"/>
          <p:cNvSpPr/>
          <p:nvPr/>
        </p:nvSpPr>
        <p:spPr>
          <a:xfrm>
            <a:off x="214200" y="1557360"/>
            <a:ext cx="428652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да «красных» была объективно предопределена лучшей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ованностью и поддержкой большинства насе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2"/>
          <p:cNvSpPr/>
          <p:nvPr/>
        </p:nvSpPr>
        <p:spPr>
          <a:xfrm>
            <a:off x="214200" y="4724280"/>
            <a:ext cx="87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ажите, какая из названных точек зрения вам представляется более предпочтительной. Приведите не менее трех фактов, положений, которые могут служить аргументами, подтверждающими избранную вами точку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9"/>
          <p:cNvSpPr/>
          <p:nvPr/>
        </p:nvSpPr>
        <p:spPr>
          <a:xfrm>
            <a:off x="4608360" y="1700280"/>
            <a:ext cx="4392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да «красных» объясняется не их силой, а слабостью и ошибками их противн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f9cfe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Заголовок 1"/>
          <p:cNvSpPr/>
          <p:nvPr/>
        </p:nvSpPr>
        <p:spPr>
          <a:xfrm>
            <a:off x="684360" y="1989000"/>
            <a:ext cx="7991280" cy="251964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f9cfe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Заголовок 1"/>
          <p:cNvSpPr/>
          <p:nvPr/>
        </p:nvSpPr>
        <p:spPr>
          <a:xfrm>
            <a:off x="108000" y="115920"/>
            <a:ext cx="8928000" cy="10810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ление советской власти на территории кра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Содержимое 2"/>
          <p:cNvSpPr/>
          <p:nvPr/>
        </p:nvSpPr>
        <p:spPr>
          <a:xfrm>
            <a:off x="108000" y="1628640"/>
            <a:ext cx="8928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весне 1918 г. советская власть в уездах и волостях края была установ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узаевке это произошло в октябре 191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аранске, Инсаре, Краснослободске – в январе 191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емникове комиссару Временного правительства удалось продержаться до марта 1918г. и большевики взяли власть только с бо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Ардатове советская власть официально была провозглашена еще в ноябре 1917 г., но большинство в Совете получили эсеры. Противостояние вылилось в вооруженную борьбу и большевики победили лишь в марте 191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f9cfe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Рисунок 1" descr=""/>
          <p:cNvPicPr/>
          <p:nvPr/>
        </p:nvPicPr>
        <p:blipFill>
          <a:blip r:embed="rId1"/>
          <a:stretch/>
        </p:blipFill>
        <p:spPr>
          <a:xfrm>
            <a:off x="3851280" y="2708280"/>
            <a:ext cx="5103720" cy="3532320"/>
          </a:xfrm>
          <a:prstGeom prst="rect">
            <a:avLst/>
          </a:prstGeom>
          <a:ln w="0">
            <a:noFill/>
          </a:ln>
        </p:spPr>
      </p:pic>
      <p:sp>
        <p:nvSpPr>
          <p:cNvPr id="497" name="TextBox 2"/>
          <p:cNvSpPr/>
          <p:nvPr/>
        </p:nvSpPr>
        <p:spPr>
          <a:xfrm>
            <a:off x="395280" y="549360"/>
            <a:ext cx="855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– 14 ноября 1917 г. в России проходили выборы в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редительное собрание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представительное учреждение, созданное на основе всеобщего избирательного права для установления формы правления и выработки Конституции России. Голоса распределились следующим образ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"/>
          <p:cNvSpPr/>
          <p:nvPr/>
        </p:nvSpPr>
        <p:spPr>
          <a:xfrm>
            <a:off x="395280" y="2421000"/>
            <a:ext cx="338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серы – 78,3 %, большевики – 9,5 %, национальные организации – 4,8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редительное собрание не признало декретов советской власти и 5 января 1918 г. было разогнано большев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f9cfe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Заголовок 1"/>
          <p:cNvSpPr/>
          <p:nvPr/>
        </p:nvSpPr>
        <p:spPr>
          <a:xfrm>
            <a:off x="108000" y="115920"/>
            <a:ext cx="8928000" cy="10810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-экономические преобразования советской в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"/>
          <p:cNvSpPr/>
          <p:nvPr/>
        </p:nvSpPr>
        <p:spPr>
          <a:xfrm>
            <a:off x="324000" y="1557360"/>
            <a:ext cx="87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евики учли негативный опыт Временного правительства, закрепив свой приход к власти решением самых насущных задач революции. Были приняты Декрет о мире, Декрет о земле, Декрет о рабочем контроле, а также Декларация прав народо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Рисунок 2" descr=""/>
          <p:cNvPicPr/>
          <p:nvPr/>
        </p:nvPicPr>
        <p:blipFill>
          <a:blip r:embed="rId1"/>
          <a:stretch/>
        </p:blipFill>
        <p:spPr>
          <a:xfrm>
            <a:off x="306360" y="3495600"/>
            <a:ext cx="2681280" cy="3246480"/>
          </a:xfrm>
          <a:prstGeom prst="rect">
            <a:avLst/>
          </a:prstGeom>
          <a:ln w="0">
            <a:noFill/>
          </a:ln>
        </p:spPr>
      </p:pic>
      <p:sp>
        <p:nvSpPr>
          <p:cNvPr id="502" name="TextBox 6"/>
          <p:cNvSpPr/>
          <p:nvPr/>
        </p:nvSpPr>
        <p:spPr>
          <a:xfrm>
            <a:off x="3132000" y="3649680"/>
            <a:ext cx="59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Декрета о земле привела к отмене частной собственности на землю, ликвидации помещичьего землевладения, уравнительному землепользованию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дел земли закончился в 1918 г., в результате которого крестьянство Мордовии получило 300 тыс. дес.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f9cfe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рямоугольник 1"/>
          <p:cNvSpPr/>
          <p:nvPr/>
        </p:nvSpPr>
        <p:spPr>
          <a:xfrm>
            <a:off x="179280" y="18900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сной 1918 г. резко ухудшилась экономическая ситуация в ст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тской властью была введена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довольственная диктатура –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 чрезвычайных мер по организации продовольственного снабжения частей Красной Армии и г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и созданы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довольственные отряды (продотряды)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торые насильно изымали хлеб у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ласно декрету ВЦИК от 11 июня 1918 г. в деревнях стали создаваться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итеты бедноты (комбеды)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принимающие активное участие в изъятии хлеба у зажиточных крестьян. Организация комбедов в Мордовии проходила наиболее массово в августе – сентябре и закончилась в октябре 191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ятельность продотрядов и комбедов стала причиной крестьянских мятежей, охвативших мордовский край весной и летом 191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f9cfe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Заголовок 1"/>
          <p:cNvSpPr/>
          <p:nvPr/>
        </p:nvSpPr>
        <p:spPr>
          <a:xfrm>
            <a:off x="108000" y="115920"/>
            <a:ext cx="8928000" cy="9874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стьянские восст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территории Мордов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1"/>
          <p:cNvSpPr/>
          <p:nvPr/>
        </p:nvSpPr>
        <p:spPr>
          <a:xfrm>
            <a:off x="108000" y="1103400"/>
            <a:ext cx="6696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ым крупным выступлением в 1918 г. был мятеж в с. Лада, где крестьяне договорились не сдавать хлеб. Утром 14 ноября ударил церковный колокол и собрался сельский сход. С вилами, косами и цепами толпа в 2 тыс. человек двинулась к дому, где расположились продармейцы. Чтобы остановить крестьян, Анна Лусс выстрелила им под ноги, ранив одного из сельчан. Разъяренные жители учинили самосуд. Были убиты 8 человек, в том числе и 21-летняя  Анна  Лусс.  На  подавление  мятежа  в  Лад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Рисунок 2" descr=""/>
          <p:cNvPicPr/>
          <p:nvPr/>
        </p:nvPicPr>
        <p:blipFill>
          <a:blip r:embed="rId1"/>
          <a:stretch/>
        </p:blipFill>
        <p:spPr>
          <a:xfrm>
            <a:off x="6804000" y="1341360"/>
            <a:ext cx="2232000" cy="3024360"/>
          </a:xfrm>
          <a:prstGeom prst="rect">
            <a:avLst/>
          </a:prstGeom>
          <a:ln w="0">
            <a:noFill/>
          </a:ln>
        </p:spPr>
      </p:pic>
      <p:sp>
        <p:nvSpPr>
          <p:cNvPr id="507" name="TextBox 1"/>
          <p:cNvSpPr/>
          <p:nvPr/>
        </p:nvSpPr>
        <p:spPr>
          <a:xfrm>
            <a:off x="108000" y="4437000"/>
            <a:ext cx="8928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и направлены вооруженные отряды. Зачинщики были расстреляны на виду у всего села, еще 24 человека отправлены в саранскую тюрь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ртвы Ладского восстания с воинскими почестями были похоронены в Саранске на Советской площади. В 1951 г. останки продотрядовцев были перезахоронены в сквере у Республиканского краеведческого музея. Именем Анны Лусс в столице Мордовии была названа ул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f9cfe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Прямоугольник 1"/>
          <p:cNvSpPr/>
          <p:nvPr/>
        </p:nvSpPr>
        <p:spPr>
          <a:xfrm>
            <a:off x="147600" y="189000"/>
            <a:ext cx="8888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феврале 1919 г. произошли восстания в Киржеманской и Большеигнатовской волостях Ардатовского уезда, где действовал отряд бывшего офицера Невского. Крестьяне под его руководством разгоняли сельские и волостные Советы, арестовывали коммунистов и создавали свои органы власти. Ардатовский уездный комитет РКП(б) подавил мятеж, Невский был расстреля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чале марта крупное выступление, носящее религиозно-монархическую окраску, произошло в Краснослободском уезде. Его организатором  являлся  Дмитрий Фокин – руководитель секты, в соста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Рисунок 2" descr=""/>
          <p:cNvPicPr/>
          <p:nvPr/>
        </p:nvPicPr>
        <p:blipFill>
          <a:blip r:embed="rId1"/>
          <a:stretch/>
        </p:blipFill>
        <p:spPr>
          <a:xfrm>
            <a:off x="7350120" y="3276720"/>
            <a:ext cx="1685880" cy="3581280"/>
          </a:xfrm>
          <a:prstGeom prst="rect">
            <a:avLst/>
          </a:prstGeom>
          <a:ln w="0">
            <a:noFill/>
          </a:ln>
        </p:spPr>
      </p:pic>
      <p:sp>
        <p:nvSpPr>
          <p:cNvPr id="510" name="TextBox 4"/>
          <p:cNvSpPr/>
          <p:nvPr/>
        </p:nvSpPr>
        <p:spPr>
          <a:xfrm>
            <a:off x="147600" y="3213000"/>
            <a:ext cx="7202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ой входили монахини, верующие женщины и местное зажиточное крестьянство. Сектанты считали советскую власть порождением антихриста и хотели возвести на престол сына Николая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I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Губернская ЧК отреагировала оперативно: Фокин был расстрелян, дела остальных участников были переданы в ревтрибун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же в марте наивысшего пика достигло «чапанное движение», получившее название по верхней одежде крестьян – чапану. Началом движения на территории Мордовии  стало  восстание  крестьян  в с.  Новодевичь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f9cfe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рямоугольник 1"/>
          <p:cNvSpPr/>
          <p:nvPr/>
        </p:nvSpPr>
        <p:spPr>
          <a:xfrm>
            <a:off x="147600" y="189000"/>
            <a:ext cx="8888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снослободского уезда Пензенской губернии, когда на сельском сходе, собравшем 8,5 тыс. человек, были убиты инструктор уездного продовольственного комитета и несколько членов волостного исполкома. Вооруженные винтовками, топорами, вилами крестьяне двигались от села к селу, жестоко расправляясь с советскими и партийными работник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енно сильными были волнения в селах Кайбичевской, Шигуровской,  Большеберезниковской,  Неклюдовской,  Пичеурской 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E:\Documents and Settings\Администратор\Рабочий стол\Изображение 009.jpg"/>
          <p:cNvPicPr/>
          <p:nvPr/>
        </p:nvPicPr>
        <p:blipFill>
          <a:blip r:embed="rId1"/>
          <a:stretch/>
        </p:blipFill>
        <p:spPr>
          <a:xfrm>
            <a:off x="147600" y="2989440"/>
            <a:ext cx="2768760" cy="3776400"/>
          </a:xfrm>
          <a:prstGeom prst="rect">
            <a:avLst/>
          </a:prstGeom>
          <a:ln w="0">
            <a:noFill/>
          </a:ln>
        </p:spPr>
      </p:pic>
      <p:sp>
        <p:nvSpPr>
          <p:cNvPr id="513" name="Прямоугольник 3"/>
          <p:cNvSpPr/>
          <p:nvPr/>
        </p:nvSpPr>
        <p:spPr>
          <a:xfrm>
            <a:off x="2987640" y="2852640"/>
            <a:ext cx="6048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аевской волос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ействие были приведены все силы ЧК. Для подавления крестьянского движения во всех уездах Мордовии были созданы части особого назначения. К концу марта восстания были подавлены, многие участники арестованы и приговорены к расстрел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f9cfe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оугольник 1"/>
          <p:cNvSpPr/>
          <p:nvPr/>
        </p:nvSpPr>
        <p:spPr>
          <a:xfrm>
            <a:off x="179280" y="1341360"/>
            <a:ext cx="6440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ае 1918 г. вспыхнуло восстание Чехословацкого корпуса. Для борьбы с белочехами был образован Восточный фро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йоне Пенза – Самара – Саранск создавалась 1-я армия Восточного фронта. Штаб и политотдел армии находились в с. Пайгарма Рузаевского уезда, в здании монасты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андующим являлся М.Н. Тухачевский, а политическими комиссарами – М.Ю. Калинин и В.В. Куйбыш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Заголовок 1"/>
          <p:cNvSpPr/>
          <p:nvPr/>
        </p:nvSpPr>
        <p:spPr>
          <a:xfrm>
            <a:off x="179280" y="142920"/>
            <a:ext cx="8856720" cy="10540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евые действия на территории кр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ды Гражданск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E:\Documents and Settings\Администратор\Рабочий стол\24783-0.jpg"/>
          <p:cNvPicPr/>
          <p:nvPr/>
        </p:nvPicPr>
        <p:blipFill>
          <a:blip r:embed="rId1"/>
          <a:stretch/>
        </p:blipFill>
        <p:spPr>
          <a:xfrm>
            <a:off x="6659640" y="1341360"/>
            <a:ext cx="2365200" cy="366084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оугольник 5"/>
          <p:cNvSpPr/>
          <p:nvPr/>
        </p:nvSpPr>
        <p:spPr>
          <a:xfrm>
            <a:off x="6659640" y="5002200"/>
            <a:ext cx="2341440" cy="29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ухачевский Миха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1"/>
          <p:cNvSpPr/>
          <p:nvPr/>
        </p:nvSpPr>
        <p:spPr>
          <a:xfrm>
            <a:off x="179280" y="537372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 за два месяца на Восточном фронте были созданы пять советских арм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tn</dc:creator>
  <dc:description/>
  <dc:language>en-US</dc:language>
  <cp:lastModifiedBy>Пиняева</cp:lastModifiedBy>
  <dcterms:modified xsi:type="dcterms:W3CDTF">2018-12-20T03:47:07Z</dcterms:modified>
  <cp:revision>119</cp:revision>
  <dc:subject/>
  <dc:title>Урок 6</dc:title>
</cp:coreProperties>
</file>