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F023-4F3D-4B9E-931B-06234AE2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9632-2AD8-4C6E-890D-A1C04F08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1868-7CF7-46BB-86CA-5D129B1F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D5F8-1BCC-44FA-AF96-D4CA6482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06CD-21CD-4ED9-831D-DB163617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F8B0-FD3C-44D1-A78B-D5055363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378F-DD8D-40F1-BDC5-E8DE322C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1B93-7A95-4B21-A33E-75818C85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D12D-0F0B-44C5-B629-D4D20F54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CAFA-64A6-4BB7-9D2B-20C0939A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A93A-406C-48C3-8DA6-55E911BC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3699-CC46-426E-881A-D5E7BB0D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FD50-70D6-4DD5-868B-5A8585FD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B1F7-B5A9-4DE4-A2C6-323B088D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3923-C301-49A1-9312-371514BE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6C66-691C-4A9E-885B-FAC1927F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D258-D09F-4515-A752-15711FF7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C2C9-1211-48ED-AD56-97FE0921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328C-2EBB-44C8-9966-47746F67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4EB2-A0ED-4DCA-AFF3-D9BAA002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125D-EB80-4603-8E46-C66C0651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58BE-2F43-45A6-B51F-73E4DB81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477C-C11A-4033-BCF0-A550841C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EC19-471A-4701-84C4-4AFA4724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8EE6-E9A2-4D99-9133-902800F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5A3C-412E-4A8A-A2AF-00B4F656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7E82-0F0C-4A75-B361-DA4FBD57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3B22-D2B2-4C8D-AC95-D2BF71FC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398A-F415-4987-A652-4EDBFACD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5E44-754F-4E07-A219-FBF8861C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DF33-047D-48DC-9E45-10DFCB9D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EBE9-2D56-4D1E-BE7B-45E533DE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7585-51E1-4CF0-AB3C-5F8B2351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0AD5-5687-4787-9311-30948BA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9DF6-9F71-423D-969F-3B5900D7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CD1A-31BB-442D-91E8-913BBEA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2C62-33D9-4455-93CB-91083B4E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36DB-013A-43EE-ACC3-0566D1B6A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7D2C-B97B-4155-AB30-F9179D09C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rcRect l="0" t="14287" r="0" b="33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1447920" y="380880"/>
            <a:ext cx="701028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реугольник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66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 - обобщение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66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9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3794"/>
                </a:moveTo>
                <a:lnTo>
                  <a:pt x="37234" y="10800"/>
                </a:lnTo>
                <a:lnTo>
                  <a:pt x="23221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46"/>
            </a:gs>
            <a:gs pos="50000">
              <a:srgbClr val="ff9999"/>
            </a:gs>
            <a:gs pos="100000">
              <a:srgbClr val="75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3809880"/>
            <a:ext cx="4724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М                                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.: Высотой треугольника называетс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…………………………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.   , проведённый из вершины треугольника к прямой,содержа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3520" y="1981080"/>
            <a:ext cx="3124080" cy="533520"/>
          </a:xfrm>
          <a:prstGeom prst="bevel">
            <a:avLst>
              <a:gd name="adj" fmla="val 1250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  <a:ea typeface="Arial"/>
              </a:rPr>
              <a:t>перпендикуля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219320" y="45720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сота треугольника</a:t>
            </a:r>
            <a:endParaRPr b="1" i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57200" y="2971800"/>
            <a:ext cx="8001000" cy="533520"/>
          </a:xfrm>
          <a:prstGeom prst="bevel">
            <a:avLst>
              <a:gd name="adj" fmla="val 1250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  <a:ea typeface="Arial"/>
              </a:rPr>
              <a:t>противоположную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066680" y="3962520"/>
            <a:ext cx="2743200" cy="1981080"/>
          </a:xfrm>
          <a:prstGeom prst="triangle">
            <a:avLst>
              <a:gd name="adj" fmla="val 2482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752480" y="3962520"/>
            <a:ext cx="0" cy="1981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105520" y="3809880"/>
            <a:ext cx="3733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А – высота </a:t>
            </a:r>
            <a:r>
              <a:rPr b="1" lang="el-GR" sz="2400" spc="-1" strike="noStrike">
                <a:solidFill>
                  <a:srgbClr val="660066"/>
                </a:solidFill>
                <a:latin typeface="Arial"/>
                <a:ea typeface="Arial"/>
              </a:rPr>
              <a:t>Δ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МСО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72388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752480" y="563868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fill="hold">
                      <p:stCondLst>
                        <p:cond delay="0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820"/>
                            </p:stCondLst>
                            <p:childTnLst>
                              <p:par>
                                <p:cTn id="1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4340"/>
                            </p:stCondLst>
                            <p:childTnLst>
                              <p:par>
                                <p:cTn id="1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6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1000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9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5e"/>
            </a:gs>
            <a:gs pos="50000">
              <a:srgbClr val="00ffcc"/>
            </a:gs>
            <a:gs pos="100000">
              <a:srgbClr val="00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3809880"/>
            <a:ext cx="4724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                                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.: Биссектрисой треугольника называется   …………………………………………………………..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соединяющий вершину треугольника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…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914400" y="1981080"/>
            <a:ext cx="6934320" cy="533520"/>
          </a:xfrm>
          <a:prstGeom prst="bevel">
            <a:avLst>
              <a:gd name="adj" fmla="val 12500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отрезок биссектрисы угла треуголь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219320" y="45720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иссектриса треугольника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57200" y="2971800"/>
            <a:ext cx="8001000" cy="533520"/>
          </a:xfrm>
          <a:prstGeom prst="bevel">
            <a:avLst>
              <a:gd name="adj" fmla="val 12500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точкой противоположной стор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066680" y="3962520"/>
            <a:ext cx="2743200" cy="1981080"/>
          </a:xfrm>
          <a:prstGeom prst="triangle">
            <a:avLst>
              <a:gd name="adj" fmla="val 2482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752480" y="4038480"/>
            <a:ext cx="685800" cy="19051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105520" y="3809880"/>
            <a:ext cx="3733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А – биссектриса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Δ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МСО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>
            <a:hlinkClick r:id="" action="ppaction://hlinkshowjump?jump=nextslide"/>
          </p:cNvPr>
          <p:cNvSpPr/>
          <p:nvPr/>
        </p:nvSpPr>
        <p:spPr>
          <a:xfrm>
            <a:off x="72388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98760" y="3962520"/>
            <a:ext cx="609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2" y="11430"/>
                </a:moveTo>
                <a:arcTo wR="10800" hR="10800" stAng="200673" swAng="10237440"/>
                <a:lnTo>
                  <a:pt x="10800" y="10800"/>
                </a:lnTo>
                <a:close/>
              </a:path>
              <a:path fill="none" w="21600" h="21600">
                <a:moveTo>
                  <a:pt x="21582" y="11430"/>
                </a:moveTo>
                <a:arcTo wR="10800" hR="10800" stAng="200673" swAng="10237440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0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2" dur="8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4" dur="8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3020"/>
                            </p:stCondLst>
                            <p:childTnLst>
                              <p:par>
                                <p:cTn id="1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9" dur="8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0" dur="8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300"/>
                            </p:stCondLst>
                            <p:childTnLst>
                              <p:par>
                                <p:cTn id="1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457200" y="4419720"/>
            <a:ext cx="8686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равносторонние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вносторон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внобедренные               Разносторон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1676520" y="3808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треугольников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2590920" y="144792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1447920"/>
            <a:ext cx="1447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371600" y="2362320"/>
            <a:ext cx="2286000" cy="990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77120" y="2438280"/>
            <a:ext cx="1828800" cy="914400"/>
          </a:xfrm>
          <a:prstGeom prst="triangle">
            <a:avLst>
              <a:gd name="adj" fmla="val 11111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1371600" y="38098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352680" y="38098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62120" y="4724280"/>
            <a:ext cx="1218960" cy="99072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200400" y="4343400"/>
            <a:ext cx="2514600" cy="9144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nextslide"/>
          </p:cNvPr>
          <p:cNvSpPr/>
          <p:nvPr/>
        </p:nvSpPr>
        <p:spPr>
          <a:xfrm>
            <a:off x="72388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0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2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9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2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5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50000">
              <a:srgbClr val="ff99ff"/>
            </a:gs>
            <a:gs pos="100000">
              <a:srgbClr val="7546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4724280" y="4419720"/>
            <a:ext cx="3962520" cy="457200"/>
          </a:xfrm>
          <a:prstGeom prst="bevel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48320" y="3200400"/>
            <a:ext cx="3962160" cy="457200"/>
          </a:xfrm>
          <a:prstGeom prst="bevel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2514600"/>
            <a:ext cx="4038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К                                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Равнобедренный тре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О.: Равнобедренным треугольником называется треугольник, у которого ……….. стороны   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>
            <a:hlinkClick r:id="" action="ppaction://hlinkshowjump?jump=nextslide"/>
          </p:cNvPr>
          <p:cNvSpPr/>
          <p:nvPr/>
        </p:nvSpPr>
        <p:spPr>
          <a:xfrm>
            <a:off x="72388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343400" y="2057400"/>
            <a:ext cx="1066680" cy="304920"/>
          </a:xfrm>
          <a:prstGeom prst="bevel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9568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58000" y="2057400"/>
            <a:ext cx="1523880" cy="304920"/>
          </a:xfrm>
          <a:prstGeom prst="bevel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010280" y="1981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в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2971800"/>
            <a:ext cx="2971800" cy="1752480"/>
          </a:xfrm>
          <a:prstGeom prst="triangle">
            <a:avLst>
              <a:gd name="adj" fmla="val 50000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447920" y="3657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2819160" y="35812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495680" y="2666880"/>
            <a:ext cx="4038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АК и КН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КН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00600" y="32004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оковые ст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876920" y="44197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сн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5" dur="10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50000">
              <a:srgbClr val="ff99ff"/>
            </a:gs>
            <a:gs pos="100000">
              <a:srgbClr val="7546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Свойства равнобедренного</a:t>
            </a:r>
            <a:br>
              <a:rPr sz="3600"/>
            </a:b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тре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1.В равнобедренном треугольнике углы  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819520" y="2743200"/>
            <a:ext cx="2666880" cy="1219320"/>
          </a:xfrm>
          <a:prstGeom prst="triangle">
            <a:avLst>
              <a:gd name="adj" fmla="val 50000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0" y="1600200"/>
            <a:ext cx="2286000" cy="533520"/>
          </a:xfrm>
          <a:prstGeom prst="bevel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1676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 основа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937040" y="3576600"/>
            <a:ext cx="101520" cy="426960"/>
          </a:xfrm>
          <a:custGeom>
            <a:avLst/>
            <a:gdLst/>
            <a:ahLst/>
            <a:rect l="l" t="t" r="r" b="b"/>
            <a:pathLst>
              <a:path w="64" h="269">
                <a:moveTo>
                  <a:pt x="64" y="0"/>
                </a:moveTo>
                <a:cubicBezTo>
                  <a:pt x="1" y="85"/>
                  <a:pt x="0" y="165"/>
                  <a:pt x="0" y="269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09760" y="3597120"/>
            <a:ext cx="82800" cy="385920"/>
          </a:xfrm>
          <a:custGeom>
            <a:avLst/>
            <a:gdLst/>
            <a:ahLst/>
            <a:rect l="l" t="t" r="r" b="b"/>
            <a:pathLst>
              <a:path w="52" h="243">
                <a:moveTo>
                  <a:pt x="0" y="0"/>
                </a:moveTo>
                <a:cubicBezTo>
                  <a:pt x="52" y="75"/>
                  <a:pt x="39" y="153"/>
                  <a:pt x="39" y="243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41911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2.В равнобедренном треугольнике биссектриса, проведённая   …………………   явл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…………………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и    ………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4648320"/>
            <a:ext cx="2210040" cy="457200"/>
          </a:xfrm>
          <a:prstGeom prst="bevel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 основа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3520" y="5029200"/>
            <a:ext cx="2209680" cy="533520"/>
          </a:xfrm>
          <a:prstGeom prst="bevel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5105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диа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276720" y="5105520"/>
            <a:ext cx="2286000" cy="457200"/>
          </a:xfrm>
          <a:prstGeom prst="bevel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429000" y="5105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со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14800" y="2743200"/>
            <a:ext cx="0" cy="1219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14800" y="3809880"/>
            <a:ext cx="152280" cy="152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808800" y="2902320"/>
            <a:ext cx="68652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33" y="8415"/>
                </a:moveTo>
                <a:arcTo wR="10800" hR="10800" stAng="-765509" swAng="11282728"/>
                <a:lnTo>
                  <a:pt x="10800" y="10800"/>
                </a:lnTo>
                <a:close/>
              </a:path>
              <a:path fill="none" w="21600" h="21600">
                <a:moveTo>
                  <a:pt x="21333" y="8415"/>
                </a:moveTo>
                <a:arcTo wR="10800" hR="10800" stAng="-765509" swAng="11282728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rot="9395400">
            <a:off x="3801240" y="2405880"/>
            <a:ext cx="121860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82" y="165"/>
                </a:moveTo>
                <a:arcTo wR="10800" hR="10800" stAng="-4797836" swAng="4797836"/>
                <a:lnTo>
                  <a:pt x="10800" y="10800"/>
                </a:lnTo>
                <a:close/>
              </a:path>
              <a:path fill="none" w="21600" h="21600">
                <a:moveTo>
                  <a:pt x="12682" y="165"/>
                </a:moveTo>
                <a:arcTo wR="10800" hR="10800" stAng="-4797836" swAng="4797836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505320" y="388620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648320" y="388620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72388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fill="hold">
                      <p:stCondLst>
                        <p:cond delay="0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10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5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7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50000">
              <a:srgbClr val="ff99ff"/>
            </a:gs>
            <a:gs pos="100000">
              <a:srgbClr val="7546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1981080" y="4267080"/>
            <a:ext cx="4572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А                  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МАС=84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М                 В                     С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0" y="1752480"/>
            <a:ext cx="4572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В                  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Р=33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Р                               А                   С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1600200"/>
            <a:ext cx="3429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С              А              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Найти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  <a:ea typeface="Arial"/>
              </a:rPr>
              <a:t>&lt;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  <a:ea typeface="Arial"/>
              </a:rPr>
              <a:t> 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1752480"/>
            <a:ext cx="2133360" cy="1676520"/>
          </a:xfrm>
          <a:prstGeom prst="triangle">
            <a:avLst>
              <a:gd name="adj" fmla="val 50000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00200" y="1752480"/>
            <a:ext cx="0" cy="1676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90720" y="2514600"/>
            <a:ext cx="7596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3352680"/>
            <a:ext cx="7632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914400" y="3352680"/>
            <a:ext cx="7632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905120" y="3352680"/>
            <a:ext cx="7596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133720" y="3352680"/>
            <a:ext cx="7596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2057400" y="2438280"/>
            <a:ext cx="7632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76920" y="1905120"/>
            <a:ext cx="2590560" cy="1676160"/>
          </a:xfrm>
          <a:prstGeom prst="triangle">
            <a:avLst>
              <a:gd name="adj" fmla="val 50000"/>
            </a:avLst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876920" y="3581280"/>
            <a:ext cx="380988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410080" y="2590920"/>
            <a:ext cx="15264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6629040" y="2590920"/>
            <a:ext cx="22860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133720" y="4419720"/>
            <a:ext cx="3200400" cy="1752480"/>
          </a:xfrm>
          <a:prstGeom prst="triangle">
            <a:avLst>
              <a:gd name="adj" fmla="val 50000"/>
            </a:avLst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733920" y="4419720"/>
            <a:ext cx="0" cy="1752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733920" y="6019920"/>
            <a:ext cx="45720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>
            <a:hlinkClick r:id="" action="ppaction://hlinkshowjump?jump=nextslide"/>
          </p:cNvPr>
          <p:cNvSpPr/>
          <p:nvPr/>
        </p:nvSpPr>
        <p:spPr>
          <a:xfrm>
            <a:off x="72388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7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1" dur="2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3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1523880" y="609480"/>
            <a:ext cx="762012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7575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Кон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7575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805" name="">
            <a:hlinkClick r:id="" action="ppaction://hlinkshowjump?jump=firstslide"/>
          </p:cNvPr>
          <p:cNvSpPr/>
          <p:nvPr/>
        </p:nvSpPr>
        <p:spPr>
          <a:xfrm>
            <a:off x="73152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6" dur="indefinite" restart="never" nodeType="tmRoot">
          <p:childTnLst>
            <p:seq>
              <p:cTn id="2187" dur="indefinite" nodeType="mainSeq">
                <p:childTnLst>
                  <p:par>
                    <p:cTn id="2188" fill="hold">
                      <p:stCondLst>
                        <p:cond delay="0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with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17 L 0.125 0.12117 L 0.048 0.19573 L 0.077 0.31689 L 0 0.24233 L -0.077 0.31689 L -0.048 0.19573 L -0.125 0.12117 L -0.029 0.12117 L 0 0 Z">
                                      <p:cBhvr>
                                        <p:cTn id="2191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 flipV="1">
            <a:off x="1828800" y="3429000"/>
            <a:ext cx="3352680" cy="13716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257800" y="3429000"/>
            <a:ext cx="838080" cy="22096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05120" y="4800600"/>
            <a:ext cx="4190760" cy="838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Треуголь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это геометрическая фигура, состоящая из трёх точек, не лежащих на одной прямой и отрезков, их соединя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1066320" y="27432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                                                               </a:t>
            </a:r>
            <a:r>
              <a:rPr b="0" lang="el-GR" sz="2400" spc="-1" strike="noStrike">
                <a:solidFill>
                  <a:srgbClr val="ffff00"/>
                </a:solidFill>
                <a:latin typeface="Arial"/>
                <a:ea typeface="Arial"/>
              </a:rPr>
              <a:t>Δ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3352680"/>
            <a:ext cx="15264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019920" y="5562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877800">
            <a:off x="1833120" y="2991960"/>
            <a:ext cx="5261040" cy="2524320"/>
          </a:xfrm>
          <a:prstGeom prst="triangle">
            <a:avLst>
              <a:gd name="adj" fmla="val 60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17524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Треугольник 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68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8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680"/>
                            </p:stCondLst>
                            <p:childTnLst>
                              <p:par>
                                <p:cTn id="9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68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18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680"/>
                            </p:stCondLst>
                            <p:childTnLst>
                              <p:par>
                                <p:cTn id="1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180"/>
                            </p:stCondLst>
                            <p:childTnLst>
                              <p:par>
                                <p:cTn id="1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68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57800" y="1676520"/>
            <a:ext cx="1371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Это </a:t>
            </a:r>
            <a:r>
              <a:rPr b="0" lang="el-GR" sz="2800" spc="-1" strike="noStrike">
                <a:solidFill>
                  <a:srgbClr val="6600cc"/>
                </a:solidFill>
                <a:latin typeface="Arial"/>
                <a:ea typeface="Arial"/>
              </a:rPr>
              <a:t>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371600" y="457200"/>
            <a:ext cx="6172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означение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5" name=""/>
          <p:cNvSpPr/>
          <p:nvPr/>
        </p:nvSpPr>
        <p:spPr>
          <a:xfrm rot="348000">
            <a:off x="533520" y="1523880"/>
            <a:ext cx="4572000" cy="2895840"/>
          </a:xfrm>
          <a:prstGeom prst="triangle">
            <a:avLst>
              <a:gd name="adj" fmla="val 6774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248520" y="1676520"/>
            <a:ext cx="1371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МКР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205740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ли </a:t>
            </a:r>
            <a:r>
              <a:rPr b="0" lang="el-GR" sz="2800" spc="-1" strike="noStrike">
                <a:solidFill>
                  <a:srgbClr val="6600cc"/>
                </a:solidFill>
                <a:latin typeface="Arial"/>
                <a:ea typeface="Arial"/>
              </a:rPr>
              <a:t>Δ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248520" y="205740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КРМ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57800" y="24382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ли </a:t>
            </a:r>
            <a:r>
              <a:rPr b="0" lang="el-GR" sz="2800" spc="-1" strike="noStrike">
                <a:solidFill>
                  <a:srgbClr val="6600cc"/>
                </a:solidFill>
                <a:latin typeface="Arial"/>
                <a:ea typeface="Arial"/>
              </a:rPr>
              <a:t>Δ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05520" y="3505320"/>
            <a:ext cx="1904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Вершины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57800" y="2819520"/>
            <a:ext cx="1371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 т. д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10280" y="3505320"/>
            <a:ext cx="1371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М,К,Р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5105520"/>
            <a:ext cx="2362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сторон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5105520"/>
            <a:ext cx="2362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МР,РК, КМ -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248520" y="24382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РМ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47920" y="5638680"/>
            <a:ext cx="2361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Углы -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895480" y="563868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М,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МКР,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Р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7238880" y="617220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3794"/>
                </a:moveTo>
                <a:lnTo>
                  <a:pt x="37244" y="10800"/>
                </a:lnTo>
                <a:lnTo>
                  <a:pt x="23231" y="17806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5e"/>
            </a:gs>
            <a:gs pos="50000">
              <a:srgbClr val="66ffcc"/>
            </a:gs>
            <a:gs pos="100000">
              <a:srgbClr val="2f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8000"/>
                </a:solidFill>
                <a:latin typeface="Banjoman Open Bold"/>
              </a:rPr>
              <a:t>Зада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809520" y="159984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. Назовите сторону, лежащую напротив угла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884400">
            <a:off x="568080" y="1338120"/>
            <a:ext cx="3476520" cy="2320920"/>
          </a:xfrm>
          <a:prstGeom prst="triangle">
            <a:avLst>
              <a:gd name="adj" fmla="val 7898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238880" y="2133720"/>
            <a:ext cx="1295640" cy="685800"/>
          </a:xfrm>
          <a:prstGeom prst="beve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391520" y="2286000"/>
            <a:ext cx="914400" cy="3988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289548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 Назовите угол, лежащий напротив стороны 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3657600"/>
            <a:ext cx="1295280" cy="685800"/>
          </a:xfrm>
          <a:prstGeom prst="beve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467480" y="3809880"/>
            <a:ext cx="990720" cy="3988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86200" y="457200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3. Назовите углы, прилежащие к стороне 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934320" y="5334120"/>
            <a:ext cx="1600200" cy="685800"/>
          </a:xfrm>
          <a:prstGeom prst="beve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86600" y="5486400"/>
            <a:ext cx="1219320" cy="3988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 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5638680" y="617220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3794"/>
                </a:moveTo>
                <a:lnTo>
                  <a:pt x="37244" y="10800"/>
                </a:lnTo>
                <a:lnTo>
                  <a:pt x="23231" y="17806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5105520" y="167652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В                                  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05520" y="327672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                        К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О.:Треугольники называются рав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66680" y="304920"/>
            <a:ext cx="7696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вные треугольники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0880" y="2971800"/>
            <a:ext cx="4038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х можно совместить налож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1981080"/>
            <a:ext cx="2895840" cy="1143000"/>
          </a:xfrm>
          <a:prstGeom prst="triangle">
            <a:avLst>
              <a:gd name="adj" fmla="val 7247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867280" y="3581280"/>
            <a:ext cx="2895840" cy="1143000"/>
          </a:xfrm>
          <a:prstGeom prst="triangle">
            <a:avLst>
              <a:gd name="adj" fmla="val 7247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38080" y="5105520"/>
            <a:ext cx="4038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Треугольники совпа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эт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cc"/>
                </a:solidFill>
                <a:latin typeface="Arial"/>
                <a:ea typeface="Arial"/>
              </a:rPr>
              <a:t>Δ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АВК=</a:t>
            </a:r>
            <a:r>
              <a:rPr b="1" lang="el-GR" sz="2400" spc="-1" strike="noStrike">
                <a:solidFill>
                  <a:srgbClr val="ffffcc"/>
                </a:solidFill>
                <a:latin typeface="Arial"/>
                <a:ea typeface="Arial"/>
              </a:rPr>
              <a:t>Δ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1" lang="ru-RU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К</a:t>
            </a:r>
            <a:r>
              <a:rPr b="1" lang="ru-RU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nextslide"/>
          </p:cNvPr>
          <p:cNvSpPr/>
          <p:nvPr/>
        </p:nvSpPr>
        <p:spPr>
          <a:xfrm>
            <a:off x="72388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4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4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75312E-006 L 0 0.233 E">
                                      <p:cBhvr>
                                        <p:cTn id="462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10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46"/>
            </a:gs>
            <a:gs pos="50000">
              <a:srgbClr val="ff9999"/>
            </a:gs>
            <a:gs pos="100000">
              <a:srgbClr val="7546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80880" y="4267080"/>
            <a:ext cx="3657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                   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                С Е                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Свойство равных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равных треугольниках против равных сторон лежат   …......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против равных углов лежат                                        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38680" y="1981080"/>
            <a:ext cx="3276720" cy="838440"/>
          </a:xfrm>
          <a:prstGeom prst="beve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15000" y="2133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вные уг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480" y="3276720"/>
            <a:ext cx="3886200" cy="838080"/>
          </a:xfrm>
          <a:prstGeom prst="beve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-4419720" y="4572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вные уг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4419720"/>
            <a:ext cx="1219320" cy="2133360"/>
          </a:xfrm>
          <a:prstGeom prst="triangle">
            <a:avLst>
              <a:gd name="adj" fmla="val 0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362320" y="4419720"/>
            <a:ext cx="1218960" cy="2133360"/>
          </a:xfrm>
          <a:prstGeom prst="triangle">
            <a:avLst>
              <a:gd name="adj" fmla="val 0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4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вные стор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95680" y="4191120"/>
            <a:ext cx="3657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6324480"/>
            <a:ext cx="1522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362320" y="6324480"/>
            <a:ext cx="1522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09480" y="5334120"/>
            <a:ext cx="15264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5486400"/>
            <a:ext cx="15264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86000" y="5638680"/>
            <a:ext cx="15228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286000" y="5486400"/>
            <a:ext cx="15228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52880" y="3733920"/>
            <a:ext cx="3657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АВС=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ЕК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С=4,5 с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=34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Н-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-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562720" y="5410080"/>
            <a:ext cx="1218960" cy="381240"/>
          </a:xfrm>
          <a:prstGeom prst="beve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638680" y="5410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,5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5867280"/>
            <a:ext cx="1218960" cy="381240"/>
          </a:xfrm>
          <a:prstGeom prst="beve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3868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72388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8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200"/>
                            </p:stCondLst>
                            <p:childTnLst>
                              <p:par>
                                <p:cTn id="5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32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320"/>
                            </p:stCondLst>
                            <p:childTnLst>
                              <p:par>
                                <p:cTn id="6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720"/>
                            </p:stCondLst>
                            <p:childTnLst>
                              <p:par>
                                <p:cTn id="6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80"/>
                            </p:stCondLst>
                            <p:childTnLst>
                              <p:par>
                                <p:cTn id="6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36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6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Признаки равенства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-305280" y="1294920"/>
            <a:ext cx="3581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1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                       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В                                     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                   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В</a:t>
            </a: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1                                                      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8600" y="4572000"/>
            <a:ext cx="2590920" cy="990720"/>
          </a:xfrm>
          <a:prstGeom prst="triangle">
            <a:avLst>
              <a:gd name="adj" fmla="val 7432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4920" y="3124080"/>
            <a:ext cx="2590560" cy="990720"/>
          </a:xfrm>
          <a:prstGeom prst="triangle">
            <a:avLst>
              <a:gd name="adj" fmla="val 7432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47920" y="327672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472428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57400" y="396252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28800" y="396252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828800" y="533412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00200" y="533412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3886200"/>
            <a:ext cx="38160" cy="223920"/>
          </a:xfrm>
          <a:custGeom>
            <a:avLst/>
            <a:gdLst/>
            <a:ahLst/>
            <a:rect l="l" t="t" r="r" b="b"/>
            <a:pathLst>
              <a:path w="24" h="141">
                <a:moveTo>
                  <a:pt x="0" y="0"/>
                </a:moveTo>
                <a:cubicBezTo>
                  <a:pt x="24" y="71"/>
                  <a:pt x="13" y="25"/>
                  <a:pt x="13" y="1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5334120"/>
            <a:ext cx="38160" cy="223560"/>
          </a:xfrm>
          <a:custGeom>
            <a:avLst/>
            <a:gdLst/>
            <a:ahLst/>
            <a:rect l="l" t="t" r="r" b="b"/>
            <a:pathLst>
              <a:path w="24" h="141">
                <a:moveTo>
                  <a:pt x="0" y="0"/>
                </a:moveTo>
                <a:cubicBezTo>
                  <a:pt x="24" y="71"/>
                  <a:pt x="13" y="25"/>
                  <a:pt x="13" y="1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1600200"/>
            <a:ext cx="3581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2 призн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                       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В                                     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                   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В</a:t>
            </a: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1                                                      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505320" y="3429000"/>
            <a:ext cx="2590560" cy="990720"/>
          </a:xfrm>
          <a:prstGeom prst="triangle">
            <a:avLst>
              <a:gd name="adj" fmla="val 7432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52680" y="4876920"/>
            <a:ext cx="2590920" cy="990360"/>
          </a:xfrm>
          <a:prstGeom prst="triangle">
            <a:avLst>
              <a:gd name="adj" fmla="val 7432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876920" y="426708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876920" y="563868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962520" y="4191120"/>
            <a:ext cx="38160" cy="223560"/>
          </a:xfrm>
          <a:custGeom>
            <a:avLst/>
            <a:gdLst/>
            <a:ahLst/>
            <a:rect l="l" t="t" r="r" b="b"/>
            <a:pathLst>
              <a:path w="24" h="141">
                <a:moveTo>
                  <a:pt x="0" y="0"/>
                </a:moveTo>
                <a:cubicBezTo>
                  <a:pt x="24" y="71"/>
                  <a:pt x="13" y="25"/>
                  <a:pt x="13" y="1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09880" y="5638680"/>
            <a:ext cx="38160" cy="223920"/>
          </a:xfrm>
          <a:custGeom>
            <a:avLst/>
            <a:gdLst/>
            <a:ahLst/>
            <a:rect l="l" t="t" r="r" b="b"/>
            <a:pathLst>
              <a:path w="24" h="141">
                <a:moveTo>
                  <a:pt x="0" y="0"/>
                </a:moveTo>
                <a:cubicBezTo>
                  <a:pt x="24" y="71"/>
                  <a:pt x="13" y="25"/>
                  <a:pt x="13" y="1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867280" y="4267080"/>
            <a:ext cx="184320" cy="1620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16" y="0"/>
                </a:moveTo>
                <a:cubicBezTo>
                  <a:pt x="105" y="3"/>
                  <a:pt x="30" y="20"/>
                  <a:pt x="26" y="26"/>
                </a:cubicBezTo>
                <a:cubicBezTo>
                  <a:pt x="10" y="48"/>
                  <a:pt x="0" y="102"/>
                  <a:pt x="0" y="10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638680" y="5715000"/>
            <a:ext cx="184320" cy="1620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16" y="0"/>
                </a:moveTo>
                <a:cubicBezTo>
                  <a:pt x="105" y="3"/>
                  <a:pt x="30" y="20"/>
                  <a:pt x="26" y="26"/>
                </a:cubicBezTo>
                <a:cubicBezTo>
                  <a:pt x="10" y="48"/>
                  <a:pt x="0" y="102"/>
                  <a:pt x="0" y="10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486400" y="5562720"/>
            <a:ext cx="244440" cy="325440"/>
          </a:xfrm>
          <a:custGeom>
            <a:avLst/>
            <a:gdLst/>
            <a:ahLst/>
            <a:rect l="l" t="t" r="r" b="b"/>
            <a:pathLst>
              <a:path w="154" h="205">
                <a:moveTo>
                  <a:pt x="0" y="205"/>
                </a:moveTo>
                <a:cubicBezTo>
                  <a:pt x="12" y="157"/>
                  <a:pt x="52" y="58"/>
                  <a:pt x="90" y="26"/>
                </a:cubicBezTo>
                <a:cubicBezTo>
                  <a:pt x="108" y="11"/>
                  <a:pt x="133" y="10"/>
                  <a:pt x="154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715000" y="4114800"/>
            <a:ext cx="244440" cy="325440"/>
          </a:xfrm>
          <a:custGeom>
            <a:avLst/>
            <a:gdLst/>
            <a:ahLst/>
            <a:rect l="l" t="t" r="r" b="b"/>
            <a:pathLst>
              <a:path w="154" h="205">
                <a:moveTo>
                  <a:pt x="0" y="205"/>
                </a:moveTo>
                <a:cubicBezTo>
                  <a:pt x="12" y="157"/>
                  <a:pt x="52" y="58"/>
                  <a:pt x="90" y="26"/>
                </a:cubicBezTo>
                <a:cubicBezTo>
                  <a:pt x="108" y="11"/>
                  <a:pt x="133" y="10"/>
                  <a:pt x="154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1066680"/>
            <a:ext cx="3581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3 призн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                       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В                                     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                   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В</a:t>
            </a: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1                                                         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248520" y="2895480"/>
            <a:ext cx="2590560" cy="990720"/>
          </a:xfrm>
          <a:prstGeom prst="triangle">
            <a:avLst>
              <a:gd name="adj" fmla="val 74324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324480" y="4343400"/>
            <a:ext cx="2590920" cy="990720"/>
          </a:xfrm>
          <a:prstGeom prst="triangle">
            <a:avLst>
              <a:gd name="adj" fmla="val 7432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162920" y="320040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620120" y="365760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772400" y="365760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391520" y="457200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391520" y="510552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543800" y="510552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8305560" y="30481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8381880" y="32004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8457840" y="32767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8305560" y="44956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8381880" y="45720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8457840" y="47242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72388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000"/>
                            </p:stCondLst>
                            <p:childTnLst>
                              <p:par>
                                <p:cTn id="7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000"/>
                            </p:stCondLst>
                            <p:childTnLst>
                              <p:par>
                                <p:cTn id="9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4000"/>
                            </p:stCondLst>
                            <p:childTnLst>
                              <p:par>
                                <p:cTn id="9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6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6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6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6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114800" y="2209680"/>
            <a:ext cx="3962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              О                 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22860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                  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                   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казать равенство треугольников на рисун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295280" y="53352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ч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24382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24382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3048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382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138320" y="2682720"/>
            <a:ext cx="325440" cy="60480"/>
          </a:xfrm>
          <a:custGeom>
            <a:avLst/>
            <a:gdLst/>
            <a:ahLst/>
            <a:rect l="l" t="t" r="r" b="b"/>
            <a:pathLst>
              <a:path w="205" h="38">
                <a:moveTo>
                  <a:pt x="0" y="0"/>
                </a:moveTo>
                <a:cubicBezTo>
                  <a:pt x="31" y="20"/>
                  <a:pt x="49" y="38"/>
                  <a:pt x="89" y="38"/>
                </a:cubicBezTo>
                <a:cubicBezTo>
                  <a:pt x="97" y="38"/>
                  <a:pt x="205" y="0"/>
                  <a:pt x="15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12840" y="3522600"/>
            <a:ext cx="244440" cy="54000"/>
          </a:xfrm>
          <a:custGeom>
            <a:avLst/>
            <a:gdLst/>
            <a:ahLst/>
            <a:rect l="l" t="t" r="r" b="b"/>
            <a:pathLst>
              <a:path w="154" h="34">
                <a:moveTo>
                  <a:pt x="0" y="34"/>
                </a:moveTo>
                <a:cubicBezTo>
                  <a:pt x="26" y="25"/>
                  <a:pt x="51" y="17"/>
                  <a:pt x="77" y="8"/>
                </a:cubicBezTo>
                <a:cubicBezTo>
                  <a:pt x="102" y="0"/>
                  <a:pt x="154" y="21"/>
                  <a:pt x="154" y="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19720" y="2286000"/>
            <a:ext cx="1447560" cy="1066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10800000">
            <a:off x="5867280" y="3352680"/>
            <a:ext cx="1447920" cy="1067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3276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477120" y="3276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0" y="3124080"/>
            <a:ext cx="81000" cy="223920"/>
          </a:xfrm>
          <a:custGeom>
            <a:avLst/>
            <a:gdLst/>
            <a:ahLst/>
            <a:rect l="l" t="t" r="r" b="b"/>
            <a:pathLst>
              <a:path w="51" h="141">
                <a:moveTo>
                  <a:pt x="0" y="0"/>
                </a:moveTo>
                <a:cubicBezTo>
                  <a:pt x="8" y="30"/>
                  <a:pt x="14" y="61"/>
                  <a:pt x="25" y="90"/>
                </a:cubicBezTo>
                <a:cubicBezTo>
                  <a:pt x="31" y="108"/>
                  <a:pt x="51" y="141"/>
                  <a:pt x="51" y="14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352680"/>
            <a:ext cx="188640" cy="219240"/>
          </a:xfrm>
          <a:custGeom>
            <a:avLst/>
            <a:gdLst/>
            <a:ahLst/>
            <a:rect l="l" t="t" r="r" b="b"/>
            <a:pathLst>
              <a:path w="119" h="138">
                <a:moveTo>
                  <a:pt x="17" y="23"/>
                </a:moveTo>
                <a:cubicBezTo>
                  <a:pt x="113" y="86"/>
                  <a:pt x="0" y="0"/>
                  <a:pt x="68" y="100"/>
                </a:cubicBezTo>
                <a:cubicBezTo>
                  <a:pt x="80" y="118"/>
                  <a:pt x="105" y="122"/>
                  <a:pt x="119" y="1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971800" y="4648320"/>
            <a:ext cx="2514600" cy="1676160"/>
          </a:xfrm>
          <a:prstGeom prst="parallelogram">
            <a:avLst>
              <a:gd name="adj" fmla="val 375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4648320"/>
            <a:ext cx="121932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200400" y="5486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495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62520" y="6248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733920" y="6248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464832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                       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                       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nextslide"/>
          </p:cNvPr>
          <p:cNvSpPr/>
          <p:nvPr/>
        </p:nvSpPr>
        <p:spPr>
          <a:xfrm>
            <a:off x="72388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9" dur="8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8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675"/>
            </a:gs>
            <a:gs pos="50000">
              <a:srgbClr val="cc99ff"/>
            </a:gs>
            <a:gs pos="100000">
              <a:srgbClr val="5e46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3809880"/>
            <a:ext cx="4724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М                                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.: Медианой треугольника называется   …………..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соединяющий вершину треугольника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…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781680" y="1600200"/>
            <a:ext cx="1676520" cy="5335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отрез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219320" y="45720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диана треугольника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2590920"/>
            <a:ext cx="8001000" cy="5331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серединой противоположной стор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66680" y="3962520"/>
            <a:ext cx="2743200" cy="1981080"/>
          </a:xfrm>
          <a:prstGeom prst="triangle">
            <a:avLst>
              <a:gd name="adj" fmla="val 24829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752480" y="4038480"/>
            <a:ext cx="685800" cy="19051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676520" y="579132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00400" y="579132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05520" y="3809880"/>
            <a:ext cx="3733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А – медиана </a:t>
            </a:r>
            <a:r>
              <a:rPr b="1" lang="el-GR" sz="2400" spc="-1" strike="noStrike">
                <a:solidFill>
                  <a:srgbClr val="660066"/>
                </a:solidFill>
                <a:latin typeface="Arial"/>
                <a:ea typeface="Arial"/>
              </a:rPr>
              <a:t>Δ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МСО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>
            <a:hlinkClick r:id="" action="ppaction://hlinkshowjump?jump=nextslide"/>
          </p:cNvPr>
          <p:cNvSpPr/>
          <p:nvPr/>
        </p:nvSpPr>
        <p:spPr>
          <a:xfrm>
            <a:off x="72388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0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7" dur="8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8" dur="8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9" dur="8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140"/>
                            </p:stCondLst>
                            <p:childTnLst>
                              <p:par>
                                <p:cTn id="1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3420"/>
                            </p:stCondLst>
                            <p:childTnLst>
                              <p:par>
                                <p:cTn id="1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9" dur="8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0" dur="8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1" dur="8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7" dur="10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a</cp:lastModifiedBy>
  <dcterms:modified xsi:type="dcterms:W3CDTF">2006-08-31T16:49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