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78C833-3489-4083-92A9-CDA45BFB0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EA735-6F45-4819-BF97-019419AC7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7F3BE4-6E1E-4AA9-B110-22F404AFC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2966F-F0E7-4637-A03B-1AFF357F4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0EC057-8383-4914-B07A-93D04CF5C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D87D5-7FF5-4844-AD1A-313148898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1C0DD0-BBCB-4C9E-B9A6-BB5D2BD0A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4C9B48-5559-48BA-BBE8-759D143F9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ED3AA1-CCBA-4DD1-BD20-6C6FEC9DE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2839F-C8D7-475D-A783-A7D78642D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25C7-7F97-402B-AED1-89E5A2E45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BAD3-9093-479C-91A7-43DAE3D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A5B1-6669-471C-8A02-5ADD022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D60D-6F1A-4936-BCD3-C86764951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3911-E59B-4F9F-968E-4D5715E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D6B2-1E96-49FB-A672-AD92402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3C12-2456-46DD-92EC-2C8C04C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ACB9-9D85-48C6-B08D-839DD0B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5EC7-414D-4ACE-9CC7-8BDABCA3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51FD-F2D7-4469-B6A7-B6CE7E0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926D-0880-427F-A0AD-40774D0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DBFE-8986-47E6-89AF-C79DFB4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C78EC5-4B1D-4471-89E9-D9026D697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601640" y="2457360"/>
            <a:ext cx="5829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овое государство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141640" y="4184640"/>
            <a:ext cx="4800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95959"/>
                </a:solidFill>
                <a:latin typeface="Calibri"/>
              </a:rPr>
              <a:t>Презентация ученика 9 класса МАОУ СОШ с.Чапаево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95959"/>
                </a:solidFill>
                <a:latin typeface="Calibri"/>
              </a:rPr>
              <a:t>Ильина Викто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329000" y="1214280"/>
            <a:ext cx="2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26920" y="2602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я правового государств появилась еще в дре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Аристотель, Платон, Цицер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 но  целостная концепция сложилась только в период становления буржуазного 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248000" y="229392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лософы эпохи Просве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Локк, Монтескье, Вольтер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уссо, Кан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сформулировали и обосновали идеи о верховенстве закона и  разделении власт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 идеи были разви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рубежными и российскими философами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IX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736720" cy="205272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533600" y="4832280"/>
            <a:ext cx="6076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58760" y="2855880"/>
            <a:ext cx="8891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овое государст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государство, в котором обеспечены  права и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свободы человека и  граждани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а власть подчинена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к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922400" y="363600"/>
            <a:ext cx="56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Разделение властей на три вет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81160" y="1052640"/>
            <a:ext cx="4751280" cy="293184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59" name="Rectangle 3"/>
          <p:cNvSpPr/>
          <p:nvPr/>
        </p:nvSpPr>
        <p:spPr>
          <a:xfrm>
            <a:off x="598320" y="4294080"/>
            <a:ext cx="70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нцип разделения властей озна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ая из трех властей должна быт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независи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т другой и в своей деятельности подчиняться только зако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власти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авны и автономн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ни одна из них не может быть устранена любой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474840" y="4365720"/>
            <a:ext cx="866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азделение властей обеспечивает взаимоограничение и взаимоконтроль всех ветвей власт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Этот принцип исключает возможность монополизации политической власти в стране, т.е. сосредоточение ее в руках одно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140360" y="333360"/>
            <a:ext cx="48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акая власть не может пользоваться прав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оставляемой Конституцией другой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ветви государственной власти решают задачу взаим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я и сдержи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«система сдержек и противовесов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98440" y="1035000"/>
            <a:ext cx="3489480" cy="30654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86400" y="53352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Исполнительная 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тавлена 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авительств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инистерствами, ведомств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0" y="1962000"/>
            <a:ext cx="36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не избирается, а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назначае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8480" y="283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Ее фун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0" y="32130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нение закон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я и управление жизнью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009800" y="50133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тельство РФ подотчетно Президенту РФ и контролируется Государственной ду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едатель Правительства и федеральные министры  назначаются Презид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3908520" cy="21384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259160" y="293760"/>
            <a:ext cx="386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Судебная 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тавлена судами всех уров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рокурорской систе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157640" y="1863720"/>
            <a:ext cx="46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стоятельная и независим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твь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216320" y="278280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Ее функц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210200" y="3424320"/>
            <a:ext cx="492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щать право пу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уществления конституцио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жданского, уголовног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дминистративного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судопроизводств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основе строгого соблюдения Конституции и других зак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68440" y="1577880"/>
            <a:ext cx="2992320" cy="32259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68280" y="18637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равовое государство обеспечив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064880" y="2666880"/>
            <a:ext cx="742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рантию пра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свобод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авноправ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т.е.  равенство возмож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ьзоваться правами и в  равной мер ис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дебного наказания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икто не может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зан без  следствия и 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ем 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-216000" y="1882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4:32:36Z</dcterms:created>
  <dc:creator>Olia</dc:creator>
  <dc:description/>
  <dc:language>en-US</dc:language>
  <cp:lastModifiedBy>History</cp:lastModifiedBy>
  <dcterms:modified xsi:type="dcterms:W3CDTF">2022-11-17T22:28:11Z</dcterms:modified>
  <cp:revision>71</cp:revision>
  <dc:subject/>
  <dc:title>Движение под руководством Е. Пугачева. 1773-1775</dc:title>
</cp:coreProperties>
</file>