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png" ContentType="image/png"/>
  <Override PartName="/ppt/media/image1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DB0-9B56-41AB-A149-25A74DC8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018-E760-446A-9EDE-FC1243C0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B05D-7AF7-4267-B51F-62CBBDAF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686-9CC5-4B57-8336-26D1896D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AA2-6E8D-45D8-8207-31B66743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4CC-6DC2-48E0-86C2-9D07E25E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DCE-1127-42D1-9A3C-42F4FDA3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8B5-A819-4F5E-A5B2-357E0DF6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A8F7-CFAA-4C88-BDD9-B10454B4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BB1-15D8-4AAD-8EA4-F69F99EB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16C-B0C8-436D-AC2C-76CA007B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B73E-D964-4DE9-A19D-46361C84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38AF-76A9-4C1F-8933-AD2773030E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285920" y="100080"/>
            <a:ext cx="628632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тория Древнего мира. 5 класс. Вигасин А.А., Годер Г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Подзаголовок 2"/>
          <p:cNvGrpSpPr/>
          <p:nvPr/>
        </p:nvGrpSpPr>
        <p:grpSpPr>
          <a:xfrm>
            <a:off x="622440" y="487440"/>
            <a:ext cx="7978680" cy="3541680"/>
            <a:chOff x="622440" y="487440"/>
            <a:chExt cx="7978680" cy="3541680"/>
          </a:xfrm>
        </p:grpSpPr>
        <p:pic>
          <p:nvPicPr>
            <p:cNvPr id="44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622440" y="487440"/>
              <a:ext cx="7978680" cy="35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84360" y="692280"/>
              <a:ext cx="77724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4000" spc="-1" strike="noStrike">
                  <a:solidFill>
                    <a:srgbClr val="000000"/>
                  </a:solidFill>
                  <a:latin typeface="Calibri"/>
                </a:rPr>
                <a:t>Урок </a:t>
              </a: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0" lang="ru-RU" sz="40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2060"/>
                  </a:solidFill>
                  <a:latin typeface="Calibri"/>
                </a:rPr>
                <a:t>Тема: </a:t>
              </a:r>
              <a:r>
                <a:rPr b="1" lang="ru-RU" sz="5000" spc="-1" strike="noStrike">
                  <a:solidFill>
                    <a:srgbClr val="ff0000"/>
                  </a:solidFill>
                  <a:latin typeface="Calibri"/>
                </a:rPr>
                <a:t>Возникновение искусства и религиозных верований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2" descr="C:\Documents and Settings\Admin\Мои документы\первобытные люди\im3.jfif"/>
          <p:cNvPicPr/>
          <p:nvPr/>
        </p:nvPicPr>
        <p:blipFill>
          <a:blip r:embed="rId2"/>
          <a:stretch/>
        </p:blipFill>
        <p:spPr>
          <a:xfrm>
            <a:off x="5929200" y="3703680"/>
            <a:ext cx="2714760" cy="231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357120" y="3716280"/>
            <a:ext cx="3135240" cy="223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Picture 4" descr=""/>
          <p:cNvPicPr/>
          <p:nvPr/>
        </p:nvPicPr>
        <p:blipFill>
          <a:blip r:embed="rId4"/>
          <a:stretch/>
        </p:blipFill>
        <p:spPr>
          <a:xfrm>
            <a:off x="3929040" y="3716280"/>
            <a:ext cx="1650960" cy="230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9" name="TextBox 7"/>
          <p:cNvSpPr/>
          <p:nvPr/>
        </p:nvSpPr>
        <p:spPr>
          <a:xfrm>
            <a:off x="2050920" y="6237360"/>
            <a:ext cx="661824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истории ГБОУ СОШ № 562: Канаев Никита Владими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Заголовок 1"/>
          <p:cNvGrpSpPr/>
          <p:nvPr/>
        </p:nvGrpSpPr>
        <p:grpSpPr>
          <a:xfrm>
            <a:off x="201600" y="231840"/>
            <a:ext cx="8740800" cy="1359000"/>
            <a:chOff x="201600" y="231840"/>
            <a:chExt cx="8740800" cy="1359000"/>
          </a:xfrm>
        </p:grpSpPr>
        <p:pic>
          <p:nvPicPr>
            <p:cNvPr id="9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1600" y="231840"/>
              <a:ext cx="87408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Calibri"/>
                </a:rPr>
                <a:t>Человек «заколдовывает» звер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500040" y="1785960"/>
            <a:ext cx="8072640" cy="450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Заголовок 1"/>
          <p:cNvGrpSpPr/>
          <p:nvPr/>
        </p:nvGrpSpPr>
        <p:grpSpPr>
          <a:xfrm>
            <a:off x="396720" y="231840"/>
            <a:ext cx="8350560" cy="1359000"/>
            <a:chOff x="396720" y="231840"/>
            <a:chExt cx="8350560" cy="1359000"/>
          </a:xfrm>
        </p:grpSpPr>
        <p:pic>
          <p:nvPicPr>
            <p:cNvPr id="9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6720" y="231840"/>
              <a:ext cx="835056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Calibri"/>
                </a:rPr>
                <a:t>Оборотен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2214720" y="1571760"/>
            <a:ext cx="4500360" cy="482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§ 3, вопросы 1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Заголовок 1"/>
          <p:cNvGrpSpPr/>
          <p:nvPr/>
        </p:nvGrpSpPr>
        <p:grpSpPr>
          <a:xfrm>
            <a:off x="396720" y="49320"/>
            <a:ext cx="8350560" cy="1785960"/>
            <a:chOff x="396720" y="49320"/>
            <a:chExt cx="8350560" cy="1785960"/>
          </a:xfrm>
        </p:grpSpPr>
        <p:pic>
          <p:nvPicPr>
            <p:cNvPr id="5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6720" y="49320"/>
              <a:ext cx="8350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Как была найдена пещерная живопись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3143160" cy="427320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500040" y="6072120"/>
            <a:ext cx="2928960" cy="398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селино де Сауту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3786120" y="1785960"/>
            <a:ext cx="4786560" cy="4667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утуола работал в одиночку, приходил в пещеру — и день за днем копал. (Археологи были тогда еще одиночками — первопроходцами своей науки). Хотя археолог не был совсем один: он брал с собой дочку, Марию. Девочке полезна прогулка в горы, а пока отец работал, ей нравилось ходить по пещере и рассматривать ее. И вот однажды он услышал ее звонкий возглас: «Папа, смотри, нарисованные быки!» Оторвавшись от земли, папа поднял усталые глаза — и замер от удивления, не зная, что и подумать. Действительно, б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4176720" cy="27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"/>
          <p:cNvSpPr txBox="1"/>
          <p:nvPr/>
        </p:nvSpPr>
        <p:spPr>
          <a:xfrm>
            <a:off x="357120" y="4429080"/>
            <a:ext cx="8429760" cy="1938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240" indent="1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го насчитали 23 изображения — целое стадо! Они были выполнены твердой рукой древнего художника, который талантливо использовал естественные выпуклости свода пещеры. Он оживил эти выпуклости резцом и обвел краской — получились не просто рисунки, а цветные барельефы. Массивные туши бизонов с характерными горбатыми загривками раскрашивались красной краск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081320" cy="27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9" name="Заголовок 1"/>
          <p:cNvGrpSpPr/>
          <p:nvPr/>
        </p:nvGrpSpPr>
        <p:grpSpPr>
          <a:xfrm>
            <a:off x="396720" y="49320"/>
            <a:ext cx="8350560" cy="1785960"/>
            <a:chOff x="396720" y="49320"/>
            <a:chExt cx="8350560" cy="1785960"/>
          </a:xfrm>
        </p:grpSpPr>
        <p:pic>
          <p:nvPicPr>
            <p:cNvPr id="60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396720" y="49320"/>
              <a:ext cx="8350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Как была найдена пещерная живопись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857680" y="1500120"/>
            <a:ext cx="3929040" cy="290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63" name="Заголовок 1"/>
          <p:cNvGrpSpPr/>
          <p:nvPr/>
        </p:nvGrpSpPr>
        <p:grpSpPr>
          <a:xfrm>
            <a:off x="396720" y="49320"/>
            <a:ext cx="8350560" cy="1785960"/>
            <a:chOff x="396720" y="49320"/>
            <a:chExt cx="8350560" cy="1785960"/>
          </a:xfrm>
        </p:grpSpPr>
        <p:pic>
          <p:nvPicPr>
            <p:cNvPr id="64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96720" y="49320"/>
              <a:ext cx="8350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Как была найдена пещерная живопись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8"/>
          <p:cNvSpPr/>
          <p:nvPr/>
        </p:nvSpPr>
        <p:spPr>
          <a:xfrm>
            <a:off x="285840" y="4500720"/>
            <a:ext cx="8358120" cy="2040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е тон, оттенки и плотность от места к месту менялись, что придавало рисункам рельефность. Отдельные части тела бизонов, в частности ноги, голова, рога, шерсть на загривке, грудь и круп, расписывались черной или коричневой краской. В разинутой пасти бизона между темными линиями губ виднелся буро-красный язык; на нежно-розовом миндалевидном белке глаза черной дырой округлился широко раскрытый зрачок, который, казалось, напряженно вглядывался в тех, кто дерзко осмелился нарушить тишину и вечный мрак подземелья. Совершенство и красота изображения поразили археолога. Ведь выполнены они были около 15 тысяч лет назад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Заголовок 1"/>
          <p:cNvGrpSpPr/>
          <p:nvPr/>
        </p:nvGrpSpPr>
        <p:grpSpPr>
          <a:xfrm>
            <a:off x="396720" y="49320"/>
            <a:ext cx="8350560" cy="1785960"/>
            <a:chOff x="396720" y="49320"/>
            <a:chExt cx="8350560" cy="1785960"/>
          </a:xfrm>
        </p:grpSpPr>
        <p:pic>
          <p:nvPicPr>
            <p:cNvPr id="6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6720" y="49320"/>
              <a:ext cx="8350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alibri"/>
                </a:rPr>
                <a:t>Что изображали первобытные художник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500040" y="1785960"/>
            <a:ext cx="3214800" cy="428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Picture 3" descr=""/>
          <p:cNvPicPr/>
          <p:nvPr/>
        </p:nvPicPr>
        <p:blipFill>
          <a:blip r:embed="rId3"/>
          <a:stretch/>
        </p:blipFill>
        <p:spPr>
          <a:xfrm>
            <a:off x="3929040" y="1785960"/>
            <a:ext cx="4778280" cy="428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714240" y="1714680"/>
            <a:ext cx="3500640" cy="234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4857840" y="1714680"/>
            <a:ext cx="3429000" cy="229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642960" y="4214880"/>
            <a:ext cx="404640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75" name="Заголовок 1"/>
          <p:cNvGrpSpPr/>
          <p:nvPr/>
        </p:nvGrpSpPr>
        <p:grpSpPr>
          <a:xfrm>
            <a:off x="438120" y="49320"/>
            <a:ext cx="8309160" cy="1785960"/>
            <a:chOff x="438120" y="49320"/>
            <a:chExt cx="8309160" cy="1785960"/>
          </a:xfrm>
        </p:grpSpPr>
        <p:pic>
          <p:nvPicPr>
            <p:cNvPr id="76" name="Заголовок 1" descr=""/>
            <p:cNvPicPr/>
            <p:nvPr/>
          </p:nvPicPr>
          <p:blipFill>
            <a:blip r:embed="rId4"/>
            <a:stretch/>
          </p:blipFill>
          <p:spPr>
            <a:xfrm>
              <a:off x="438120" y="49320"/>
              <a:ext cx="83091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00040" y="274680"/>
              <a:ext cx="8186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alibri"/>
                </a:rPr>
                <a:t>Что изображали первобытные художник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5000760" y="4214880"/>
            <a:ext cx="324324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3571920" cy="47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80" name="Заголовок 1"/>
          <p:cNvGrpSpPr/>
          <p:nvPr/>
        </p:nvGrpSpPr>
        <p:grpSpPr>
          <a:xfrm>
            <a:off x="396720" y="49320"/>
            <a:ext cx="8350560" cy="1785960"/>
            <a:chOff x="396720" y="49320"/>
            <a:chExt cx="8350560" cy="1785960"/>
          </a:xfrm>
        </p:grpSpPr>
        <p:pic>
          <p:nvPicPr>
            <p:cNvPr id="81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96720" y="49320"/>
              <a:ext cx="8350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alibri"/>
                </a:rPr>
                <a:t>Что изображали первобытные художник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8"/>
          <p:cNvSpPr/>
          <p:nvPr/>
        </p:nvSpPr>
        <p:spPr>
          <a:xfrm>
            <a:off x="4500720" y="1714680"/>
            <a:ext cx="4143240" cy="4545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мон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— род вымерших животных четвертичного периода семейства слоновых. По строению скелета мамонт представляет значительное сходство с ныне живущим индейским слоном, которого несколько превосходил величиной, достигая 5,5  м длины и 3,1  м высоты. Громадные бивни мамонта, до 4  м в длину, массой до 100  кг, были вставлены в верхнюю челюсть, выставлялись вперед, загибались кверху и расходились в сторо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Заголовок 1"/>
          <p:cNvGrpSpPr/>
          <p:nvPr/>
        </p:nvGrpSpPr>
        <p:grpSpPr>
          <a:xfrm>
            <a:off x="396720" y="231840"/>
            <a:ext cx="8350560" cy="1359000"/>
            <a:chOff x="396720" y="231840"/>
            <a:chExt cx="8350560" cy="1359000"/>
          </a:xfrm>
        </p:grpSpPr>
        <p:pic>
          <p:nvPicPr>
            <p:cNvPr id="8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6720" y="231840"/>
              <a:ext cx="835056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Calibri"/>
                </a:rPr>
                <a:t>Животные из Каповой пещер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1214280" y="1643040"/>
            <a:ext cx="6278760" cy="471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Заголовок 1"/>
          <p:cNvGrpSpPr/>
          <p:nvPr/>
        </p:nvGrpSpPr>
        <p:grpSpPr>
          <a:xfrm>
            <a:off x="341280" y="-12600"/>
            <a:ext cx="8521560" cy="1785960"/>
            <a:chOff x="341280" y="-12600"/>
            <a:chExt cx="8521560" cy="1785960"/>
          </a:xfrm>
        </p:grpSpPr>
        <p:pic>
          <p:nvPicPr>
            <p:cNvPr id="8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41280" y="-12600"/>
              <a:ext cx="8521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28760" y="2142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Пещера Ляско (Франция). Охотник и бизон.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138320" y="1600200"/>
            <a:ext cx="6719760" cy="502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1T19:32:10Z</dcterms:created>
  <dc:creator>Admin</dc:creator>
  <dc:description/>
  <dc:language>en-US</dc:language>
  <cp:lastModifiedBy>Teacher</cp:lastModifiedBy>
  <dcterms:modified xsi:type="dcterms:W3CDTF">2022-11-18T06:13:19Z</dcterms:modified>
  <cp:revision>21</cp:revision>
  <dc:subject/>
  <dc:title>Урок 4.  Тема: Возникновение искусства и религиозных верований</dc:title>
</cp:coreProperties>
</file>