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94E-A2D5-496E-9512-CA5F383E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F8A-DC1D-404B-B7B7-A7E5939F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06F-8753-4A71-A2FC-21511886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9B0-E711-4E9D-82CF-12EB35BF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B238-B213-46A2-889B-0DE16952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4982-EBA6-4886-A6C8-561D0CB5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0A56-10A1-4707-9A2E-1DB4A692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DE09-6C80-4250-8C89-09327C15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3A5B-DA69-42C5-8AB4-BB47C5D5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7246-8FFD-4428-BB03-10CAB66E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83B3-8A40-4615-8455-9CC73248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77E-2413-4E66-9F38-35E82F40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E2C7-CFB1-4FCF-A102-2D391F1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CE08-48A7-4229-A6ED-07B99A5B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CD44-46D8-4446-A3AF-8301D6BA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F0BD-CC62-498E-B209-6D451B81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0639-F425-49BC-A3E5-1F486D08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1D4-3557-4C1B-B0F0-1CD897CA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299-D9E1-4783-A42F-B76296EB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60C-D044-4663-BCF6-0C06CB3D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805-1D22-4579-8600-ABE235B9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6C3-1586-4FE6-8B49-21CEC414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EB7-CDFF-48FF-912C-AA6DAE8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037-AA52-462D-809C-47E10AB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72BE-C7E3-4CF5-AF74-E4A6B03FE4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430B-949F-4604-BE3C-2F12B1E0A6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835280" y="3429000"/>
            <a:ext cx="6622920" cy="23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овой и слоговой анализ при автоматизации звука Ль 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Автор: учитель-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Боржевец Анастасия Александр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Муниципальное бюджетное дошкольное образовательное  учреждение детский сад «Ягод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с. Ванавара» ЭМ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1095480" cy="74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700360" y="2708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2700360" y="5157720"/>
            <a:ext cx="1257120" cy="695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5508720" y="333360"/>
            <a:ext cx="1208160" cy="1046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1724040" cy="109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6"/>
          <a:stretch/>
        </p:blipFill>
        <p:spPr>
          <a:xfrm>
            <a:off x="7667640" y="2060640"/>
            <a:ext cx="1114560" cy="780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7"/>
          <a:stretch/>
        </p:blipFill>
        <p:spPr>
          <a:xfrm>
            <a:off x="5940360" y="2421000"/>
            <a:ext cx="148608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8"/>
          <a:stretch/>
        </p:blipFill>
        <p:spPr>
          <a:xfrm>
            <a:off x="7524720" y="3500280"/>
            <a:ext cx="1314360" cy="1467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9"/>
          <a:stretch/>
        </p:blipFill>
        <p:spPr>
          <a:xfrm>
            <a:off x="5508720" y="1557360"/>
            <a:ext cx="1076400" cy="1514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10"/>
          <a:stretch/>
        </p:blipFill>
        <p:spPr>
          <a:xfrm>
            <a:off x="6156360" y="4005360"/>
            <a:ext cx="123804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11"/>
          <a:stretch/>
        </p:blipFill>
        <p:spPr>
          <a:xfrm>
            <a:off x="7236000" y="5373720"/>
            <a:ext cx="1908000" cy="109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/>
          <p:cNvPicPr/>
          <p:nvPr/>
        </p:nvPicPr>
        <p:blipFill>
          <a:blip r:embed="rId12"/>
          <a:stretch/>
        </p:blipFill>
        <p:spPr>
          <a:xfrm>
            <a:off x="5940360" y="5445000"/>
            <a:ext cx="873360" cy="10526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4">
            <a:hlinkClick r:id="" action="ppaction://hlinkshowjump?jump=nextslide"/>
          </p:cNvPr>
          <p:cNvSpPr/>
          <p:nvPr/>
        </p:nvSpPr>
        <p:spPr>
          <a:xfrm>
            <a:off x="4572000" y="6093000"/>
            <a:ext cx="647640" cy="765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65000"/>
              <a:gd name="textAreaBottom" fmla="*/ 723240 h 765000"/>
            </a:gdLst>
            <a:ahLst/>
            <a:rect l="textAreaLeft" t="textAreaTop" r="textAreaRight" b="textAreaBottom"/>
            <a:pathLst>
              <a:path w="21600" h="25512">
                <a:moveTo>
                  <a:pt x="0" y="0"/>
                </a:moveTo>
                <a:lnTo>
                  <a:pt x="21600" y="0"/>
                </a:lnTo>
                <a:lnTo>
                  <a:pt x="21600" y="25512"/>
                </a:lnTo>
                <a:lnTo>
                  <a:pt x="0" y="25512"/>
                </a:lnTo>
                <a:close/>
              </a:path>
              <a:path fill="lightenLess" w="21600" h="25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12">
                <a:moveTo>
                  <a:pt x="21600" y="0"/>
                </a:moveTo>
                <a:lnTo>
                  <a:pt x="21600" y="25512"/>
                </a:lnTo>
                <a:lnTo>
                  <a:pt x="20200" y="24112"/>
                </a:lnTo>
                <a:lnTo>
                  <a:pt x="20200" y="1400"/>
                </a:lnTo>
                <a:close/>
              </a:path>
              <a:path fill="darkenLess" w="21600" h="25512">
                <a:moveTo>
                  <a:pt x="21600" y="25512"/>
                </a:moveTo>
                <a:lnTo>
                  <a:pt x="0" y="25512"/>
                </a:lnTo>
                <a:lnTo>
                  <a:pt x="1400" y="24112"/>
                </a:lnTo>
                <a:lnTo>
                  <a:pt x="20200" y="24112"/>
                </a:lnTo>
                <a:close/>
              </a:path>
              <a:path fill="lighten" w="21600" h="25512">
                <a:moveTo>
                  <a:pt x="0" y="25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12"/>
                </a:lnTo>
                <a:close/>
              </a:path>
              <a:path fill="darken" w="21600" h="25512">
                <a:moveTo>
                  <a:pt x="3794" y="5750"/>
                </a:moveTo>
                <a:lnTo>
                  <a:pt x="17806" y="12756"/>
                </a:lnTo>
                <a:lnTo>
                  <a:pt x="3794" y="197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>
            <a:hlinkClick r:id="" action="ppaction://hlinkshowjump?jump=previousslide"/>
          </p:cNvPr>
          <p:cNvSpPr/>
          <p:nvPr/>
        </p:nvSpPr>
        <p:spPr>
          <a:xfrm>
            <a:off x="363528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-0.21267 0.31504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6.2963E-006 L -0.35434 0.68265 E">
                                      <p:cBhvr>
                                        <p:cTn id="1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-0.17326 0.44097 E">
                                      <p:cBhvr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07407E-006 L -0.2677 -0.32547 E">
                                      <p:cBhvr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-0.43316 -0.22037 E">
                                      <p:cBhvr>
                                        <p:cTn id="2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7 L -0.27552 -0.18889 E">
                                      <p:cBhvr>
                                        <p:cTn id="2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40741E-007 L -0.2283 -0.70347 E">
                                      <p:cBhvr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18519E-006 L -0.36233 -0.72454 E">
                                      <p:cBhvr>
                                        <p:cTn id="3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627280" y="-65160"/>
            <a:ext cx="5707080" cy="6923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4429440" y="5516640"/>
            <a:ext cx="5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39360" y="5516640"/>
            <a:ext cx="7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965920" y="5516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</p:cNvPr>
          <p:cNvSpPr/>
          <p:nvPr/>
        </p:nvSpPr>
        <p:spPr>
          <a:xfrm>
            <a:off x="8352000" y="6031080"/>
            <a:ext cx="792000" cy="82692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26920"/>
              <a:gd name="textAreaBottom" fmla="*/ 775800 h 826920"/>
            </a:gdLst>
            <a:ahLst/>
            <a:rect l="textAreaLeft" t="textAreaTop" r="textAreaRight" b="textAreaBottom"/>
            <a:pathLst>
              <a:path w="21600" h="22552">
                <a:moveTo>
                  <a:pt x="0" y="0"/>
                </a:moveTo>
                <a:lnTo>
                  <a:pt x="21600" y="0"/>
                </a:lnTo>
                <a:lnTo>
                  <a:pt x="21600" y="22552"/>
                </a:lnTo>
                <a:lnTo>
                  <a:pt x="0" y="22552"/>
                </a:lnTo>
                <a:close/>
              </a:path>
              <a:path fill="lightenLess" w="21600" h="22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52">
                <a:moveTo>
                  <a:pt x="21600" y="0"/>
                </a:moveTo>
                <a:lnTo>
                  <a:pt x="21600" y="22552"/>
                </a:lnTo>
                <a:lnTo>
                  <a:pt x="20200" y="21152"/>
                </a:lnTo>
                <a:lnTo>
                  <a:pt x="20200" y="1400"/>
                </a:lnTo>
                <a:close/>
              </a:path>
              <a:path fill="darkenLess" w="21600" h="22552">
                <a:moveTo>
                  <a:pt x="21600" y="22552"/>
                </a:moveTo>
                <a:lnTo>
                  <a:pt x="0" y="22552"/>
                </a:lnTo>
                <a:lnTo>
                  <a:pt x="1400" y="21152"/>
                </a:lnTo>
                <a:lnTo>
                  <a:pt x="20200" y="21152"/>
                </a:lnTo>
                <a:close/>
              </a:path>
              <a:path fill="lighten" w="21600" h="22552">
                <a:moveTo>
                  <a:pt x="0" y="22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52"/>
                </a:lnTo>
                <a:close/>
              </a:path>
              <a:path fill="darken" w="21600" h="22552">
                <a:moveTo>
                  <a:pt x="3794" y="4269"/>
                </a:moveTo>
                <a:lnTo>
                  <a:pt x="17806" y="11276"/>
                </a:lnTo>
                <a:lnTo>
                  <a:pt x="3794" y="18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>
            <a:hlinkClick r:id="" action="ppaction://hlinkshowjump?jump=previousslide"/>
          </p:cNvPr>
          <p:cNvSpPr/>
          <p:nvPr/>
        </p:nvSpPr>
        <p:spPr>
          <a:xfrm>
            <a:off x="1692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5067360" cy="6446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4213440" y="5661000"/>
            <a:ext cx="5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931280" y="566100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688360" y="5661000"/>
            <a:ext cx="6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469200" y="5661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>
            <a:hlinkClick r:id="" action="ppaction://hlinkshowjump?jump=nextslide"/>
          </p:cNvPr>
          <p:cNvSpPr/>
          <p:nvPr/>
        </p:nvSpPr>
        <p:spPr>
          <a:xfrm>
            <a:off x="8352000" y="6031080"/>
            <a:ext cx="792000" cy="82692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26920"/>
              <a:gd name="textAreaBottom" fmla="*/ 775800 h 826920"/>
            </a:gdLst>
            <a:ahLst/>
            <a:rect l="textAreaLeft" t="textAreaTop" r="textAreaRight" b="textAreaBottom"/>
            <a:pathLst>
              <a:path w="21600" h="22552">
                <a:moveTo>
                  <a:pt x="0" y="0"/>
                </a:moveTo>
                <a:lnTo>
                  <a:pt x="21600" y="0"/>
                </a:lnTo>
                <a:lnTo>
                  <a:pt x="21600" y="22552"/>
                </a:lnTo>
                <a:lnTo>
                  <a:pt x="0" y="22552"/>
                </a:lnTo>
                <a:close/>
              </a:path>
              <a:path fill="lightenLess" w="21600" h="22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52">
                <a:moveTo>
                  <a:pt x="21600" y="0"/>
                </a:moveTo>
                <a:lnTo>
                  <a:pt x="21600" y="22552"/>
                </a:lnTo>
                <a:lnTo>
                  <a:pt x="20200" y="21152"/>
                </a:lnTo>
                <a:lnTo>
                  <a:pt x="20200" y="1400"/>
                </a:lnTo>
                <a:close/>
              </a:path>
              <a:path fill="darkenLess" w="21600" h="22552">
                <a:moveTo>
                  <a:pt x="21600" y="22552"/>
                </a:moveTo>
                <a:lnTo>
                  <a:pt x="0" y="22552"/>
                </a:lnTo>
                <a:lnTo>
                  <a:pt x="1400" y="21152"/>
                </a:lnTo>
                <a:lnTo>
                  <a:pt x="20200" y="21152"/>
                </a:lnTo>
                <a:close/>
              </a:path>
              <a:path fill="lighten" w="21600" h="22552">
                <a:moveTo>
                  <a:pt x="0" y="22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52"/>
                </a:lnTo>
                <a:close/>
              </a:path>
              <a:path fill="darken" w="21600" h="22552">
                <a:moveTo>
                  <a:pt x="3794" y="4269"/>
                </a:moveTo>
                <a:lnTo>
                  <a:pt x="17806" y="11276"/>
                </a:lnTo>
                <a:lnTo>
                  <a:pt x="3794" y="18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>
            <a:hlinkClick r:id="" action="ppaction://hlinkshowjump?jump=previousslide"/>
          </p:cNvPr>
          <p:cNvSpPr/>
          <p:nvPr/>
        </p:nvSpPr>
        <p:spPr>
          <a:xfrm>
            <a:off x="241128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627280" y="0"/>
            <a:ext cx="58467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672360" y="5805360"/>
            <a:ext cx="6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426560" y="580536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150160" y="5805360"/>
            <a:ext cx="5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794920" y="580536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514200" y="580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>
            <a:hlinkClick r:id="" action="ppaction://hlinkshowjump?jump=nextslide"/>
          </p:cNvPr>
          <p:cNvSpPr/>
          <p:nvPr/>
        </p:nvSpPr>
        <p:spPr>
          <a:xfrm>
            <a:off x="8352000" y="6031080"/>
            <a:ext cx="792000" cy="82692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26920"/>
              <a:gd name="textAreaBottom" fmla="*/ 775800 h 826920"/>
            </a:gdLst>
            <a:ahLst/>
            <a:rect l="textAreaLeft" t="textAreaTop" r="textAreaRight" b="textAreaBottom"/>
            <a:pathLst>
              <a:path w="21600" h="22552">
                <a:moveTo>
                  <a:pt x="0" y="0"/>
                </a:moveTo>
                <a:lnTo>
                  <a:pt x="21600" y="0"/>
                </a:lnTo>
                <a:lnTo>
                  <a:pt x="21600" y="22552"/>
                </a:lnTo>
                <a:lnTo>
                  <a:pt x="0" y="22552"/>
                </a:lnTo>
                <a:close/>
              </a:path>
              <a:path fill="lightenLess" w="21600" h="22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52">
                <a:moveTo>
                  <a:pt x="21600" y="0"/>
                </a:moveTo>
                <a:lnTo>
                  <a:pt x="21600" y="22552"/>
                </a:lnTo>
                <a:lnTo>
                  <a:pt x="20200" y="21152"/>
                </a:lnTo>
                <a:lnTo>
                  <a:pt x="20200" y="1400"/>
                </a:lnTo>
                <a:close/>
              </a:path>
              <a:path fill="darkenLess" w="21600" h="22552">
                <a:moveTo>
                  <a:pt x="21600" y="22552"/>
                </a:moveTo>
                <a:lnTo>
                  <a:pt x="0" y="22552"/>
                </a:lnTo>
                <a:lnTo>
                  <a:pt x="1400" y="21152"/>
                </a:lnTo>
                <a:lnTo>
                  <a:pt x="20200" y="21152"/>
                </a:lnTo>
                <a:close/>
              </a:path>
              <a:path fill="lighten" w="21600" h="22552">
                <a:moveTo>
                  <a:pt x="0" y="22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52"/>
                </a:lnTo>
                <a:close/>
              </a:path>
              <a:path fill="darken" w="21600" h="22552">
                <a:moveTo>
                  <a:pt x="3794" y="4269"/>
                </a:moveTo>
                <a:lnTo>
                  <a:pt x="17806" y="11276"/>
                </a:lnTo>
                <a:lnTo>
                  <a:pt x="3794" y="18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previousslide"/>
          </p:cNvPr>
          <p:cNvSpPr/>
          <p:nvPr/>
        </p:nvSpPr>
        <p:spPr>
          <a:xfrm>
            <a:off x="205092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916360" y="0"/>
            <a:ext cx="53481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886920" y="5950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678920" y="5950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475600" y="5950080"/>
            <a:ext cx="5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185520" y="5950080"/>
            <a:ext cx="7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7012080" y="59500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>
            <a:hlinkClick r:id="" action="ppaction://hlinkshowjump?jump=nextslide"/>
          </p:cNvPr>
          <p:cNvSpPr/>
          <p:nvPr/>
        </p:nvSpPr>
        <p:spPr>
          <a:xfrm>
            <a:off x="8352000" y="6031080"/>
            <a:ext cx="792000" cy="82692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26920"/>
              <a:gd name="textAreaBottom" fmla="*/ 775800 h 826920"/>
            </a:gdLst>
            <a:ahLst/>
            <a:rect l="textAreaLeft" t="textAreaTop" r="textAreaRight" b="textAreaBottom"/>
            <a:pathLst>
              <a:path w="21600" h="22552">
                <a:moveTo>
                  <a:pt x="0" y="0"/>
                </a:moveTo>
                <a:lnTo>
                  <a:pt x="21600" y="0"/>
                </a:lnTo>
                <a:lnTo>
                  <a:pt x="21600" y="22552"/>
                </a:lnTo>
                <a:lnTo>
                  <a:pt x="0" y="22552"/>
                </a:lnTo>
                <a:close/>
              </a:path>
              <a:path fill="lightenLess" w="21600" h="22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52">
                <a:moveTo>
                  <a:pt x="21600" y="0"/>
                </a:moveTo>
                <a:lnTo>
                  <a:pt x="21600" y="22552"/>
                </a:lnTo>
                <a:lnTo>
                  <a:pt x="20200" y="21152"/>
                </a:lnTo>
                <a:lnTo>
                  <a:pt x="20200" y="1400"/>
                </a:lnTo>
                <a:close/>
              </a:path>
              <a:path fill="darkenLess" w="21600" h="22552">
                <a:moveTo>
                  <a:pt x="21600" y="22552"/>
                </a:moveTo>
                <a:lnTo>
                  <a:pt x="0" y="22552"/>
                </a:lnTo>
                <a:lnTo>
                  <a:pt x="1400" y="21152"/>
                </a:lnTo>
                <a:lnTo>
                  <a:pt x="20200" y="21152"/>
                </a:lnTo>
                <a:close/>
              </a:path>
              <a:path fill="lighten" w="21600" h="22552">
                <a:moveTo>
                  <a:pt x="0" y="22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52"/>
                </a:lnTo>
                <a:close/>
              </a:path>
              <a:path fill="darken" w="21600" h="22552">
                <a:moveTo>
                  <a:pt x="3794" y="4269"/>
                </a:moveTo>
                <a:lnTo>
                  <a:pt x="17806" y="11276"/>
                </a:lnTo>
                <a:lnTo>
                  <a:pt x="3794" y="18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>
            <a:hlinkClick r:id="" action="ppaction://hlinkshowjump?jump=previousslide"/>
          </p:cNvPr>
          <p:cNvSpPr/>
          <p:nvPr/>
        </p:nvSpPr>
        <p:spPr>
          <a:xfrm>
            <a:off x="234000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671920" y="0"/>
            <a:ext cx="6033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4360" y="-243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Расшифруй сло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68360" y="2781360"/>
            <a:ext cx="1705320" cy="1676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176720" y="1484280"/>
            <a:ext cx="4967280" cy="2081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268360" y="4581360"/>
            <a:ext cx="6659640" cy="2070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758120" y="299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010200" y="2997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7237800" y="299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8312040" y="2997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766960" y="602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919320" y="602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5270400" y="602136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586560" y="60213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7880040" y="60213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>
            <a:hlinkClick r:id="" action="ppaction://hlinkshowjump?jump=nextslide"/>
          </p:cNvPr>
          <p:cNvSpPr/>
          <p:nvPr/>
        </p:nvSpPr>
        <p:spPr>
          <a:xfrm>
            <a:off x="8352000" y="0"/>
            <a:ext cx="792000" cy="82692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26920"/>
              <a:gd name="textAreaBottom" fmla="*/ 775800 h 826920"/>
            </a:gdLst>
            <a:ahLst/>
            <a:rect l="textAreaLeft" t="textAreaTop" r="textAreaRight" b="textAreaBottom"/>
            <a:pathLst>
              <a:path w="21600" h="22552">
                <a:moveTo>
                  <a:pt x="0" y="0"/>
                </a:moveTo>
                <a:lnTo>
                  <a:pt x="21600" y="0"/>
                </a:lnTo>
                <a:lnTo>
                  <a:pt x="21600" y="22552"/>
                </a:lnTo>
                <a:lnTo>
                  <a:pt x="0" y="22552"/>
                </a:lnTo>
                <a:close/>
              </a:path>
              <a:path fill="lightenLess" w="21600" h="22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52">
                <a:moveTo>
                  <a:pt x="21600" y="0"/>
                </a:moveTo>
                <a:lnTo>
                  <a:pt x="21600" y="22552"/>
                </a:lnTo>
                <a:lnTo>
                  <a:pt x="20200" y="21152"/>
                </a:lnTo>
                <a:lnTo>
                  <a:pt x="20200" y="1400"/>
                </a:lnTo>
                <a:close/>
              </a:path>
              <a:path fill="darkenLess" w="21600" h="22552">
                <a:moveTo>
                  <a:pt x="21600" y="22552"/>
                </a:moveTo>
                <a:lnTo>
                  <a:pt x="0" y="22552"/>
                </a:lnTo>
                <a:lnTo>
                  <a:pt x="1400" y="21152"/>
                </a:lnTo>
                <a:lnTo>
                  <a:pt x="20200" y="21152"/>
                </a:lnTo>
                <a:close/>
              </a:path>
              <a:path fill="lighten" w="21600" h="22552">
                <a:moveTo>
                  <a:pt x="0" y="22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52"/>
                </a:lnTo>
                <a:close/>
              </a:path>
              <a:path fill="darken" w="21600" h="22552">
                <a:moveTo>
                  <a:pt x="3794" y="4269"/>
                </a:moveTo>
                <a:lnTo>
                  <a:pt x="17806" y="11276"/>
                </a:lnTo>
                <a:lnTo>
                  <a:pt x="3794" y="18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>
            <a:hlinkClick r:id="" action="ppaction://hlinkshowjump?jump=previousslide"/>
          </p:cNvPr>
          <p:cNvSpPr/>
          <p:nvPr/>
        </p:nvSpPr>
        <p:spPr>
          <a:xfrm>
            <a:off x="2484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7:52:07Z</dcterms:created>
  <dc:creator>123</dc:creator>
  <dc:description/>
  <dc:language>en-US</dc:language>
  <cp:lastModifiedBy>Александр Оружило</cp:lastModifiedBy>
  <dcterms:modified xsi:type="dcterms:W3CDTF">2022-11-17T09:52:37Z</dcterms:modified>
  <cp:revision>2</cp:revision>
  <dc:subject/>
  <dc:title>Звуковой и слоговой анализ при автоматизации звука Ль (продолжение)</dc:title>
</cp:coreProperties>
</file>