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8489-650E-4A6B-B31E-F5B8B1AF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3BD4-D731-46E0-A6E5-F00C6097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DF75-894A-4430-8DBF-66B9080B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D2F5-CE3E-4E3A-8668-E4CCE7D0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898D-2C39-4D6D-98AE-9FD18E74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00DB-AB43-4B32-AC0B-40785DC5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868A-3008-4599-9207-A2C6227D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BC5E-A6EB-4535-8D4E-7CFA7AEF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2544-5E65-471B-9049-17D7319F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10AD-730D-47B1-959E-02537736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1210-6BAB-41DA-8406-B802871C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DB89-9413-4011-9697-AC4E7FA3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6e6">
            <a:alpha val="9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9986-CB34-4A21-9165-7075F127A9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0120" y="473040"/>
            <a:ext cx="11862000" cy="475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7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Һаумы, алтын ҡояшым!</a:t>
            </a:r>
            <a:br>
              <a:rPr sz="7200"/>
            </a:br>
            <a:r>
              <a:rPr b="0" lang="ba-RU" sz="7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Һаумы, зәп-зәңгәр күгем!</a:t>
            </a:r>
            <a:br>
              <a:rPr sz="7200"/>
            </a:br>
            <a:r>
              <a:rPr b="0" lang="ba-RU" sz="7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Һаумы, минең елкәйем!</a:t>
            </a:r>
            <a:br>
              <a:rPr sz="7200"/>
            </a:br>
            <a:r>
              <a:rPr b="0" lang="ba-RU" sz="7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өтәгеҙҙе сәләмләйем!</a:t>
            </a:r>
            <a:br>
              <a:rPr sz="4000"/>
            </a:b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0000" y="1342800"/>
            <a:ext cx="1081080" cy="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liubavyshka.ru/_ph/64/2/540045775.gif"/>
          <p:cNvPicPr/>
          <p:nvPr/>
        </p:nvPicPr>
        <p:blipFill>
          <a:blip r:embed="rId1"/>
          <a:stretch/>
        </p:blipFill>
        <p:spPr>
          <a:xfrm>
            <a:off x="484200" y="844560"/>
            <a:ext cx="2660760" cy="2065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i27.beon.ru/51/0/1740051/78/113906278/InkFeather.jpeg"/>
          <p:cNvPicPr/>
          <p:nvPr/>
        </p:nvPicPr>
        <p:blipFill>
          <a:blip r:embed="rId2"/>
          <a:stretch/>
        </p:blipFill>
        <p:spPr>
          <a:xfrm>
            <a:off x="4003560" y="844560"/>
            <a:ext cx="2799000" cy="2065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ttp://img0.liveinternet.ru/images/attach/c/4/83/603/83603970_83559807_4710172_vlublennaya_para.jpg"/>
          <p:cNvPicPr/>
          <p:nvPr/>
        </p:nvPicPr>
        <p:blipFill>
          <a:blip r:embed="rId3"/>
          <a:stretch/>
        </p:blipFill>
        <p:spPr>
          <a:xfrm>
            <a:off x="7080120" y="844560"/>
            <a:ext cx="3767400" cy="2065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101kupon.com/images/actions/102/soru.jpg"/>
          <p:cNvPicPr/>
          <p:nvPr/>
        </p:nvPicPr>
        <p:blipFill>
          <a:blip r:embed="rId4"/>
          <a:stretch/>
        </p:blipFill>
        <p:spPr>
          <a:xfrm>
            <a:off x="2195640" y="3713040"/>
            <a:ext cx="2813040" cy="2311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http://900igr.net/datai/biologija/Urok-Vodorosli/0003-005-Tip-uroka-kontrol-znanij-uchaschikhsja-Vid-uroka-urok-sorevnovanija.png"/>
          <p:cNvPicPr/>
          <p:nvPr/>
        </p:nvPicPr>
        <p:blipFill>
          <a:blip r:embed="rId5"/>
          <a:stretch/>
        </p:blipFill>
        <p:spPr>
          <a:xfrm>
            <a:off x="6165720" y="3954600"/>
            <a:ext cx="282600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Овал 1"/>
          <p:cNvSpPr/>
          <p:nvPr/>
        </p:nvSpPr>
        <p:spPr>
          <a:xfrm>
            <a:off x="3948120" y="2494080"/>
            <a:ext cx="3498840" cy="16905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4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Тәбиғә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Прямая со стрелкой 3"/>
          <p:cNvCxnSpPr>
            <a:stCxn id="48" idx="5"/>
          </p:cNvCxnSpPr>
          <p:nvPr/>
        </p:nvCxnSpPr>
        <p:spPr>
          <a:xfrm>
            <a:off x="6933240" y="3936600"/>
            <a:ext cx="2043720" cy="11343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50" name="Овал 5"/>
          <p:cNvSpPr/>
          <p:nvPr/>
        </p:nvSpPr>
        <p:spPr>
          <a:xfrm>
            <a:off x="8798040" y="4683240"/>
            <a:ext cx="2560680" cy="1218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ман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 стрелкой 7"/>
          <p:cNvCxnSpPr>
            <a:stCxn id="48" idx="7"/>
          </p:cNvCxnSpPr>
          <p:nvPr/>
        </p:nvCxnSpPr>
        <p:spPr>
          <a:xfrm flipV="1">
            <a:off x="6933240" y="1593000"/>
            <a:ext cx="1905480" cy="11487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52" name="Овал 8"/>
          <p:cNvSpPr/>
          <p:nvPr/>
        </p:nvSpPr>
        <p:spPr>
          <a:xfrm>
            <a:off x="7767720" y="762120"/>
            <a:ext cx="3865320" cy="12175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үҫемлектә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Прямая со стрелкой 10"/>
          <p:cNvCxnSpPr>
            <a:stCxn id="48" idx="1"/>
          </p:cNvCxnSpPr>
          <p:nvPr/>
        </p:nvCxnSpPr>
        <p:spPr>
          <a:xfrm flipH="1" flipV="1">
            <a:off x="2478960" y="1467720"/>
            <a:ext cx="1981800" cy="127404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54" name="Прямая со стрелкой 12"/>
          <p:cNvCxnSpPr/>
          <p:nvPr/>
        </p:nvCxnSpPr>
        <p:spPr>
          <a:xfrm flipH="1">
            <a:off x="2452320" y="3936600"/>
            <a:ext cx="1884960" cy="15231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55" name="Прямая со стрелкой 14"/>
          <p:cNvCxnSpPr/>
          <p:nvPr/>
        </p:nvCxnSpPr>
        <p:spPr>
          <a:xfrm flipH="1">
            <a:off x="5486040" y="3935520"/>
            <a:ext cx="20880" cy="12736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56" name="Прямая со стрелкой 16"/>
          <p:cNvCxnSpPr/>
          <p:nvPr/>
        </p:nvCxnSpPr>
        <p:spPr>
          <a:xfrm flipV="1">
            <a:off x="5472000" y="650520"/>
            <a:ext cx="15120" cy="176112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57" name="Прямая со стрелкой 24"/>
          <p:cNvCxnSpPr>
            <a:stCxn id="48" idx="6"/>
          </p:cNvCxnSpPr>
          <p:nvPr/>
        </p:nvCxnSpPr>
        <p:spPr>
          <a:xfrm flipV="1">
            <a:off x="7446600" y="3338280"/>
            <a:ext cx="1157760" cy="21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58" name="Прямая со стрелкой 30"/>
          <p:cNvCxnSpPr>
            <a:stCxn id="48" idx="2"/>
          </p:cNvCxnSpPr>
          <p:nvPr/>
        </p:nvCxnSpPr>
        <p:spPr>
          <a:xfrm flipH="1" flipV="1">
            <a:off x="2133360" y="3270240"/>
            <a:ext cx="1815120" cy="7020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59" name="Овал 31"/>
          <p:cNvSpPr/>
          <p:nvPr/>
        </p:nvSpPr>
        <p:spPr>
          <a:xfrm>
            <a:off x="8437680" y="2809800"/>
            <a:ext cx="3538440" cy="11271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йылға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2"/>
          <p:cNvSpPr/>
          <p:nvPr/>
        </p:nvSpPr>
        <p:spPr>
          <a:xfrm>
            <a:off x="4651200" y="5070600"/>
            <a:ext cx="2784600" cy="105228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үл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ә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3"/>
          <p:cNvSpPr/>
          <p:nvPr/>
        </p:nvSpPr>
        <p:spPr>
          <a:xfrm>
            <a:off x="165240" y="5070600"/>
            <a:ext cx="2678040" cy="10555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у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ҙ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4"/>
          <p:cNvSpPr/>
          <p:nvPr/>
        </p:nvSpPr>
        <p:spPr>
          <a:xfrm>
            <a:off x="0" y="2730600"/>
            <a:ext cx="3151080" cy="11952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әск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ә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35"/>
          <p:cNvSpPr/>
          <p:nvPr/>
        </p:nvSpPr>
        <p:spPr>
          <a:xfrm>
            <a:off x="154080" y="619200"/>
            <a:ext cx="2975040" cy="10335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ғаст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36"/>
          <p:cNvSpPr/>
          <p:nvPr/>
        </p:nvSpPr>
        <p:spPr>
          <a:xfrm>
            <a:off x="3371760" y="324000"/>
            <a:ext cx="3888000" cy="106344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өжәк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ә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Admin\Downloads\WhatsApp Image 2021-01-11 at 16.26.21.jpeg"/>
          <p:cNvPicPr/>
          <p:nvPr/>
        </p:nvPicPr>
        <p:blipFill>
          <a:blip r:embed="rId1"/>
          <a:stretch/>
        </p:blipFill>
        <p:spPr>
          <a:xfrm>
            <a:off x="-809640" y="-192240"/>
            <a:ext cx="13001760" cy="737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542880"/>
            <a:ext cx="10515600" cy="56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r>
              <a:rPr b="1" lang="en-US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ғастар. Исем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Хәрефтәр аҙашҡан</a:t>
            </a:r>
            <a:br>
              <a:rPr sz="4400"/>
            </a:br>
            <a:r>
              <a:rPr b="1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уквы заблудились</a:t>
            </a:r>
            <a:r>
              <a:rPr b="1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9840" y="1825560"/>
            <a:ext cx="109234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МИӘ                                        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ШМӘИ                                       РЯБ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ҒСАА                                          КЛ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Ё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ӘҮКЙ                                            ЛИП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ААЙҒРҠ                                    СОС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ЫАНЙҠ                                        БЕР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Ё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ЕМ (им.сущ.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04960" y="1409400"/>
            <a:ext cx="1054872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ем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 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кто?)                   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им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ә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 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что?)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ҡыусы                                ҡайы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</a:t>
            </a:r>
            <a:r>
              <a:rPr b="1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әсәй                                       имә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</a:t>
            </a:r>
            <a:r>
              <a:rPr b="1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пай                                      өҫтә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</a:t>
            </a:r>
            <a:r>
              <a:rPr b="1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әрбиәсе                               сағ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ая соединительная линия 4"/>
          <p:cNvSpPr/>
          <p:nvPr/>
        </p:nvSpPr>
        <p:spPr>
          <a:xfrm flipH="1">
            <a:off x="3514680" y="1035000"/>
            <a:ext cx="1806480" cy="91440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7"/>
          <p:cNvSpPr/>
          <p:nvPr/>
        </p:nvSpPr>
        <p:spPr>
          <a:xfrm flipH="1" flipV="1">
            <a:off x="6456240" y="880920"/>
            <a:ext cx="98640" cy="446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9"/>
          <p:cNvSpPr/>
          <p:nvPr/>
        </p:nvSpPr>
        <p:spPr>
          <a:xfrm>
            <a:off x="6610320" y="1057320"/>
            <a:ext cx="1663560" cy="8269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63600" y="561600"/>
            <a:ext cx="1099008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Өй эш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ғас атамаларын ятларғ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06:52:54Z</dcterms:created>
  <dc:creator>Шагбалова</dc:creator>
  <dc:description/>
  <dc:language>en-US</dc:language>
  <cp:lastModifiedBy>User</cp:lastModifiedBy>
  <dcterms:modified xsi:type="dcterms:W3CDTF">2022-11-19T10:47:21Z</dcterms:modified>
  <cp:revision>20</cp:revision>
  <dc:subject/>
  <dc:title>Тәбиғәт</dc:title>
</cp:coreProperties>
</file>