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9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18FBB-056B-40EA-A3FA-05044A55532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EAF4A-B991-4251-B803-0C9C89010CD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91E86-2614-4D38-AA69-9FA753B66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CAE11-576D-43F5-AE7C-30B164642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CAB2E-83B7-441F-A60E-AB1A022A0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1CB00-57A9-4929-87EC-836C91246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2B5A7-1098-4F92-94FD-D66106BF7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1E160-9BFC-4C35-B767-4AF22C47E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9F138-5B90-4E22-B20C-1BE4EBB05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562C3-46AE-4A85-A694-F0E6554E9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11367-0669-417C-9E4E-0E3012747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E8914-EAB6-4B34-B67E-91A814FB6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2CB18-6457-4E3E-9573-7B55EC1D8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C7A8E-161A-48C0-BB7B-C8753348B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0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6A49F-7B27-4DCA-BDC7-24E92B1D293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рямоугольник 7"/>
          <p:cNvSpPr/>
          <p:nvPr/>
        </p:nvSpPr>
        <p:spPr>
          <a:xfrm>
            <a:off x="1604880" y="1687680"/>
            <a:ext cx="62150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Arial"/>
              </a:rPr>
              <a:t>Два колеса, седушка, ру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7030a0"/>
                </a:solidFill>
                <a:latin typeface="Arial"/>
              </a:rPr>
              <a:t>Багажник, цепь, педа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7030a0"/>
                </a:solidFill>
                <a:latin typeface="Arial"/>
              </a:rPr>
              <a:t>Кто сядет на него верх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7030a0"/>
                </a:solidFill>
                <a:latin typeface="Arial"/>
              </a:rPr>
              <a:t>Тот покорит все да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4"/>
          <p:cNvSpPr/>
          <p:nvPr/>
        </p:nvSpPr>
        <p:spPr>
          <a:xfrm>
            <a:off x="6732720" y="4221000"/>
            <a:ext cx="223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полнили: учащиеся 7 «а» и 7 «в» клас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лассные руководители: Зинченко Н.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рипова А.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5" descr="http://s60.radikal.ru/i169/0905/41/645e8e116ec5.jpg"/>
          <p:cNvPicPr/>
          <p:nvPr/>
        </p:nvPicPr>
        <p:blipFill>
          <a:blip r:embed="rId1"/>
          <a:stretch/>
        </p:blipFill>
        <p:spPr>
          <a:xfrm>
            <a:off x="1357200" y="0"/>
            <a:ext cx="6096240" cy="5715000"/>
          </a:xfrm>
          <a:prstGeom prst="rect">
            <a:avLst/>
          </a:prstGeom>
          <a:ln w="0">
            <a:noFill/>
          </a:ln>
        </p:spPr>
      </p:pic>
      <p:pic>
        <p:nvPicPr>
          <p:cNvPr id="51" name="Заголовок 1" descr=""/>
          <p:cNvPicPr/>
          <p:nvPr/>
        </p:nvPicPr>
        <p:blipFill>
          <a:blip r:embed="rId2"/>
          <a:stretch/>
        </p:blipFill>
        <p:spPr>
          <a:xfrm>
            <a:off x="0" y="5430960"/>
            <a:ext cx="9144000" cy="15494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333360" y="1268280"/>
            <a:ext cx="878688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Давайте, не будем забывать о том, что велосипед –это тоже транспортное средство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Правилах дорожного движения установлено, что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вижение детей по открытым участкам проезжей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части – дорогам разрешено только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4 полных лет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 algn="ctr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3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3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"/>
          <p:cNvPicPr/>
          <p:nvPr/>
        </p:nvPicPr>
        <p:blipFill>
          <a:blip r:embed="rId1"/>
          <a:stretch/>
        </p:blipFill>
        <p:spPr>
          <a:xfrm>
            <a:off x="684360" y="2133720"/>
            <a:ext cx="2071440" cy="2766960"/>
          </a:xfrm>
          <a:prstGeom prst="rect">
            <a:avLst/>
          </a:prstGeom>
          <a:ln w="0">
            <a:noFill/>
          </a:ln>
        </p:spPr>
      </p:pic>
      <p:sp>
        <p:nvSpPr>
          <p:cNvPr id="54" name="TextBox 4"/>
          <p:cNvSpPr/>
          <p:nvPr/>
        </p:nvSpPr>
        <p:spPr>
          <a:xfrm>
            <a:off x="3564000" y="5084640"/>
            <a:ext cx="5000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ЖИЛАЯ ЗОН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6" descr="C:\Users\308\Downloads\IMG_7450-17-05-19-01-25.JPG"/>
          <p:cNvPicPr/>
          <p:nvPr/>
        </p:nvPicPr>
        <p:blipFill>
          <a:blip r:embed="rId2"/>
          <a:stretch/>
        </p:blipFill>
        <p:spPr>
          <a:xfrm>
            <a:off x="4067280" y="260280"/>
            <a:ext cx="3421080" cy="45608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-360" y="691920"/>
            <a:ext cx="385452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аким образом, перед выездом, человек, управляющий велосипедом, должен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оверить исправность велосипеда, в особенности -  руль и тормоз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 algn="ctr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6" descr="C:\Users\308\Downloads\IMG_7446-17-05-19-01-24.JPG"/>
          <p:cNvPicPr/>
          <p:nvPr/>
        </p:nvPicPr>
        <p:blipFill>
          <a:blip r:embed="rId1"/>
          <a:stretch/>
        </p:blipFill>
        <p:spPr>
          <a:xfrm>
            <a:off x="3924360" y="1413000"/>
            <a:ext cx="4932360" cy="35287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Рисунок 130" descr="http://www.igra-anekdot.ru/ris/velosiped/velosiped-0037.jpg"/>
          <p:cNvPicPr/>
          <p:nvPr/>
        </p:nvPicPr>
        <p:blipFill>
          <a:blip r:embed="rId1"/>
          <a:stretch/>
        </p:blipFill>
        <p:spPr>
          <a:xfrm>
            <a:off x="857160" y="4214880"/>
            <a:ext cx="1648080" cy="21621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 txBox="1"/>
          <p:nvPr/>
        </p:nvSpPr>
        <p:spPr>
          <a:xfrm>
            <a:off x="142560" y="213840"/>
            <a:ext cx="9001080" cy="40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ru-RU" sz="4400" spc="-1" strike="noStrike">
                <a:solidFill>
                  <a:srgbClr val="ff0000"/>
                </a:solidFill>
                <a:latin typeface="Times New Roman"/>
              </a:rPr>
              <a:t>Запрещается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Ездить, если неисправна тормозная система или рулевое управлени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еревозить   груз,   выступающий   за    габариты велосипеда, мешающий управлению, более чем на 0,5 м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Ездить, не держась за руль хотя бы одной рукой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Рисунок 109" descr="http://www.igra-anekdot.ru/ris/velosiped/velosiped-0033.jpg"/>
          <p:cNvPicPr/>
          <p:nvPr/>
        </p:nvPicPr>
        <p:blipFill>
          <a:blip r:embed="rId2"/>
          <a:stretch/>
        </p:blipFill>
        <p:spPr>
          <a:xfrm>
            <a:off x="6286680" y="4286160"/>
            <a:ext cx="2286000" cy="2148120"/>
          </a:xfrm>
          <a:prstGeom prst="rect">
            <a:avLst/>
          </a:prstGeom>
          <a:ln w="0">
            <a:noFill/>
          </a:ln>
        </p:spPr>
      </p:pic>
      <p:sp>
        <p:nvSpPr>
          <p:cNvPr id="61" name="Прямая соединительная линия 7"/>
          <p:cNvSpPr/>
          <p:nvPr/>
        </p:nvSpPr>
        <p:spPr>
          <a:xfrm>
            <a:off x="785880" y="4143240"/>
            <a:ext cx="1643040" cy="22147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ая соединительная линия 9"/>
          <p:cNvSpPr/>
          <p:nvPr/>
        </p:nvSpPr>
        <p:spPr>
          <a:xfrm flipH="1">
            <a:off x="714240" y="4214880"/>
            <a:ext cx="1643040" cy="21430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ая соединительная линия 18"/>
          <p:cNvSpPr/>
          <p:nvPr/>
        </p:nvSpPr>
        <p:spPr>
          <a:xfrm>
            <a:off x="6143760" y="4286160"/>
            <a:ext cx="2643120" cy="2071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ая соединительная линия 20"/>
          <p:cNvSpPr/>
          <p:nvPr/>
        </p:nvSpPr>
        <p:spPr>
          <a:xfrm flipH="1">
            <a:off x="6143760" y="4285440"/>
            <a:ext cx="2643120" cy="2071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8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9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4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9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10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0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0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1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1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Заголовок 1" descr=""/>
          <p:cNvPicPr/>
          <p:nvPr/>
        </p:nvPicPr>
        <p:blipFill>
          <a:blip r:embed="rId1"/>
          <a:stretch/>
        </p:blipFill>
        <p:spPr>
          <a:xfrm>
            <a:off x="500040" y="139680"/>
            <a:ext cx="8229600" cy="87156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 txBox="1"/>
          <p:nvPr/>
        </p:nvSpPr>
        <p:spPr>
          <a:xfrm>
            <a:off x="250920" y="2060280"/>
            <a:ext cx="4897440" cy="384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437760" indent="-328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7760" indent="-32868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игналу левого поворота соответствует вытянутая в сторону левая рука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7760" indent="-328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7760" indent="-328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7760" indent="-32868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игналу правого поворота соответствует вытянутая в сторону правая рука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7760" indent="-328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6" descr="C:\Users\308\Downloads\IMG_7464-17-05-19-01-25.JPG"/>
          <p:cNvPicPr/>
          <p:nvPr/>
        </p:nvPicPr>
        <p:blipFill>
          <a:blip r:embed="rId2"/>
          <a:stretch/>
        </p:blipFill>
        <p:spPr>
          <a:xfrm>
            <a:off x="5219640" y="1700280"/>
            <a:ext cx="3924360" cy="2449440"/>
          </a:xfrm>
          <a:prstGeom prst="rect">
            <a:avLst/>
          </a:prstGeom>
          <a:ln w="0">
            <a:noFill/>
          </a:ln>
        </p:spPr>
      </p:pic>
      <p:sp>
        <p:nvSpPr>
          <p:cNvPr id="68" name="Прямоугольник 6"/>
          <p:cNvSpPr/>
          <p:nvPr/>
        </p:nvSpPr>
        <p:spPr>
          <a:xfrm>
            <a:off x="468360" y="981000"/>
            <a:ext cx="835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елосипедист, предполагающий осуществить поворот или остановиться, должен подавать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пределенные сигналы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7" descr="C:\Users\308\Downloads\IMG_7465-17-05-19-01-25.JPG"/>
          <p:cNvPicPr/>
          <p:nvPr/>
        </p:nvPicPr>
        <p:blipFill>
          <a:blip r:embed="rId3"/>
          <a:stretch/>
        </p:blipFill>
        <p:spPr>
          <a:xfrm>
            <a:off x="5219640" y="4149720"/>
            <a:ext cx="3924360" cy="270828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0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7" dur="2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3" dur="20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4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9" dur="200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5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5" dur="2000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93816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 txBox="1"/>
          <p:nvPr/>
        </p:nvSpPr>
        <p:spPr>
          <a:xfrm>
            <a:off x="179280" y="1557000"/>
            <a:ext cx="8229600" cy="132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игнал торможения (стоп) подается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днятой вверх рукой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6" descr="C:\Users\308\Downloads\IMG_7466-17-05-19-01-25.JPG"/>
          <p:cNvPicPr/>
          <p:nvPr/>
        </p:nvPicPr>
        <p:blipFill>
          <a:blip r:embed="rId2"/>
          <a:stretch/>
        </p:blipFill>
        <p:spPr>
          <a:xfrm>
            <a:off x="2124000" y="2708280"/>
            <a:ext cx="5327640" cy="368316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0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9T10:46:25Z</dcterms:created>
  <dc:creator>Zver</dc:creator>
  <dc:description/>
  <dc:language>en-US</dc:language>
  <cp:lastModifiedBy>Алина</cp:lastModifiedBy>
  <dcterms:modified xsi:type="dcterms:W3CDTF">2022-11-19T19:29:38Z</dcterms:modified>
  <cp:revision>86</cp:revision>
  <dc:subject/>
  <dc:title>Правила дорожного движения  для велосипедистов</dc:title>
</cp:coreProperties>
</file>