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move the slid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D4F16-2EEF-4C22-8BCB-C104519976B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жно ли считать изменения в фотографии безобидной коррекцией снимк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каком случае фотошоп можно применить без последствий для фотографа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жет ли фальсификация снимка привести к тяжелым последствиям для большого количества людей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61141-6ABD-4CBF-956D-C62A1C40822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9DD15-D8AF-4A61-BEC1-448532E97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68FF7-5758-429E-B21E-E1298843B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738A6-16E1-4930-A4DE-6C46CB354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E8C75-338D-4A08-817E-78DC72547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9AD15-0C5B-4009-883D-2F2878640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BD393-8707-490D-ADEA-24BE2B6FF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6E021-8976-481C-B066-CCC6DC624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FD86B-3BB6-456F-9BBF-C6B37CA63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0E6D2-88FB-4A22-8D72-85EDF0D00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90C0F-FFB0-4F0D-B82B-DBA027F31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2F413-DD55-4BAF-8F7C-3443DAB35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10B37-D890-487D-9550-5A758A453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E62F4-1921-4343-98FD-BF95766A0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24A06-C1F4-49A6-B48F-02EAE00BD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31633-2D29-4BFA-BA8F-140DC9F78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1D539-736D-480D-A238-36E0DED77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853FE-2DF4-4FC8-971B-0CB3795DE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2E5626-0050-443B-A3D1-01899F1E5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99519C-AE65-4EDB-A3BE-F39325CD6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DA49FB-AE22-4B50-AA7B-180BD2A2F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BDC687-69FC-4FE5-8524-F7D28B20C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63CCAD-2A5B-4F52-B457-5A9B9B1B1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F8BF0-E268-4ADD-9F15-FB01663B1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B06E4F-FF93-4D65-9DEA-CB4354CE4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BE727D-4BBF-40D1-A820-059BE5246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035ECF-3BC4-4205-8A97-9288DB10D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506646-3627-4825-87EF-4FFDFD959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EFB0A7-DC6F-4726-A9BE-60092672B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2FFA32-8834-44FE-9C64-F7FE5606E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ABAE5B-098D-4BF7-987B-D4B39374D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E17B51-A4DC-49D9-85C8-ED8DC97E9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F8E1C9-B213-4569-B128-9588B0008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E34A39-5C75-49F8-892E-3EB09C6CF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1158E-E384-4809-93E4-6220A9E7B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8EB5CC-112E-4C5C-AA57-827EAF666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EC3AD6-8B0E-45AD-B439-0552B120A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41AF10-6422-459E-87E7-FB2561FA0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487195-B3A6-4C79-8A53-50A83E4B6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019E17-A07D-40A2-99BF-E5DE53E26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F29ABF-BC80-4B80-8257-FDAE654DA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7A0311-F6C1-47C5-B353-46D743062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02620D-E34B-4609-A2A4-AFB390D7C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705DB9-E31F-4E61-B596-68DA69374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B957A5-EF0E-484B-9B88-10FDE0DB6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CE828-0EF7-45CC-AD33-B50D03A7E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80F9B5-939D-4D6C-AE82-97262B0F3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5CB1E4-DE79-43BA-B3DF-F870E6EB3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F40FF5-6C32-4F0C-A019-8CBEFFF63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A673F9-7FE2-448F-AEC9-F951C66DB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CA8CA9-727C-4B3E-B1F4-5C6E8EE88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4E9189-7433-4142-89DB-EA9820509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58FF43-06A0-4E57-B228-56D6F52AC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14A463-FB10-4D2E-AB39-A08E3F0EC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2231AE-F8BD-499D-A3B8-03CA76664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42BDFA-CB98-4B58-8337-8D579F9F5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49C6D-862C-498A-9BCB-96BE74A60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CF5DFF-C0EB-4B1E-995E-75ECA5AFE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C02CA5-E2A4-47C8-A5AB-52DB929F1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ABAA37-999E-4A5B-AE0A-FFDC7DA12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99F1EA-0A3C-4EDD-8BEB-0D20898B2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522F26-3831-41A4-B465-9A4D73954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50DF20-9986-4C2C-A855-003C00BA4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2C4741-6EEE-4CE5-BD3F-1BDE69059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9456C7-5E11-49F9-8B52-C1BBF1DC6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F3E0C2-1F5B-4D74-AEAE-2A4227731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DCC7FE-DDB0-49E2-8BDA-B489A1883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6A990-2FD6-4622-90C0-0427A4DA4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19859D-C1F2-4A5D-A4A1-35784EECA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FBEA15-F56A-424B-B707-6B103EC5E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610368-4ECA-4653-B174-BE2534397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142DA-80DD-41DA-83F8-BDDC16516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A1AB0-8CD9-4913-821A-2B8805408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6E79E-ABF3-41D1-99BA-6FA47E40499A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олилиния 8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Полилиния 10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759A7-8E24-4096-94CA-1AD5EC87E6B9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олилиния 8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Полилиния 10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4F1E9-BC93-4C0A-899C-B1B15C4792A0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35FE2-4A45-4EF3-A00A-4CA047F1390C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0C1C7-DEA2-4C29-9F89-6475CF64AFF4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594F5-D2EE-4BFB-9456-CDEBE534A310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s://zagony.ru/2019/02/28/razoblachenie_nekotorykh_fotografijj_28_foto.html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Заголовок 1" descr=""/>
          <p:cNvPicPr/>
          <p:nvPr/>
        </p:nvPicPr>
        <p:blipFill>
          <a:blip r:embed="rId1"/>
          <a:stretch/>
        </p:blipFill>
        <p:spPr>
          <a:xfrm>
            <a:off x="407880" y="1719360"/>
            <a:ext cx="8845560" cy="3925800"/>
          </a:xfrm>
          <a:prstGeom prst="rect">
            <a:avLst/>
          </a:prstGeom>
          <a:ln w="0">
            <a:noFill/>
          </a:ln>
        </p:spPr>
      </p:pic>
      <p:sp>
        <p:nvSpPr>
          <p:cNvPr id="262" name="TextBox 5"/>
          <p:cNvSpPr/>
          <p:nvPr/>
        </p:nvSpPr>
        <p:spPr>
          <a:xfrm>
            <a:off x="4427640" y="5940360"/>
            <a:ext cx="460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f7f7f"/>
                </a:solidFill>
                <a:latin typeface="Arial"/>
              </a:rPr>
              <a:t>Работа учителя ГБОУ СОШ № 420 Колпинского района Санкт-Петербурга Шульга Г.Н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Рисунок 1" descr=""/>
          <p:cNvPicPr/>
          <p:nvPr/>
        </p:nvPicPr>
        <p:blipFill>
          <a:blip r:embed="rId1"/>
          <a:srcRect l="0" t="0" r="0" b="50018"/>
          <a:stretch/>
        </p:blipFill>
        <p:spPr>
          <a:xfrm>
            <a:off x="766800" y="260280"/>
            <a:ext cx="7620120" cy="3816360"/>
          </a:xfrm>
          <a:prstGeom prst="rect">
            <a:avLst/>
          </a:prstGeom>
          <a:ln w="0">
            <a:noFill/>
          </a:ln>
        </p:spPr>
      </p:pic>
      <p:pic>
        <p:nvPicPr>
          <p:cNvPr id="282" name="Рисунок 2" descr=""/>
          <p:cNvPicPr/>
          <p:nvPr/>
        </p:nvPicPr>
        <p:blipFill>
          <a:blip r:embed="rId2"/>
          <a:srcRect l="0" t="51760" r="2744" b="0"/>
          <a:stretch/>
        </p:blipFill>
        <p:spPr>
          <a:xfrm>
            <a:off x="704880" y="260280"/>
            <a:ext cx="7682040" cy="3816360"/>
          </a:xfrm>
          <a:prstGeom prst="rect">
            <a:avLst/>
          </a:prstGeom>
          <a:ln w="0">
            <a:noFill/>
          </a:ln>
        </p:spPr>
      </p:pic>
      <p:sp>
        <p:nvSpPr>
          <p:cNvPr id="283" name="TextBox 3"/>
          <p:cNvSpPr/>
          <p:nvPr/>
        </p:nvSpPr>
        <p:spPr>
          <a:xfrm>
            <a:off x="766800" y="4292640"/>
            <a:ext cx="7620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инц Уильям и Кейт  Миддлтон представляют миру своего третьего ребенк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115560"/>
            <a:ext cx="8218440" cy="50418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9e98e"/>
                </a:solidFill>
                <a:latin typeface="Franklin Gothic Book"/>
              </a:rPr>
              <a:t>Есть ли  у  фотографа  право искажать реальность так, что это может отрицательно сказаться на </a:t>
            </a:r>
            <a:br>
              <a:rPr sz="4000"/>
            </a:br>
            <a:r>
              <a:rPr b="1" lang="ru-RU" sz="4000" spc="-1" strike="noStrike">
                <a:solidFill>
                  <a:srgbClr val="f9e98e"/>
                </a:solidFill>
                <a:latin typeface="Franklin Gothic Book"/>
              </a:rPr>
              <a:t>объекте снимка?</a:t>
            </a: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755640" y="287280"/>
            <a:ext cx="7920000" cy="13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Franklin Gothic Book"/>
              </a:rPr>
              <a:t>Из истории фальсификации фотографий</a:t>
            </a: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24000" y="2026800"/>
            <a:ext cx="849600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8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 протяжении долгих лет связь СМИ с читателями была в подавляющем большинстве случаев односторонней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 развитием интернета, онлайновых СМИ и блогов у людей появилась возможность высказывать свое мнение открыто и не менее открыто указывать журналистам на их проколы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нлайн-дневники из безобидного развлечения превратились в крупную медийную формацию, с мнением которой стали считаться даже самые влиятельные информагентств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Рисунок 3" descr=""/>
          <p:cNvPicPr/>
          <p:nvPr/>
        </p:nvPicPr>
        <p:blipFill>
          <a:blip r:embed="rId1"/>
          <a:srcRect l="0" t="0" r="0" b="31587"/>
          <a:stretch/>
        </p:blipFill>
        <p:spPr>
          <a:xfrm>
            <a:off x="539640" y="404640"/>
            <a:ext cx="2917800" cy="4319640"/>
          </a:xfrm>
          <a:prstGeom prst="rect">
            <a:avLst/>
          </a:prstGeom>
          <a:ln w="0">
            <a:noFill/>
          </a:ln>
        </p:spPr>
      </p:pic>
      <p:pic>
        <p:nvPicPr>
          <p:cNvPr id="288" name="Рисунок 4" descr=""/>
          <p:cNvPicPr/>
          <p:nvPr/>
        </p:nvPicPr>
        <p:blipFill>
          <a:blip r:embed="rId2"/>
          <a:srcRect l="0" t="69093" r="0" b="0"/>
          <a:stretch/>
        </p:blipFill>
        <p:spPr>
          <a:xfrm>
            <a:off x="3851280" y="1052640"/>
            <a:ext cx="4952880" cy="3314520"/>
          </a:xfrm>
          <a:prstGeom prst="rect">
            <a:avLst/>
          </a:prstGeom>
          <a:ln w="0">
            <a:noFill/>
          </a:ln>
        </p:spPr>
      </p:pic>
      <p:sp>
        <p:nvSpPr>
          <p:cNvPr id="289" name="TextBox 6"/>
          <p:cNvSpPr/>
          <p:nvPr/>
        </p:nvSpPr>
        <p:spPr>
          <a:xfrm>
            <a:off x="539640" y="4724280"/>
            <a:ext cx="676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нтиизраильские протесты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Picture 5" descr="Ð¤Ð°Ð»ÑÑÐ¸ÑÐ¸ÐºÐ°ÑÐ¸Ñ ÑÐ¾ÑÐ¾Ð³ÑÐ°ÑÐ¸Ð¹"/>
          <p:cNvPicPr/>
          <p:nvPr/>
        </p:nvPicPr>
        <p:blipFill>
          <a:blip r:embed="rId1"/>
          <a:stretch/>
        </p:blipFill>
        <p:spPr>
          <a:xfrm>
            <a:off x="1258920" y="189000"/>
            <a:ext cx="6797520" cy="4700520"/>
          </a:xfrm>
          <a:prstGeom prst="rect">
            <a:avLst/>
          </a:prstGeom>
          <a:ln w="0">
            <a:noFill/>
          </a:ln>
        </p:spPr>
      </p:pic>
      <p:sp>
        <p:nvSpPr>
          <p:cNvPr id="291" name="Text Box 6"/>
          <p:cNvSpPr/>
          <p:nvPr/>
        </p:nvSpPr>
        <p:spPr>
          <a:xfrm>
            <a:off x="1692360" y="5006880"/>
            <a:ext cx="6684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1.09.2001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ригинал фотографии выглядит иначе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2" name="Рисунок 1" descr=""/>
          <p:cNvPicPr/>
          <p:nvPr/>
        </p:nvPicPr>
        <p:blipFill>
          <a:blip r:embed="rId2"/>
          <a:srcRect l="53918" t="50005" r="0" b="0"/>
          <a:stretch/>
        </p:blipFill>
        <p:spPr>
          <a:xfrm>
            <a:off x="1230480" y="189000"/>
            <a:ext cx="6797520" cy="47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Рисунок 1" descr=""/>
          <p:cNvPicPr/>
          <p:nvPr/>
        </p:nvPicPr>
        <p:blipFill>
          <a:blip r:embed="rId1"/>
          <a:srcRect l="0" t="33440" r="51857" b="0"/>
          <a:stretch/>
        </p:blipFill>
        <p:spPr>
          <a:xfrm>
            <a:off x="366840" y="401760"/>
            <a:ext cx="4673520" cy="4633920"/>
          </a:xfrm>
          <a:prstGeom prst="rect">
            <a:avLst/>
          </a:prstGeom>
          <a:ln w="0">
            <a:noFill/>
          </a:ln>
        </p:spPr>
      </p:pic>
      <p:pic>
        <p:nvPicPr>
          <p:cNvPr id="294" name="Рисунок 2" descr=""/>
          <p:cNvPicPr/>
          <p:nvPr/>
        </p:nvPicPr>
        <p:blipFill>
          <a:blip r:embed="rId2"/>
          <a:srcRect l="51710" t="33745" r="0" b="0"/>
          <a:stretch/>
        </p:blipFill>
        <p:spPr>
          <a:xfrm>
            <a:off x="366840" y="401760"/>
            <a:ext cx="4709880" cy="4633920"/>
          </a:xfrm>
          <a:prstGeom prst="rect">
            <a:avLst/>
          </a:prstGeom>
          <a:ln w="0">
            <a:noFill/>
          </a:ln>
        </p:spPr>
      </p:pic>
      <p:sp>
        <p:nvSpPr>
          <p:cNvPr id="295" name="TextBox 3"/>
          <p:cNvSpPr/>
          <p:nvPr/>
        </p:nvSpPr>
        <p:spPr>
          <a:xfrm>
            <a:off x="5508720" y="401760"/>
            <a:ext cx="33843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ирийский мальчик, спящий у могил своих родителе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остая инсценировка. Могилы – чужие, ребёнок – знакомый фотограф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Рисунок 1" descr=""/>
          <p:cNvPicPr/>
          <p:nvPr/>
        </p:nvPicPr>
        <p:blipFill>
          <a:blip r:embed="rId1"/>
          <a:srcRect l="3953" t="0" r="2557" b="10712"/>
          <a:stretch/>
        </p:blipFill>
        <p:spPr>
          <a:xfrm>
            <a:off x="324000" y="404640"/>
            <a:ext cx="8548560" cy="4592880"/>
          </a:xfrm>
          <a:prstGeom prst="rect">
            <a:avLst/>
          </a:prstGeom>
          <a:ln w="0">
            <a:noFill/>
          </a:ln>
        </p:spPr>
      </p:pic>
      <p:pic>
        <p:nvPicPr>
          <p:cNvPr id="297" name="Рисунок 2" descr=""/>
          <p:cNvPicPr/>
          <p:nvPr/>
        </p:nvPicPr>
        <p:blipFill>
          <a:blip r:embed="rId2"/>
          <a:stretch/>
        </p:blipFill>
        <p:spPr>
          <a:xfrm>
            <a:off x="324000" y="404640"/>
            <a:ext cx="8548560" cy="4808880"/>
          </a:xfrm>
          <a:prstGeom prst="rect">
            <a:avLst/>
          </a:prstGeom>
          <a:ln w="0">
            <a:noFill/>
          </a:ln>
        </p:spPr>
      </p:pic>
      <p:sp>
        <p:nvSpPr>
          <p:cNvPr id="298" name="TextBox 3"/>
          <p:cNvSpPr/>
          <p:nvPr/>
        </p:nvSpPr>
        <p:spPr>
          <a:xfrm>
            <a:off x="2050920" y="5516640"/>
            <a:ext cx="518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литические манипуляци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итинг в поддержку Навальног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Рисунок 1" descr=""/>
          <p:cNvPicPr/>
          <p:nvPr/>
        </p:nvPicPr>
        <p:blipFill>
          <a:blip r:embed="rId1"/>
          <a:srcRect l="0" t="4118" r="0" b="0"/>
          <a:stretch/>
        </p:blipFill>
        <p:spPr>
          <a:xfrm>
            <a:off x="2195640" y="109440"/>
            <a:ext cx="4608360" cy="619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8496360" cy="792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7df56"/>
                </a:solidFill>
                <a:latin typeface="Franklin Gothic Book"/>
              </a:rPr>
              <a:t>Выявление  способов  фальсификации изображения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23640" y="1298520"/>
            <a:ext cx="8351640" cy="486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8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1. Цифровая обработка изображений после того, как фотография была снят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2. Фотографирование срежиссированных сцен и выдача их за подлинные репортажи с места событ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3. Режиссерская постановка сцен самими фотографами и выдача этих подделок за реально происходящие событ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4. Ложные или вводящие в заблуждение  подписи под реальными фотографиями, сделанными в другое время или в другом месте.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6840" y="-27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Franklin Gothic Book"/>
              </a:rPr>
              <a:t>Компьютерная  обработка</a:t>
            </a: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456840" y="1125000"/>
            <a:ext cx="821844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омпьютер предоставляет разнообразный спектр возможностей удаления случайностей, помех и исправления недостатков, приключившихся в момент съёмк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уществует множество компьютерных программ для ретуши и различных форм дизайнерской работы с фотоизображение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457200" y="333000"/>
            <a:ext cx="829152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Цель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92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Освоение опыта критического восприятия и понимания особенностей современного фотоискусств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9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 u="sng">
                <a:solidFill>
                  <a:srgbClr val="ffffff"/>
                </a:solidFill>
                <a:uFillTx/>
                <a:latin typeface="Arial"/>
              </a:rPr>
              <a:t>Проблема: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 Современная фотография –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9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документ или фальсификация?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9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Идея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92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Современное фотоискусство как тонкая грань между реальностью и вымыслом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92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6840" y="125280"/>
            <a:ext cx="7931160" cy="78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Franklin Gothic Book"/>
              </a:rPr>
              <a:t>Компьютерная  обработка</a:t>
            </a:r>
            <a:r>
              <a:rPr b="1" lang="en-US" sz="3600" spc="-1" strike="noStrike">
                <a:solidFill>
                  <a:srgbClr val="ffffff"/>
                </a:solidFill>
                <a:latin typeface="Franklin Gothic Book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Franklin Gothic Book"/>
              </a:rPr>
              <a:t>фотографий</a:t>
            </a:r>
            <a:endParaRPr b="0" lang="en-US" sz="3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1115640" y="1197000"/>
            <a:ext cx="755964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89080" indent="-263880"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dobe Photosho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9080" indent="-263880"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dobe Illustra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9080" indent="-263880"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icas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9080" indent="-263880"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DSe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9080" indent="-263880"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relDRA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9080" indent="-263880"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Домашняя фотостуд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9080" indent="-263880"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ovavi Photo Edi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9080" indent="-263880"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Фотомасте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9080" indent="-263880"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ai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9080" indent="-263880"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" dur="500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" dur="500"/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500"/>
                                        <p:tgtEl>
                                          <p:spTgt spid="3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" dur="500"/>
                                        <p:tgtEl>
                                          <p:spTgt spid="3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" dur="500"/>
                                        <p:tgtEl>
                                          <p:spTgt spid="3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" dur="500"/>
                                        <p:tgtEl>
                                          <p:spTgt spid="3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500"/>
                                        <p:tgtEl>
                                          <p:spTgt spid="3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6840" y="439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ranklin Gothic Book"/>
              </a:rPr>
              <a:t>Adobe Photoshop</a:t>
            </a:r>
            <a:r>
              <a:rPr b="0" lang="ru-RU" sz="3600" spc="-1" strike="noStrike">
                <a:solidFill>
                  <a:srgbClr val="ffffff"/>
                </a:solidFill>
                <a:latin typeface="Franklin Gothic Book"/>
              </a:rPr>
              <a:t>. 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Franklin Gothic Book"/>
              </a:rPr>
              <a:t>Преобразование снимка:</a:t>
            </a:r>
            <a:endParaRPr b="0" lang="en-US" sz="3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468000" y="1412640"/>
            <a:ext cx="74674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справление случайной помех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зменение цветност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зменение освещённост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величение резкости фотограф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мена фо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овмещение в одно изображённое на разных снимка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мена на портрете костюма и шляп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 многое другое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8" name="Рисунок 2" descr="1.jpg"/>
          <p:cNvPicPr/>
          <p:nvPr/>
        </p:nvPicPr>
        <p:blipFill>
          <a:blip r:embed="rId1"/>
          <a:srcRect l="29105" t="9419" r="6912" b="0"/>
          <a:stretch/>
        </p:blipFill>
        <p:spPr>
          <a:xfrm>
            <a:off x="6143760" y="0"/>
            <a:ext cx="300024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310" name="Содержимое 3" descr="ллл.jpg"/>
          <p:cNvPicPr/>
          <p:nvPr/>
        </p:nvPicPr>
        <p:blipFill>
          <a:blip r:embed="rId1"/>
          <a:stretch/>
        </p:blipFill>
        <p:spPr>
          <a:xfrm>
            <a:off x="4786200" y="642960"/>
            <a:ext cx="4357800" cy="4014720"/>
          </a:xfrm>
          <a:prstGeom prst="rect">
            <a:avLst/>
          </a:prstGeom>
          <a:ln w="0">
            <a:noFill/>
          </a:ln>
        </p:spPr>
      </p:pic>
      <p:pic>
        <p:nvPicPr>
          <p:cNvPr id="311" name="Рисунок 5" descr="3.jpg"/>
          <p:cNvPicPr/>
          <p:nvPr/>
        </p:nvPicPr>
        <p:blipFill>
          <a:blip r:embed="rId2"/>
          <a:stretch/>
        </p:blipFill>
        <p:spPr>
          <a:xfrm>
            <a:off x="0" y="285840"/>
            <a:ext cx="4581360" cy="42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Рисунок 3" descr=""/>
          <p:cNvPicPr/>
          <p:nvPr/>
        </p:nvPicPr>
        <p:blipFill>
          <a:blip r:embed="rId1"/>
          <a:stretch/>
        </p:blipFill>
        <p:spPr>
          <a:xfrm>
            <a:off x="571680" y="620640"/>
            <a:ext cx="8001000" cy="41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314" name="Содержимое 4" descr="смми.jpg"/>
          <p:cNvPicPr/>
          <p:nvPr/>
        </p:nvPicPr>
        <p:blipFill>
          <a:blip r:embed="rId1"/>
          <a:stretch/>
        </p:blipFill>
        <p:spPr>
          <a:xfrm>
            <a:off x="0" y="1071720"/>
            <a:ext cx="4786200" cy="3773160"/>
          </a:xfrm>
          <a:prstGeom prst="rect">
            <a:avLst/>
          </a:prstGeom>
          <a:ln w="0">
            <a:noFill/>
          </a:ln>
        </p:spPr>
      </p:pic>
      <p:pic>
        <p:nvPicPr>
          <p:cNvPr id="315" name="Рисунок 3" descr="нн.jpg"/>
          <p:cNvPicPr/>
          <p:nvPr/>
        </p:nvPicPr>
        <p:blipFill>
          <a:blip r:embed="rId2"/>
          <a:stretch/>
        </p:blipFill>
        <p:spPr>
          <a:xfrm>
            <a:off x="4786200" y="142920"/>
            <a:ext cx="4357800" cy="34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6840" y="-27000"/>
            <a:ext cx="7467480" cy="5716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Franklin Gothic Book"/>
              </a:rPr>
              <a:t>Paint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317" name="Содержимое 3" descr="Безы.jpg"/>
          <p:cNvPicPr/>
          <p:nvPr/>
        </p:nvPicPr>
        <p:blipFill>
          <a:blip r:embed="rId1"/>
          <a:srcRect l="2342" t="2634" r="12868" b="6580"/>
          <a:stretch/>
        </p:blipFill>
        <p:spPr>
          <a:xfrm>
            <a:off x="527040" y="549360"/>
            <a:ext cx="7932600" cy="5033880"/>
          </a:xfrm>
          <a:prstGeom prst="rect">
            <a:avLst/>
          </a:prstGeom>
          <a:ln w="0">
            <a:noFill/>
          </a:ln>
        </p:spPr>
      </p:pic>
      <p:pic>
        <p:nvPicPr>
          <p:cNvPr id="318" name="Рисунок 3" descr="IMG-20201221-WA0012.jpg"/>
          <p:cNvPicPr/>
          <p:nvPr/>
        </p:nvPicPr>
        <p:blipFill>
          <a:blip r:embed="rId2"/>
          <a:stretch/>
        </p:blipFill>
        <p:spPr>
          <a:xfrm>
            <a:off x="1547640" y="1628640"/>
            <a:ext cx="4149720" cy="41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7063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Задание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456840" y="1268280"/>
            <a:ext cx="74674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Создание поздравительной фотооткрытки с собственноручно сделанной фотографией в сочетании с разными изобразительными элементами в любом фоторедакторе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Работа сохраняется в формате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jpeg (jpg)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6840" y="44280"/>
            <a:ext cx="7467480" cy="5623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Franklin Gothic Book"/>
              </a:rPr>
              <a:t>Рефлексия</a:t>
            </a:r>
            <a:endParaRPr b="0" lang="en-US" sz="3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457200" y="765000"/>
            <a:ext cx="83628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9e98e"/>
                </a:solidFill>
                <a:latin typeface="Arial"/>
              </a:rPr>
              <a:t>Закончите предложение</a:t>
            </a:r>
            <a:r>
              <a:rPr b="0" lang="ru-RU" sz="3600" spc="-1" strike="noStrike">
                <a:solidFill>
                  <a:srgbClr val="f9e98e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9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9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овременная фотография – это 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9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9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бработка фотографии может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9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9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тветственность фотографа в том…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9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9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9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9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9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3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3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3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3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7063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Источники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456840" y="1197000"/>
            <a:ext cx="814716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c8c3"/>
                </a:solidFill>
                <a:uFillTx/>
                <a:latin typeface="Arial"/>
                <a:hlinkClick r:id="rId1"/>
              </a:rPr>
              <a:t>https://zagony.ru/2019/02/28/razoblachenie_nekotorykh_fotografijj_28_foto.html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итерских А.С. Изобразительное искусство. Изобразительное искусство в театре, кино, на телевидении. 8 класс: учеб. для общеобразоват. организаций / А. С. Питерских; под ред. Б.М. Неменского. – М.: Просвещение, 2016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Голицына В.Б. Уроки изобразительного искусства. Изобразительное искусство в театре, кино, на телевидении. Поурочные разработки. 8 класс / В. Б. Голицына, А. С. Питерских ; под ред. Б. М. Неменского. — М. : Просвещение, 2014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79056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c1d32"/>
                </a:solidFill>
                <a:latin typeface="Franklin Gothic Book"/>
              </a:rPr>
              <a:t>     </a:t>
            </a:r>
            <a:endParaRPr b="0" lang="en-US" sz="3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5" name="TextBox 1"/>
          <p:cNvSpPr/>
          <p:nvPr/>
        </p:nvSpPr>
        <p:spPr>
          <a:xfrm>
            <a:off x="1763640" y="5013360"/>
            <a:ext cx="561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Что мы видим на фотографии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чему вы так решили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6" name="Рисунок 3" descr=""/>
          <p:cNvPicPr/>
          <p:nvPr/>
        </p:nvPicPr>
        <p:blipFill>
          <a:blip r:embed="rId1"/>
          <a:srcRect l="0" t="37739" r="51025" b="0"/>
          <a:stretch/>
        </p:blipFill>
        <p:spPr>
          <a:xfrm>
            <a:off x="2109960" y="260280"/>
            <a:ext cx="4838400" cy="44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Заголовок 1" descr=""/>
          <p:cNvPicPr/>
          <p:nvPr/>
        </p:nvPicPr>
        <p:blipFill>
          <a:blip r:embed="rId1"/>
          <a:stretch/>
        </p:blipFill>
        <p:spPr>
          <a:xfrm>
            <a:off x="401760" y="3481560"/>
            <a:ext cx="7199280" cy="209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Picture 5" descr="b043675aa367bccb2451bf99affc6907324e56d4"/>
          <p:cNvPicPr/>
          <p:nvPr/>
        </p:nvPicPr>
        <p:blipFill>
          <a:blip r:embed="rId1"/>
          <a:stretch/>
        </p:blipFill>
        <p:spPr>
          <a:xfrm>
            <a:off x="484200" y="3568680"/>
            <a:ext cx="3579840" cy="2519280"/>
          </a:xfrm>
          <a:prstGeom prst="rect">
            <a:avLst/>
          </a:prstGeom>
          <a:ln w="0">
            <a:noFill/>
          </a:ln>
        </p:spPr>
      </p:pic>
      <p:pic>
        <p:nvPicPr>
          <p:cNvPr id="269" name="Рисунок 1" descr=""/>
          <p:cNvPicPr/>
          <p:nvPr/>
        </p:nvPicPr>
        <p:blipFill>
          <a:blip r:embed="rId2"/>
          <a:srcRect l="0" t="19224" r="0" b="40392"/>
          <a:stretch/>
        </p:blipFill>
        <p:spPr>
          <a:xfrm>
            <a:off x="468360" y="339840"/>
            <a:ext cx="4359240" cy="2770200"/>
          </a:xfrm>
          <a:prstGeom prst="rect">
            <a:avLst/>
          </a:prstGeom>
          <a:ln w="0">
            <a:noFill/>
          </a:ln>
        </p:spPr>
      </p:pic>
      <p:pic>
        <p:nvPicPr>
          <p:cNvPr id="270" name="Рисунок 2" descr=""/>
          <p:cNvPicPr/>
          <p:nvPr/>
        </p:nvPicPr>
        <p:blipFill>
          <a:blip r:embed="rId3"/>
          <a:srcRect l="0" t="29061" r="52442" b="0"/>
          <a:stretch/>
        </p:blipFill>
        <p:spPr>
          <a:xfrm>
            <a:off x="5651640" y="266760"/>
            <a:ext cx="2305080" cy="3335400"/>
          </a:xfrm>
          <a:prstGeom prst="rect">
            <a:avLst/>
          </a:prstGeom>
          <a:ln w="0">
            <a:noFill/>
          </a:ln>
        </p:spPr>
      </p:pic>
      <p:pic>
        <p:nvPicPr>
          <p:cNvPr id="271" name="Рисунок 4" descr=""/>
          <p:cNvPicPr/>
          <p:nvPr/>
        </p:nvPicPr>
        <p:blipFill>
          <a:blip r:embed="rId4"/>
          <a:srcRect l="0" t="0" r="0" b="50018"/>
          <a:stretch/>
        </p:blipFill>
        <p:spPr>
          <a:xfrm>
            <a:off x="4572000" y="3822840"/>
            <a:ext cx="4021200" cy="201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747360" y="1774800"/>
            <a:ext cx="7467480" cy="27972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f9e98e"/>
                </a:solidFill>
                <a:latin typeface="Franklin Gothic Book"/>
              </a:rPr>
              <a:t>Что надо сделать, чтобы отличить реальность изображения от подделки?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Text Box 6"/>
          <p:cNvSpPr/>
          <p:nvPr/>
        </p:nvSpPr>
        <p:spPr>
          <a:xfrm>
            <a:off x="1187280" y="4724280"/>
            <a:ext cx="68072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Интернете очень  много бессмысленного фотошопа, но почему-то даже в глупые картинки люди верят. Так случилось и с этой коровой, лежащей на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MW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. На самом деле корова просто лежала на трав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4" name="Рисунок 1" descr=""/>
          <p:cNvPicPr/>
          <p:nvPr/>
        </p:nvPicPr>
        <p:blipFill>
          <a:blip r:embed="rId1"/>
          <a:srcRect l="0" t="18605" r="0" b="40700"/>
          <a:stretch/>
        </p:blipFill>
        <p:spPr>
          <a:xfrm>
            <a:off x="1187280" y="158760"/>
            <a:ext cx="6807240" cy="4359240"/>
          </a:xfrm>
          <a:prstGeom prst="rect">
            <a:avLst/>
          </a:prstGeom>
          <a:ln w="0">
            <a:noFill/>
          </a:ln>
        </p:spPr>
      </p:pic>
      <p:pic>
        <p:nvPicPr>
          <p:cNvPr id="275" name="Рисунок 2" descr=""/>
          <p:cNvPicPr/>
          <p:nvPr/>
        </p:nvPicPr>
        <p:blipFill>
          <a:blip r:embed="rId2"/>
          <a:srcRect l="0" t="60779" r="4140" b="0"/>
          <a:stretch/>
        </p:blipFill>
        <p:spPr>
          <a:xfrm>
            <a:off x="1198440" y="158760"/>
            <a:ext cx="677088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Picture 5" descr="b043675aa367bccb2451bf99affc6907324e56d4"/>
          <p:cNvPicPr/>
          <p:nvPr/>
        </p:nvPicPr>
        <p:blipFill>
          <a:blip r:embed="rId1"/>
          <a:stretch/>
        </p:blipFill>
        <p:spPr>
          <a:xfrm>
            <a:off x="1258920" y="189000"/>
            <a:ext cx="6626160" cy="4662360"/>
          </a:xfrm>
          <a:prstGeom prst="rect">
            <a:avLst/>
          </a:prstGeom>
          <a:ln w="0">
            <a:noFill/>
          </a:ln>
        </p:spPr>
      </p:pic>
      <p:sp>
        <p:nvSpPr>
          <p:cNvPr id="277" name="TextBox 2"/>
          <p:cNvSpPr/>
          <p:nvPr/>
        </p:nvSpPr>
        <p:spPr>
          <a:xfrm>
            <a:off x="1112760" y="4941720"/>
            <a:ext cx="7059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Эта фотография, впервые появившись в сети Интернет в 2012 году, продолжает регулярно «всплывать». При этом наводнение  на Филиппинах действительно было, но данная фотография – результат обработк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Рисунок 3" descr=""/>
          <p:cNvPicPr/>
          <p:nvPr/>
        </p:nvPicPr>
        <p:blipFill>
          <a:blip r:embed="rId1"/>
          <a:srcRect l="0" t="27984" r="50003" b="0"/>
          <a:stretch/>
        </p:blipFill>
        <p:spPr>
          <a:xfrm>
            <a:off x="1403280" y="309600"/>
            <a:ext cx="3210120" cy="4487760"/>
          </a:xfrm>
          <a:prstGeom prst="rect">
            <a:avLst/>
          </a:prstGeom>
          <a:ln w="0">
            <a:noFill/>
          </a:ln>
        </p:spPr>
      </p:pic>
      <p:pic>
        <p:nvPicPr>
          <p:cNvPr id="279" name="Рисунок 1" descr=""/>
          <p:cNvPicPr/>
          <p:nvPr/>
        </p:nvPicPr>
        <p:blipFill>
          <a:blip r:embed="rId2"/>
          <a:srcRect l="0" t="28343" r="0" b="0"/>
          <a:stretch/>
        </p:blipFill>
        <p:spPr>
          <a:xfrm>
            <a:off x="1403280" y="333360"/>
            <a:ext cx="6421680" cy="4464000"/>
          </a:xfrm>
          <a:prstGeom prst="rect">
            <a:avLst/>
          </a:prstGeom>
          <a:ln w="0">
            <a:noFill/>
          </a:ln>
        </p:spPr>
      </p:pic>
      <p:sp>
        <p:nvSpPr>
          <p:cNvPr id="280" name="TextBox 2"/>
          <p:cNvSpPr/>
          <p:nvPr/>
        </p:nvSpPr>
        <p:spPr>
          <a:xfrm>
            <a:off x="1403280" y="5084640"/>
            <a:ext cx="6421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игантская луна встречается на вирусных снимках достаточно часто. Просто иногда хочется чуть-чуть подправить реальность…. И дело в шляпе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20T03:56:38Z</dcterms:created>
  <dc:creator>Галина</dc:creator>
  <dc:description/>
  <dc:language>en-US</dc:language>
  <cp:lastModifiedBy>HP</cp:lastModifiedBy>
  <dcterms:modified xsi:type="dcterms:W3CDTF">2022-11-19T15:30:46Z</dcterms:modified>
  <cp:revision>94</cp:revision>
  <dc:subject/>
  <dc:title>Фотография  и компьютер</dc:title>
</cp:coreProperties>
</file>