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F25B7-12A3-4A74-AA8C-79B67D4583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9EEF8-A063-4220-A007-717562A7A5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250E1-98DE-4392-823D-964EB82CC8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62F16-FD79-466A-9054-C07923DE95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59331-25D1-44B3-AF87-9BD31B7875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B1713-0162-4E60-AA5F-958EF73451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09F5E-FCE9-43D5-B241-B541E54BE3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65F78-50AF-4762-8809-0BFE619D0A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242DD-C6F3-4567-AEB4-3BD4B7AB12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23FAA-7938-4F23-90F4-14935ADBF8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F0A21-93F7-4D61-AD64-B5B18BECF0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4EE3-59EC-48AC-9C26-D22029784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9611-9DCB-4EE0-B479-83BD1D653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BCB9-28BE-49EB-8563-8006FA2A0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DFB2-97A2-4179-8080-53EAF44D3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0B6E1-3EED-4F4F-B9CD-DCD05D0D3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1737C-A90A-4A80-96C0-B8BE2156C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1D618-67FA-46F5-9D65-ED6C8F5C5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1DD3B-AF05-4443-ABF4-FBEDEB572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AEAD7-C551-4BBC-84CD-615DC6DD1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4D28A-ACFC-46B4-AF64-9E0E48ECA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2FDD4-5F73-49F2-AB1F-278726ED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F729-B84B-4239-87C6-C467E96E1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1F25D-AD65-4B69-A8F7-E08E12C1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50E64-C210-4677-B38D-8437178C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1F96E-B736-4B5D-AF2B-34731AC54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5504C-ADB9-4385-B2C0-FA3CE1F66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AAB90-0662-4CD4-90DD-54F59462D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142C-7738-429F-9144-83E236723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8E9D-FF31-41A6-95C6-74D3FA6C7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7811-F96C-4BAD-B87A-6F23C07B1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A21F-E3D0-479D-82E1-A2A9B480D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19E6-9D28-4932-85A7-4F996FCE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E8DB-C0FB-4C98-9EB5-35D0980E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B8A8-21B7-428B-B098-F0D55BB3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471C1-1AF0-4028-B886-64797CB522D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412D7-D9E5-4A1D-888B-A2E9C51E668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4360" y="27079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Функционально – графический метод решения уравнений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Решить уравнение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4"/>
              <p:cNvSpPr txBox="1"/>
              <p:nvPr/>
            </p:nvSpPr>
            <p:spPr>
              <a:xfrm>
                <a:off x="3132000" y="1341360"/>
                <a:ext cx="223200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Text Box 6"/>
          <p:cNvSpPr/>
          <p:nvPr/>
        </p:nvSpPr>
        <p:spPr>
          <a:xfrm>
            <a:off x="1116000" y="1916280"/>
            <a:ext cx="7201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е: 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s x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граничена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 (y)= [-1;1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1-ограничена снизу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(y)= [1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авнение равносильно системе уравнений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22"/>
              <p:cNvSpPr txBox="1"/>
              <p:nvPr/>
            </p:nvSpPr>
            <p:spPr>
              <a:xfrm>
                <a:off x="1368360" y="3363840"/>
                <a:ext cx="161604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Text Box 24"/>
          <p:cNvSpPr/>
          <p:nvPr/>
        </p:nvSpPr>
        <p:spPr>
          <a:xfrm>
            <a:off x="971640" y="4797360"/>
            <a:ext cx="302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имеет решение при х = 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Rectangle 26"/>
          <p:cNvSpPr/>
          <p:nvPr/>
        </p:nvSpPr>
        <p:spPr>
          <a:xfrm>
            <a:off x="0" y="25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3" name="Object 25"/>
          <p:cNvGraphicFramePr/>
          <p:nvPr/>
        </p:nvGraphicFramePr>
        <p:xfrm>
          <a:off x="4140360" y="3645000"/>
          <a:ext cx="4184640" cy="23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3645000"/>
                    <a:ext cx="418464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Text Box 27"/>
          <p:cNvSpPr/>
          <p:nvPr/>
        </p:nvSpPr>
        <p:spPr>
          <a:xfrm>
            <a:off x="6877080" y="486900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s 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28"/>
          <p:cNvSpPr/>
          <p:nvPr/>
        </p:nvSpPr>
        <p:spPr>
          <a:xfrm>
            <a:off x="4572000" y="4076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= 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3640" y="1699920"/>
            <a:ext cx="8661240" cy="287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Цель урока: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Научиться решать уравнения методом подстановки, используя свойства монотонности и ограниченности функций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Справочный материа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18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. Функция называется </a:t>
            </a:r>
            <a:r>
              <a:rPr b="0" lang="ru-RU" sz="1800" spc="-1" strike="noStrike">
                <a:solidFill>
                  <a:srgbClr val="0033cc"/>
                </a:solidFill>
                <a:latin typeface="Comic Sans MS"/>
              </a:rPr>
              <a:t>возрастающей (убывающей)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на множестве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, если на этом множестве при увеличении (уменьшении) аргумента значение функции увеличивается (уменьшается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имер 1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являются возрастающими функциям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имер 2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являются убывающими функциям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4"/>
              <p:cNvSpPr txBox="1"/>
              <p:nvPr/>
            </p:nvSpPr>
            <p:spPr>
              <a:xfrm>
                <a:off x="2176560" y="2610000"/>
                <a:ext cx="377028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;    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6"/>
              <p:cNvSpPr txBox="1"/>
              <p:nvPr/>
            </p:nvSpPr>
            <p:spPr>
              <a:xfrm>
                <a:off x="2176560" y="3422520"/>
                <a:ext cx="532116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</m:ra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;   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Справочный материа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483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. Сумма двух возрастающих функций, есть возрастающая функци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имер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. Сумма двух убывающих функций, есть убывающая функци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имер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4. Функция возрастающая или убывающая на множестве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называется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Comic Sans MS"/>
              </a:rPr>
              <a:t>монотонной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на этом множеств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4"/>
              <p:cNvSpPr txBox="1"/>
              <p:nvPr/>
            </p:nvSpPr>
            <p:spPr>
              <a:xfrm>
                <a:off x="1841400" y="2260440"/>
                <a:ext cx="3164040" cy="4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6"/>
              <p:cNvSpPr txBox="1"/>
              <p:nvPr/>
            </p:nvSpPr>
            <p:spPr>
              <a:xfrm>
                <a:off x="1979640" y="3429000"/>
                <a:ext cx="215568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Свойство монотонности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сли одна из функций монотонно возрастает, а другая  монотонно убывает, то графики функций пересекутся в одной точке, или вообще не пересекутс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равнение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(x)=g(x)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либо имеет одно решение, либо не имеет решени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0" descr=""/>
          <p:cNvPicPr/>
          <p:nvPr/>
        </p:nvPicPr>
        <p:blipFill>
          <a:blip r:embed="rId1"/>
          <a:stretch/>
        </p:blipFill>
        <p:spPr>
          <a:xfrm>
            <a:off x="900000" y="2133720"/>
            <a:ext cx="7628040" cy="293364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755640" y="62064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6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7"/>
              <p:cNvSpPr txBox="1"/>
              <p:nvPr/>
            </p:nvSpPr>
            <p:spPr>
              <a:xfrm>
                <a:off x="3419640" y="1268280"/>
                <a:ext cx="259236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8"/>
              <p:cNvSpPr txBox="1"/>
              <p:nvPr/>
            </p:nvSpPr>
            <p:spPr>
              <a:xfrm>
                <a:off x="1476360" y="2781360"/>
                <a:ext cx="144144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9"/>
              <p:cNvSpPr txBox="1"/>
              <p:nvPr/>
            </p:nvSpPr>
            <p:spPr>
              <a:xfrm>
                <a:off x="6227640" y="2637000"/>
                <a:ext cx="12240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77" name="Text Box 11"/>
          <p:cNvSpPr/>
          <p:nvPr/>
        </p:nvSpPr>
        <p:spPr>
          <a:xfrm>
            <a:off x="755640" y="522936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х = -1,                                1=1.   Ответ: х = -1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12"/>
              <p:cNvSpPr txBox="1"/>
              <p:nvPr/>
            </p:nvSpPr>
            <p:spPr>
              <a:xfrm>
                <a:off x="2627280" y="5013360"/>
                <a:ext cx="194328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79" name="Text Box 13"/>
          <p:cNvSpPr/>
          <p:nvPr/>
        </p:nvSpPr>
        <p:spPr>
          <a:xfrm>
            <a:off x="826920" y="404640"/>
            <a:ext cx="777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Решить уравнение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Свойство монотонности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сли на некотором промежутке одна из функций монотонно возрастает (или убывает), а другая принимает постоянное значение, то графики функций пересекутся в одной точке или вообще не пересекутся.           Уравнение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x)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А  имеет одно решение, либо не имеет решени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2" name="Object 4"/>
              <p:cNvSpPr txBox="1"/>
              <p:nvPr/>
            </p:nvSpPr>
            <p:spPr>
              <a:xfrm>
                <a:off x="324000" y="1916280"/>
                <a:ext cx="8820000" cy="31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х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у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х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возрастает на своей области определения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Уравнение имеет один корень или не имеет корней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и х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,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-3</m:t>
                            </m:r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5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: х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3" name="Text Box 8"/>
          <p:cNvSpPr/>
          <p:nvPr/>
        </p:nvSpPr>
        <p:spPr>
          <a:xfrm>
            <a:off x="755640" y="549360"/>
            <a:ext cx="77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Решить уравнение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Свойство ограниченности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Если на промежутке Х наибольшее значение одной из функций равно А и наименьшее значение другой из функций тоже равно А, то уравнение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x)=g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x)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авносильно системе уравнений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4"/>
              <p:cNvSpPr txBox="1"/>
              <p:nvPr/>
            </p:nvSpPr>
            <p:spPr>
              <a:xfrm>
                <a:off x="1100160" y="3889440"/>
                <a:ext cx="3301920" cy="98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02:23:18Z</dcterms:created>
  <dc:creator>Александр</dc:creator>
  <dc:description/>
  <dc:language>en-US</dc:language>
  <cp:lastModifiedBy>Данилин Александр Владимирович</cp:lastModifiedBy>
  <dcterms:modified xsi:type="dcterms:W3CDTF">2022-11-19T02:56:42Z</dcterms:modified>
  <cp:revision>5</cp:revision>
  <dc:subject/>
  <dc:title>Функционально – графический метод решения уравнений.</dc:title>
</cp:coreProperties>
</file>