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0E44-6D95-444D-97C3-B443EF3C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D4C-D5EB-47DF-B4D4-43D3AE02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016-8604-409E-8AF3-60B322CF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4BD-4A9D-45D3-A5D5-CD9FFD33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EBD2-6F1A-48F5-8BF6-744A9800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7C9F-CC07-4D22-A013-F5582A1A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A712-62C7-4255-A26A-DC59C410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94C9-CCDB-4A82-B3A3-A0D5D78E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AEB1-F1E8-4ACF-A895-FCC26FEB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696C-FB13-4B13-8248-3A864087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72F5-872B-4418-BA58-E68C4508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7A1-1A7A-4595-BF8C-2554805A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E018-0BC7-48FE-B393-7F66432F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042B-876B-43A0-A040-2806FC5C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6482-85E8-4EDD-BE89-1C8A362F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72E4-BD88-48C1-9C4C-BF32A4C9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A718-2B67-4924-8613-0AD61DC6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CC6D0-EA29-4255-8DDB-0BD95498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1D1EA-93EB-4185-973A-3BD1611F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DC9D4-B5FA-4A69-9CEA-4FB25894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A637D-26FD-4AF2-B70F-CD2F6779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168BF-BAE8-43F9-902F-6EA0BE40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6D2-2C1E-486C-8B01-2162E234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20B6A-F151-4306-B5E3-F965B89A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D7D30-BB0D-4D4D-8AD4-A2639DBA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3345-E2D1-4221-9942-3C19D32C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83344-B7B0-4E34-BD25-B94F7C3D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6E2AB-2FC2-4340-9E89-CDE27156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6E2AE-54B7-4DA9-83FA-88EED986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5F91D-57A9-47C3-A0C7-D2E4BCDC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7B7BF-10C9-431D-B8CA-92640461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25724-19F7-422B-85EE-C334799C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3AD21-5AAD-4981-9796-58E28C39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266-C4D9-4A63-B612-2F3C4521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4EDC5-939A-4F80-8F39-692350AE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8421B-FF3C-4E04-945C-BF477702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2F938-B950-45AC-9E84-AF0D47D2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CBC16-DBE4-4D47-96B7-8474ACD3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EAF1-4C1B-4E19-9A16-6BB4B3CF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037C1-6690-4AE2-B5CE-C7F2DEA2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3B5E4-D9DC-498F-9921-59D3DCA4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0207E-0DB9-4AA8-97FE-837356D4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321FF-A445-4143-AEB8-EFDD25B7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04778-2D02-4780-A1DD-D9C958BB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C8C-71DC-4B2B-972E-5263D540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EFE52-9BA4-43C8-8A20-2C0BE73E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8B499-FBEC-4BD9-8072-88F292CB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7D711-71D2-41C3-8C3F-09FD11D7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7E11D-0F34-4A3E-82B8-97777214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2E38B-C57B-4659-8040-BF75C505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70677-5F80-4A2F-BDE7-930520CE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9A1B3-1F01-49B5-B246-6CE22624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6B3FC-E0F4-41FE-B7EA-578AE9DF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74C7B-85ED-4EC1-9AEA-66F67642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B6256-8A08-4194-A910-A25A3346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DF1-9242-4B13-AABC-14C05C69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34950-977E-4375-923D-3916F74A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E1539-17B0-47A9-82FC-1574137C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EE461-B3C5-41EA-A45B-9F463B6F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69DA0-EE25-4C46-98A7-79FA347D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4F4C1-AC1C-49CD-BD46-F5A8F3B8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F7F07-47C5-4335-AB64-61BBFBFE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A81EE-E89B-4268-9C9A-C994644B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45CB1-3DD4-4092-8FC9-E53DB430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50B47-4938-4573-9DC2-E99AD026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61C6C-0082-4F95-810D-19753CD7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36A-88D3-468B-B5EF-8D51BCAF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75BA6-96F5-4166-9607-01FC07AB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2C68C-E3F5-4BF8-B3CE-C053DBB9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C5A8F-123A-4D04-9357-38511473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7B5C2-F885-4304-AAB9-B6C434E5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11D4E-1927-49B0-AA4E-17198927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F082C-BEE1-4E02-92A6-5884164E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CA7CC-A1CC-494B-9486-D4506E8C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6163F-323F-44FF-B709-B21871D8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88CEB-308F-48ED-8968-3104AF91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77B73-CB33-467F-8779-9C05942A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BE39-7306-46A5-83E6-93F74D68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68E2D-2E52-4FC0-94F8-C8D59550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4AFD0-9C3D-427B-9D6C-C984EF04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D7C26-4484-42CA-9E4D-2B6AAC53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FA549-C63B-4DE1-BC0F-491BF3CC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66F8C-B793-4615-A80E-2B170F12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73F-68E4-4608-B434-B72A8C08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A954-F6EF-4E9F-AC05-41D9D327DE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01A2-4FDF-425A-B483-0FD4E5669E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B79D-99D3-48EA-9120-474DC16599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3FEB-B805-4FCA-82AD-8E52DAB178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E0D1-3ADF-4B46-8FFB-150A036F2E9C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8198-6064-4CAF-B9C4-4C5B5D4640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2A95-9CB7-4B0D-9413-933863D674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nsportal.ru/shkola/vneklassnaya-rabota/library/2019/11/28/plan-vospitatelnoy-raboty-na-2019-2020-uchebnyy-go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96400" y="311040"/>
            <a:ext cx="8277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янторская средняя общеобразовательная школа №5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Лянтор, Сургутский район, Ханты-Мансийский автономный округ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835280" y="2130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50"/>
                </a:solidFill>
                <a:latin typeface="Calibri Light"/>
              </a:rPr>
              <a:t>ПОРТФОЛИО</a:t>
            </a:r>
            <a:endParaRPr b="0" lang="en-US" sz="33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50"/>
                </a:solidFill>
                <a:latin typeface="Calibri Light"/>
              </a:rPr>
              <a:t>УЧАСТНИКА КОНКУРСА </a:t>
            </a:r>
            <a:endParaRPr b="0" lang="en-US" sz="33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50"/>
                </a:solidFill>
                <a:latin typeface="Calibri Light"/>
              </a:rPr>
              <a:t>«НАВИГАТОРЫ ДЕТСТВА»</a:t>
            </a:r>
            <a:endParaRPr b="0" lang="en-US" sz="33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7" name="Рисунок 3" descr=""/>
          <p:cNvPicPr/>
          <p:nvPr/>
        </p:nvPicPr>
        <p:blipFill>
          <a:blip r:embed="rId3"/>
          <a:stretch/>
        </p:blipFill>
        <p:spPr>
          <a:xfrm>
            <a:off x="-192240" y="4230720"/>
            <a:ext cx="31276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TextBox 4"/>
          <p:cNvSpPr/>
          <p:nvPr/>
        </p:nvSpPr>
        <p:spPr>
          <a:xfrm>
            <a:off x="3768840" y="1822320"/>
            <a:ext cx="561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ип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ина Альбертовн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истории и обществозн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ный 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250920" y="443700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ой девиз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"А вы знаете, жизнь ведь замечательна и удивительна, но только при одном условии...если замечать и удивляться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Рисунок 4" descr=""/>
          <p:cNvPicPr/>
          <p:nvPr/>
        </p:nvPicPr>
        <p:blipFill>
          <a:blip r:embed="rId2"/>
          <a:stretch/>
        </p:blipFill>
        <p:spPr>
          <a:xfrm>
            <a:off x="1100160" y="1055520"/>
            <a:ext cx="268128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Рисунок 1" descr=""/>
          <p:cNvPicPr/>
          <p:nvPr/>
        </p:nvPicPr>
        <p:blipFill>
          <a:blip r:embed="rId1"/>
          <a:stretch/>
        </p:blipFill>
        <p:spPr>
          <a:xfrm>
            <a:off x="-28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56000" y="264960"/>
            <a:ext cx="62640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 Light"/>
              </a:rPr>
              <a:t>Личная карточка участника конкурса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035000" y="1052280"/>
            <a:ext cx="734544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Ф.И.О.: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рипова Алина Альбертовна                               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Дата рождения: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27.07.1994г. 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Образование: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урГПУ «Сургутский государственный педагогический университет», специальность  «Учитель истории», 2015г.; ООО «Центр повышения квалификации  и переподготовки «Инфоурок»,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валификация «Учитель-логопед», 2019г.; «Федеральный институт повышения квалификации и переподготовки» по программе: «Преподавание предмета «Экономика» в современных условиях реализации ФГОС» 2020г.   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Место работы: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униципальное бюджетное общеобразовательное учреждение «Лянторская средняя общеобразовательная школа №5» города Лянтор, Сургутского района, Ханты-Мансийского автономного округа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Занимаемая должность: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,                                      1 квалификационная категория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Общий стаж: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5 лет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едагогический стаж в должности: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5 лет            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Внеурочная работа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: внеурочная деятельность «Истоки», «Безопасное детство», «Социальные практики».                  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Творческие замыслы: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частие в профессиональных конкурсах и всероссийских проектах; участие в сетевых сообществах; участие в различных направлениях РДШ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87440" y="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 Light"/>
              </a:rPr>
              <a:t>Мои достижения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6" name="Рисунок 1" descr=""/>
          <p:cNvPicPr/>
          <p:nvPr/>
        </p:nvPicPr>
        <p:blipFill>
          <a:blip r:embed="rId1"/>
          <a:stretch/>
        </p:blipFill>
        <p:spPr>
          <a:xfrm>
            <a:off x="168120" y="785880"/>
            <a:ext cx="3197520" cy="282420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3" descr=""/>
          <p:cNvPicPr/>
          <p:nvPr/>
        </p:nvPicPr>
        <p:blipFill>
          <a:blip r:embed="rId2"/>
          <a:stretch/>
        </p:blipFill>
        <p:spPr>
          <a:xfrm>
            <a:off x="3578400" y="785880"/>
            <a:ext cx="2152440" cy="295740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4" descr=""/>
          <p:cNvPicPr/>
          <p:nvPr/>
        </p:nvPicPr>
        <p:blipFill>
          <a:blip r:embed="rId3"/>
          <a:stretch/>
        </p:blipFill>
        <p:spPr>
          <a:xfrm>
            <a:off x="6086520" y="785880"/>
            <a:ext cx="2249280" cy="270036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5" descr=""/>
          <p:cNvPicPr/>
          <p:nvPr/>
        </p:nvPicPr>
        <p:blipFill>
          <a:blip r:embed="rId4"/>
          <a:stretch/>
        </p:blipFill>
        <p:spPr>
          <a:xfrm>
            <a:off x="2368440" y="3622680"/>
            <a:ext cx="2152800" cy="2755800"/>
          </a:xfrm>
          <a:prstGeom prst="rect">
            <a:avLst/>
          </a:prstGeom>
          <a:ln w="0">
            <a:noFill/>
          </a:ln>
        </p:spPr>
      </p:pic>
      <p:pic>
        <p:nvPicPr>
          <p:cNvPr id="320" name="Объект 7" descr=""/>
          <p:cNvPicPr/>
          <p:nvPr/>
        </p:nvPicPr>
        <p:blipFill>
          <a:blip r:embed="rId5"/>
          <a:stretch/>
        </p:blipFill>
        <p:spPr>
          <a:xfrm>
            <a:off x="5178600" y="3622680"/>
            <a:ext cx="212544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7440" y="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 Light"/>
              </a:rPr>
              <a:t>Мои достижения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2" name="Рисунок 6" descr=""/>
          <p:cNvPicPr/>
          <p:nvPr/>
        </p:nvPicPr>
        <p:blipFill>
          <a:blip r:embed="rId1"/>
          <a:stretch/>
        </p:blipFill>
        <p:spPr>
          <a:xfrm>
            <a:off x="3708360" y="717480"/>
            <a:ext cx="2135160" cy="293364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8" descr=""/>
          <p:cNvPicPr/>
          <p:nvPr/>
        </p:nvPicPr>
        <p:blipFill>
          <a:blip r:embed="rId2"/>
          <a:stretch/>
        </p:blipFill>
        <p:spPr>
          <a:xfrm>
            <a:off x="1349280" y="785880"/>
            <a:ext cx="2156040" cy="2835360"/>
          </a:xfrm>
          <a:prstGeom prst="rect">
            <a:avLst/>
          </a:prstGeom>
          <a:ln w="0">
            <a:noFill/>
          </a:ln>
        </p:spPr>
      </p:pic>
      <p:pic>
        <p:nvPicPr>
          <p:cNvPr id="324" name="Объект 11" descr=""/>
          <p:cNvPicPr/>
          <p:nvPr/>
        </p:nvPicPr>
        <p:blipFill>
          <a:blip r:embed="rId3"/>
          <a:stretch/>
        </p:blipFill>
        <p:spPr>
          <a:xfrm>
            <a:off x="2639880" y="3633840"/>
            <a:ext cx="2136960" cy="276372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12" descr=""/>
          <p:cNvPicPr/>
          <p:nvPr/>
        </p:nvPicPr>
        <p:blipFill>
          <a:blip r:embed="rId4"/>
          <a:stretch/>
        </p:blipFill>
        <p:spPr>
          <a:xfrm>
            <a:off x="6012000" y="704880"/>
            <a:ext cx="2168280" cy="285264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13" descr=""/>
          <p:cNvPicPr/>
          <p:nvPr/>
        </p:nvPicPr>
        <p:blipFill>
          <a:blip r:embed="rId5"/>
          <a:stretch/>
        </p:blipFill>
        <p:spPr>
          <a:xfrm>
            <a:off x="5202360" y="3613320"/>
            <a:ext cx="21351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2120" y="2109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 Light"/>
              </a:rPr>
              <a:t>Участие в акциях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8" name="Рисунок 8" descr=""/>
          <p:cNvPicPr/>
          <p:nvPr/>
        </p:nvPicPr>
        <p:blipFill>
          <a:blip r:embed="rId1"/>
          <a:stretch/>
        </p:blipFill>
        <p:spPr>
          <a:xfrm>
            <a:off x="2419200" y="1155600"/>
            <a:ext cx="3835440" cy="254340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10" descr=""/>
          <p:cNvPicPr/>
          <p:nvPr/>
        </p:nvPicPr>
        <p:blipFill>
          <a:blip r:embed="rId2"/>
          <a:stretch/>
        </p:blipFill>
        <p:spPr>
          <a:xfrm>
            <a:off x="1407960" y="3676680"/>
            <a:ext cx="3668760" cy="268128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11" descr=""/>
          <p:cNvPicPr/>
          <p:nvPr/>
        </p:nvPicPr>
        <p:blipFill>
          <a:blip r:embed="rId3"/>
          <a:stretch/>
        </p:blipFill>
        <p:spPr>
          <a:xfrm>
            <a:off x="5070600" y="3681360"/>
            <a:ext cx="23684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Объект 4" descr=""/>
          <p:cNvPicPr/>
          <p:nvPr/>
        </p:nvPicPr>
        <p:blipFill>
          <a:blip r:embed="rId1"/>
          <a:stretch/>
        </p:blipFill>
        <p:spPr>
          <a:xfrm>
            <a:off x="4749840" y="1843200"/>
            <a:ext cx="3768840" cy="2503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08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 Light"/>
              </a:rPr>
              <a:t>Социальное партнерство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3" name="Рисунок 2" descr=""/>
          <p:cNvPicPr/>
          <p:nvPr/>
        </p:nvPicPr>
        <p:blipFill>
          <a:blip r:embed="rId2"/>
          <a:stretch/>
        </p:blipFill>
        <p:spPr>
          <a:xfrm>
            <a:off x="673200" y="1843200"/>
            <a:ext cx="4076640" cy="250344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6" descr=""/>
          <p:cNvPicPr/>
          <p:nvPr/>
        </p:nvPicPr>
        <p:blipFill>
          <a:blip r:embed="rId3"/>
          <a:stretch/>
        </p:blipFill>
        <p:spPr>
          <a:xfrm>
            <a:off x="2606760" y="4335480"/>
            <a:ext cx="4043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Рисунок 1" descr=""/>
          <p:cNvPicPr/>
          <p:nvPr/>
        </p:nvPicPr>
        <p:blipFill>
          <a:blip r:embed="rId1"/>
          <a:stretch/>
        </p:blipFill>
        <p:spPr>
          <a:xfrm>
            <a:off x="-22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8713800" cy="84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 Light"/>
              </a:rPr>
              <a:t>Методические разработки по воспитанию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6920" y="1988640"/>
            <a:ext cx="7201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План воспитательной работы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998e3"/>
                </a:solidFill>
                <a:uFillTx/>
                <a:latin typeface="Calibri"/>
                <a:hlinkClick r:id="rId2"/>
              </a:rPr>
              <a:t>https://nsportal.ru/shkola/vneklassnaya-rabota/library/2019/11/28/plan-vospitatelnoy-raboty-na-2019-2020-uchebnyy-god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Внеурочная деятельность «Безопасное детство»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Calibri"/>
              </a:rPr>
              <a:t>https://nsportal.ru/shkola/osnovy-bezopasnosti-zhiznedeyatelnosti/library/2019/11/27/rabochaya-programma-vneurochnoy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План работы с родителя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Calibri"/>
              </a:rPr>
              <a:t>https://nsportal.ru/shkola/rabota-s-roditelyami/library/2019/11/28/plan-raboty-s-roditelyami-na-2019-2020-uchebnyy-god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6:28:24Z</dcterms:created>
  <dc:creator/>
  <dc:description/>
  <cp:keywords/>
  <dc:language>en-US</dc:language>
  <cp:lastModifiedBy>Алина</cp:lastModifiedBy>
  <dcterms:modified xsi:type="dcterms:W3CDTF">2022-11-19T19:17:59Z</dcterms:modified>
  <cp:revision>63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855</vt:lpwstr>
  </property>
</Properties>
</file>