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F95-704E-43A3-A2B2-49C979AF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8E2-B215-4AB2-B9C1-BAB96BB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A07-5726-42C2-93B8-FAC707CE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063-3DA8-4FE7-9429-CA124DB5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0D3-EA65-4A58-86E5-425DF121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F99-C04D-43CD-90A8-FAA08615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E5E-6C38-4D58-9F7B-8186F63D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34E-7CAD-41AC-A275-32494A82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6CD-068D-49C5-A144-B20DD50B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A32-D95A-41A5-8A21-F2AEC58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B95-5AA0-4FC2-8C9C-C5FB5A91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02E-4A1C-4899-A3B8-C462C6B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D32A-3536-4A76-869D-6211350D6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lipart-library.com/new_gallery/109344_cartoon-clouds-png.pn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s://avatars.mds.yandex.net/get-zen_doc/3842094/pub_5f407300ca1cdf4885348338_5f4073e2f04e9a5d66d531e8/scale_1200"/>
          <p:cNvPicPr/>
          <p:nvPr/>
        </p:nvPicPr>
        <p:blipFill>
          <a:blip r:embed="rId2"/>
          <a:stretch/>
        </p:blipFill>
        <p:spPr>
          <a:xfrm>
            <a:off x="1258920" y="2492280"/>
            <a:ext cx="3708360" cy="3314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43" name="TextBox 4"/>
          <p:cNvSpPr/>
          <p:nvPr/>
        </p:nvSpPr>
        <p:spPr>
          <a:xfrm>
            <a:off x="179280" y="115920"/>
            <a:ext cx="8569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ая модель  для развития звуковысотного слуха и п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Песенка кап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 развивать звуковысотный слух, подготовить детский голос к п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7"/>
          <p:cNvSpPr/>
          <p:nvPr/>
        </p:nvSpPr>
        <p:spPr>
          <a:xfrm>
            <a:off x="5940360" y="2565360"/>
            <a:ext cx="23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втор мод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екало 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БДОУ детский сад №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т.Новом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clipart-library.com/new_gallery/109344_cartoon-clouds-png.pn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avatars.mds.yandex.net/get-zen_doc/3842094/pub_5f407300ca1cdf4885348338_5f4073e2f04e9a5d66d531e8/scale_1200"/>
          <p:cNvPicPr/>
          <p:nvPr/>
        </p:nvPicPr>
        <p:blipFill>
          <a:blip r:embed="rId2"/>
          <a:stretch/>
        </p:blipFill>
        <p:spPr>
          <a:xfrm>
            <a:off x="395280" y="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7" name="WhatsApp Audio 2021-02-14 at 23.08.01.wav" descr=""/>
          <p:cNvPicPr/>
          <p:nvPr/>
        </p:nvPicPr>
        <p:blipFill>
          <a:blip r:embed="rId3"/>
          <a:stretch/>
        </p:blipFill>
        <p:spPr>
          <a:xfrm>
            <a:off x="8532720" y="476280"/>
            <a:ext cx="203400" cy="203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s://avatars.mds.yandex.net/get-zen_doc/3842094/pub_5f407300ca1cdf4885348338_5f4073e2f04e9a5d66d531e8/scale_1200"/>
          <p:cNvPicPr/>
          <p:nvPr/>
        </p:nvPicPr>
        <p:blipFill>
          <a:blip r:embed="rId4"/>
          <a:stretch/>
        </p:blipFill>
        <p:spPr>
          <a:xfrm>
            <a:off x="1116000" y="11970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9" name="Picture 4" descr="https://avatars.mds.yandex.net/get-zen_doc/3842094/pub_5f407300ca1cdf4885348338_5f4073e2f04e9a5d66d531e8/scale_1200"/>
          <p:cNvPicPr/>
          <p:nvPr/>
        </p:nvPicPr>
        <p:blipFill>
          <a:blip r:embed="rId5"/>
          <a:stretch/>
        </p:blipFill>
        <p:spPr>
          <a:xfrm>
            <a:off x="1547640" y="2708280"/>
            <a:ext cx="17481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0" name="Picture 4" descr="https://avatars.mds.yandex.net/get-zen_doc/3842094/pub_5f407300ca1cdf4885348338_5f4073e2f04e9a5d66d531e8/scale_1200"/>
          <p:cNvPicPr/>
          <p:nvPr/>
        </p:nvPicPr>
        <p:blipFill>
          <a:blip r:embed="rId6"/>
          <a:stretch/>
        </p:blipFill>
        <p:spPr>
          <a:xfrm>
            <a:off x="2340000" y="4149720"/>
            <a:ext cx="1746360" cy="1558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1" name="Picture 4" descr="https://avatars.mds.yandex.net/get-zen_doc/3842094/pub_5f407300ca1cdf4885348338_5f4073e2f04e9a5d66d531e8/scale_1200"/>
          <p:cNvPicPr/>
          <p:nvPr/>
        </p:nvPicPr>
        <p:blipFill>
          <a:blip r:embed="rId7"/>
          <a:stretch/>
        </p:blipFill>
        <p:spPr>
          <a:xfrm>
            <a:off x="3635280" y="5297400"/>
            <a:ext cx="174780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2" name="Picture 4" descr="https://avatars.mds.yandex.net/get-zen_doc/3842094/pub_5f407300ca1cdf4885348338_5f4073e2f04e9a5d66d531e8/scale_1200"/>
          <p:cNvPicPr/>
          <p:nvPr/>
        </p:nvPicPr>
        <p:blipFill>
          <a:blip r:embed="rId8"/>
          <a:stretch/>
        </p:blipFill>
        <p:spPr>
          <a:xfrm>
            <a:off x="3635280" y="1890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3" name="Picture 4" descr="https://avatars.mds.yandex.net/get-zen_doc/3842094/pub_5f407300ca1cdf4885348338_5f4073e2f04e9a5d66d531e8/scale_1200"/>
          <p:cNvPicPr/>
          <p:nvPr/>
        </p:nvPicPr>
        <p:blipFill>
          <a:blip r:embed="rId9"/>
          <a:stretch/>
        </p:blipFill>
        <p:spPr>
          <a:xfrm>
            <a:off x="4643280" y="134136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4" name="Picture 4" descr="https://avatars.mds.yandex.net/get-zen_doc/3842094/pub_5f407300ca1cdf4885348338_5f4073e2f04e9a5d66d531e8/scale_1200"/>
          <p:cNvPicPr/>
          <p:nvPr/>
        </p:nvPicPr>
        <p:blipFill>
          <a:blip r:embed="rId10"/>
          <a:stretch/>
        </p:blipFill>
        <p:spPr>
          <a:xfrm>
            <a:off x="5435640" y="285264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5" name="Picture 4" descr="https://avatars.mds.yandex.net/get-zen_doc/3842094/pub_5f407300ca1cdf4885348338_5f4073e2f04e9a5d66d531e8/scale_1200"/>
          <p:cNvPicPr/>
          <p:nvPr/>
        </p:nvPicPr>
        <p:blipFill>
          <a:blip r:embed="rId11"/>
          <a:stretch/>
        </p:blipFill>
        <p:spPr>
          <a:xfrm>
            <a:off x="6156360" y="4365720"/>
            <a:ext cx="1746360" cy="1560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6" name="Picture 4" descr="https://avatars.mds.yandex.net/get-zen_doc/3842094/pub_5f407300ca1cdf4885348338_5f4073e2f04e9a5d66d531e8/scale_1200"/>
          <p:cNvPicPr/>
          <p:nvPr/>
        </p:nvPicPr>
        <p:blipFill>
          <a:blip r:embed="rId12"/>
          <a:stretch/>
        </p:blipFill>
        <p:spPr>
          <a:xfrm>
            <a:off x="7397640" y="52974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7" name="TextBox 19"/>
          <p:cNvSpPr/>
          <p:nvPr/>
        </p:nvSpPr>
        <p:spPr>
          <a:xfrm>
            <a:off x="2195640" y="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- К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6300720" y="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- К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7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clipart-library.com/new_gallery/109344_cartoon-clouds-png.pn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s://avatars.mds.yandex.net/get-zen_doc/3842094/pub_5f407300ca1cdf4885348338_5f4073e2f04e9a5d66d531e8/scale_1200"/>
          <p:cNvPicPr/>
          <p:nvPr/>
        </p:nvPicPr>
        <p:blipFill>
          <a:blip r:embed="rId2"/>
          <a:stretch/>
        </p:blipFill>
        <p:spPr>
          <a:xfrm>
            <a:off x="395280" y="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1" name="WhatsApp Audio 2021-02-14 at 23.08.01.wav" descr=""/>
          <p:cNvPicPr/>
          <p:nvPr/>
        </p:nvPicPr>
        <p:blipFill>
          <a:blip r:embed="rId3"/>
          <a:stretch/>
        </p:blipFill>
        <p:spPr>
          <a:xfrm>
            <a:off x="8532720" y="476280"/>
            <a:ext cx="203400" cy="20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s://avatars.mds.yandex.net/get-zen_doc/3842094/pub_5f407300ca1cdf4885348338_5f4073e2f04e9a5d66d531e8/scale_1200"/>
          <p:cNvPicPr/>
          <p:nvPr/>
        </p:nvPicPr>
        <p:blipFill>
          <a:blip r:embed="rId4"/>
          <a:stretch/>
        </p:blipFill>
        <p:spPr>
          <a:xfrm>
            <a:off x="1116000" y="11970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3" name="Picture 4" descr="https://avatars.mds.yandex.net/get-zen_doc/3842094/pub_5f407300ca1cdf4885348338_5f4073e2f04e9a5d66d531e8/scale_1200"/>
          <p:cNvPicPr/>
          <p:nvPr/>
        </p:nvPicPr>
        <p:blipFill>
          <a:blip r:embed="rId5"/>
          <a:stretch/>
        </p:blipFill>
        <p:spPr>
          <a:xfrm>
            <a:off x="1547640" y="2708280"/>
            <a:ext cx="17481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4" name="Picture 4" descr="https://avatars.mds.yandex.net/get-zen_doc/3842094/pub_5f407300ca1cdf4885348338_5f4073e2f04e9a5d66d531e8/scale_1200"/>
          <p:cNvPicPr/>
          <p:nvPr/>
        </p:nvPicPr>
        <p:blipFill>
          <a:blip r:embed="rId6"/>
          <a:stretch/>
        </p:blipFill>
        <p:spPr>
          <a:xfrm>
            <a:off x="2340000" y="4149720"/>
            <a:ext cx="1746360" cy="1558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5" name="Picture 4" descr="https://avatars.mds.yandex.net/get-zen_doc/3842094/pub_5f407300ca1cdf4885348338_5f4073e2f04e9a5d66d531e8/scale_1200"/>
          <p:cNvPicPr/>
          <p:nvPr/>
        </p:nvPicPr>
        <p:blipFill>
          <a:blip r:embed="rId7"/>
          <a:stretch/>
        </p:blipFill>
        <p:spPr>
          <a:xfrm>
            <a:off x="3635280" y="5297400"/>
            <a:ext cx="174780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6" name="Picture 4" descr="https://avatars.mds.yandex.net/get-zen_doc/3842094/pub_5f407300ca1cdf4885348338_5f4073e2f04e9a5d66d531e8/scale_1200"/>
          <p:cNvPicPr/>
          <p:nvPr/>
        </p:nvPicPr>
        <p:blipFill>
          <a:blip r:embed="rId8"/>
          <a:stretch/>
        </p:blipFill>
        <p:spPr>
          <a:xfrm>
            <a:off x="3564000" y="1890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7" name="Picture 4" descr="https://avatars.mds.yandex.net/get-zen_doc/3842094/pub_5f407300ca1cdf4885348338_5f4073e2f04e9a5d66d531e8/scale_1200"/>
          <p:cNvPicPr/>
          <p:nvPr/>
        </p:nvPicPr>
        <p:blipFill>
          <a:blip r:embed="rId9"/>
          <a:stretch/>
        </p:blipFill>
        <p:spPr>
          <a:xfrm>
            <a:off x="4643280" y="134136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4" descr="https://avatars.mds.yandex.net/get-zen_doc/3842094/pub_5f407300ca1cdf4885348338_5f4073e2f04e9a5d66d531e8/scale_1200"/>
          <p:cNvPicPr/>
          <p:nvPr/>
        </p:nvPicPr>
        <p:blipFill>
          <a:blip r:embed="rId10"/>
          <a:stretch/>
        </p:blipFill>
        <p:spPr>
          <a:xfrm>
            <a:off x="5435640" y="285264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4" descr="https://avatars.mds.yandex.net/get-zen_doc/3842094/pub_5f407300ca1cdf4885348338_5f4073e2f04e9a5d66d531e8/scale_1200"/>
          <p:cNvPicPr/>
          <p:nvPr/>
        </p:nvPicPr>
        <p:blipFill>
          <a:blip r:embed="rId11"/>
          <a:stretch/>
        </p:blipFill>
        <p:spPr>
          <a:xfrm>
            <a:off x="6156360" y="4365720"/>
            <a:ext cx="1746360" cy="1560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Picture 4" descr="https://avatars.mds.yandex.net/get-zen_doc/3842094/pub_5f407300ca1cdf4885348338_5f4073e2f04e9a5d66d531e8/scale_1200"/>
          <p:cNvPicPr/>
          <p:nvPr/>
        </p:nvPicPr>
        <p:blipFill>
          <a:blip r:embed="rId12"/>
          <a:stretch/>
        </p:blipFill>
        <p:spPr>
          <a:xfrm>
            <a:off x="7397640" y="52974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clipart-library.com/new_gallery/109344_cartoon-clouds-png.pn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s://avatars.mds.yandex.net/get-zen_doc/3842094/pub_5f407300ca1cdf4885348338_5f4073e2f04e9a5d66d531e8/scale_1200"/>
          <p:cNvPicPr/>
          <p:nvPr/>
        </p:nvPicPr>
        <p:blipFill>
          <a:blip r:embed="rId2"/>
          <a:stretch/>
        </p:blipFill>
        <p:spPr>
          <a:xfrm>
            <a:off x="395280" y="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3" name="WhatsApp Audio 2021-02-14 at 23.08.01.wav" descr=""/>
          <p:cNvPicPr/>
          <p:nvPr/>
        </p:nvPicPr>
        <p:blipFill>
          <a:blip r:embed="rId3"/>
          <a:stretch/>
        </p:blipFill>
        <p:spPr>
          <a:xfrm>
            <a:off x="8532720" y="476280"/>
            <a:ext cx="203400" cy="20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s://avatars.mds.yandex.net/get-zen_doc/3842094/pub_5f407300ca1cdf4885348338_5f4073e2f04e9a5d66d531e8/scale_1200"/>
          <p:cNvPicPr/>
          <p:nvPr/>
        </p:nvPicPr>
        <p:blipFill>
          <a:blip r:embed="rId4"/>
          <a:stretch/>
        </p:blipFill>
        <p:spPr>
          <a:xfrm>
            <a:off x="1116000" y="11970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5" name="Picture 4" descr="https://avatars.mds.yandex.net/get-zen_doc/3842094/pub_5f407300ca1cdf4885348338_5f4073e2f04e9a5d66d531e8/scale_1200"/>
          <p:cNvPicPr/>
          <p:nvPr/>
        </p:nvPicPr>
        <p:blipFill>
          <a:blip r:embed="rId5"/>
          <a:stretch/>
        </p:blipFill>
        <p:spPr>
          <a:xfrm>
            <a:off x="1547640" y="2708280"/>
            <a:ext cx="17481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6" name="Picture 4" descr="https://avatars.mds.yandex.net/get-zen_doc/3842094/pub_5f407300ca1cdf4885348338_5f4073e2f04e9a5d66d531e8/scale_1200"/>
          <p:cNvPicPr/>
          <p:nvPr/>
        </p:nvPicPr>
        <p:blipFill>
          <a:blip r:embed="rId6"/>
          <a:stretch/>
        </p:blipFill>
        <p:spPr>
          <a:xfrm>
            <a:off x="2340000" y="4149720"/>
            <a:ext cx="1746360" cy="1558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Picture 4" descr="https://avatars.mds.yandex.net/get-zen_doc/3842094/pub_5f407300ca1cdf4885348338_5f4073e2f04e9a5d66d531e8/scale_1200"/>
          <p:cNvPicPr/>
          <p:nvPr/>
        </p:nvPicPr>
        <p:blipFill>
          <a:blip r:embed="rId7"/>
          <a:stretch/>
        </p:blipFill>
        <p:spPr>
          <a:xfrm>
            <a:off x="3635280" y="5297400"/>
            <a:ext cx="174780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4" descr="https://avatars.mds.yandex.net/get-zen_doc/3842094/pub_5f407300ca1cdf4885348338_5f4073e2f04e9a5d66d531e8/scale_1200"/>
          <p:cNvPicPr/>
          <p:nvPr/>
        </p:nvPicPr>
        <p:blipFill>
          <a:blip r:embed="rId8"/>
          <a:stretch/>
        </p:blipFill>
        <p:spPr>
          <a:xfrm>
            <a:off x="3564000" y="1890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4" descr="https://avatars.mds.yandex.net/get-zen_doc/3842094/pub_5f407300ca1cdf4885348338_5f4073e2f04e9a5d66d531e8/scale_1200"/>
          <p:cNvPicPr/>
          <p:nvPr/>
        </p:nvPicPr>
        <p:blipFill>
          <a:blip r:embed="rId9"/>
          <a:stretch/>
        </p:blipFill>
        <p:spPr>
          <a:xfrm>
            <a:off x="4643280" y="134136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0" name="Picture 4" descr="https://avatars.mds.yandex.net/get-zen_doc/3842094/pub_5f407300ca1cdf4885348338_5f4073e2f04e9a5d66d531e8/scale_1200"/>
          <p:cNvPicPr/>
          <p:nvPr/>
        </p:nvPicPr>
        <p:blipFill>
          <a:blip r:embed="rId10"/>
          <a:stretch/>
        </p:blipFill>
        <p:spPr>
          <a:xfrm>
            <a:off x="5435640" y="285264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Picture 4" descr="https://avatars.mds.yandex.net/get-zen_doc/3842094/pub_5f407300ca1cdf4885348338_5f4073e2f04e9a5d66d531e8/scale_1200"/>
          <p:cNvPicPr/>
          <p:nvPr/>
        </p:nvPicPr>
        <p:blipFill>
          <a:blip r:embed="rId11"/>
          <a:stretch/>
        </p:blipFill>
        <p:spPr>
          <a:xfrm>
            <a:off x="6156360" y="4365720"/>
            <a:ext cx="1746360" cy="1560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2" name="Picture 4" descr="https://avatars.mds.yandex.net/get-zen_doc/3842094/pub_5f407300ca1cdf4885348338_5f4073e2f04e9a5d66d531e8/scale_1200"/>
          <p:cNvPicPr/>
          <p:nvPr/>
        </p:nvPicPr>
        <p:blipFill>
          <a:blip r:embed="rId12"/>
          <a:stretch/>
        </p:blipFill>
        <p:spPr>
          <a:xfrm>
            <a:off x="7397640" y="52974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clipart-library.com/new_gallery/109344_cartoon-clouds-png.pn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s://avatars.mds.yandex.net/get-zen_doc/3842094/pub_5f407300ca1cdf4885348338_5f4073e2f04e9a5d66d531e8/scale_1200"/>
          <p:cNvPicPr/>
          <p:nvPr/>
        </p:nvPicPr>
        <p:blipFill>
          <a:blip r:embed="rId2"/>
          <a:stretch/>
        </p:blipFill>
        <p:spPr>
          <a:xfrm>
            <a:off x="395280" y="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5" name="WhatsApp Audio 2021-02-14 at 23.08.01.wav" descr=""/>
          <p:cNvPicPr/>
          <p:nvPr/>
        </p:nvPicPr>
        <p:blipFill>
          <a:blip r:embed="rId3"/>
          <a:stretch/>
        </p:blipFill>
        <p:spPr>
          <a:xfrm>
            <a:off x="8532720" y="476280"/>
            <a:ext cx="203400" cy="20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s://avatars.mds.yandex.net/get-zen_doc/3842094/pub_5f407300ca1cdf4885348338_5f4073e2f04e9a5d66d531e8/scale_1200"/>
          <p:cNvPicPr/>
          <p:nvPr/>
        </p:nvPicPr>
        <p:blipFill>
          <a:blip r:embed="rId4"/>
          <a:stretch/>
        </p:blipFill>
        <p:spPr>
          <a:xfrm>
            <a:off x="1116000" y="11970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7" name="Picture 4" descr="https://avatars.mds.yandex.net/get-zen_doc/3842094/pub_5f407300ca1cdf4885348338_5f4073e2f04e9a5d66d531e8/scale_1200"/>
          <p:cNvPicPr/>
          <p:nvPr/>
        </p:nvPicPr>
        <p:blipFill>
          <a:blip r:embed="rId5"/>
          <a:stretch/>
        </p:blipFill>
        <p:spPr>
          <a:xfrm>
            <a:off x="1547640" y="2708280"/>
            <a:ext cx="17481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8" name="Picture 4" descr="https://avatars.mds.yandex.net/get-zen_doc/3842094/pub_5f407300ca1cdf4885348338_5f4073e2f04e9a5d66d531e8/scale_1200"/>
          <p:cNvPicPr/>
          <p:nvPr/>
        </p:nvPicPr>
        <p:blipFill>
          <a:blip r:embed="rId6"/>
          <a:stretch/>
        </p:blipFill>
        <p:spPr>
          <a:xfrm>
            <a:off x="2340000" y="4149720"/>
            <a:ext cx="1746360" cy="1558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9" name="Picture 4" descr="https://avatars.mds.yandex.net/get-zen_doc/3842094/pub_5f407300ca1cdf4885348338_5f4073e2f04e9a5d66d531e8/scale_1200"/>
          <p:cNvPicPr/>
          <p:nvPr/>
        </p:nvPicPr>
        <p:blipFill>
          <a:blip r:embed="rId7"/>
          <a:stretch/>
        </p:blipFill>
        <p:spPr>
          <a:xfrm>
            <a:off x="3635280" y="5297400"/>
            <a:ext cx="174780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0" name="Picture 4" descr="https://avatars.mds.yandex.net/get-zen_doc/3842094/pub_5f407300ca1cdf4885348338_5f4073e2f04e9a5d66d531e8/scale_1200"/>
          <p:cNvPicPr/>
          <p:nvPr/>
        </p:nvPicPr>
        <p:blipFill>
          <a:blip r:embed="rId8"/>
          <a:stretch/>
        </p:blipFill>
        <p:spPr>
          <a:xfrm>
            <a:off x="3564000" y="1890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1" name="Picture 4" descr="https://avatars.mds.yandex.net/get-zen_doc/3842094/pub_5f407300ca1cdf4885348338_5f4073e2f04e9a5d66d531e8/scale_1200"/>
          <p:cNvPicPr/>
          <p:nvPr/>
        </p:nvPicPr>
        <p:blipFill>
          <a:blip r:embed="rId9"/>
          <a:stretch/>
        </p:blipFill>
        <p:spPr>
          <a:xfrm>
            <a:off x="4643280" y="134136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4" descr="https://avatars.mds.yandex.net/get-zen_doc/3842094/pub_5f407300ca1cdf4885348338_5f4073e2f04e9a5d66d531e8/scale_1200"/>
          <p:cNvPicPr/>
          <p:nvPr/>
        </p:nvPicPr>
        <p:blipFill>
          <a:blip r:embed="rId10"/>
          <a:stretch/>
        </p:blipFill>
        <p:spPr>
          <a:xfrm>
            <a:off x="5435640" y="285264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3" name="Picture 4" descr="https://avatars.mds.yandex.net/get-zen_doc/3842094/pub_5f407300ca1cdf4885348338_5f4073e2f04e9a5d66d531e8/scale_1200"/>
          <p:cNvPicPr/>
          <p:nvPr/>
        </p:nvPicPr>
        <p:blipFill>
          <a:blip r:embed="rId11"/>
          <a:stretch/>
        </p:blipFill>
        <p:spPr>
          <a:xfrm>
            <a:off x="6156360" y="4365720"/>
            <a:ext cx="1746360" cy="1560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4" name="Picture 4" descr="https://avatars.mds.yandex.net/get-zen_doc/3842094/pub_5f407300ca1cdf4885348338_5f4073e2f04e9a5d66d531e8/scale_1200"/>
          <p:cNvPicPr/>
          <p:nvPr/>
        </p:nvPicPr>
        <p:blipFill>
          <a:blip r:embed="rId12"/>
          <a:stretch/>
        </p:blipFill>
        <p:spPr>
          <a:xfrm>
            <a:off x="7397640" y="5297400"/>
            <a:ext cx="1746360" cy="1560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3T19:27:47Z</dcterms:created>
  <dc:creator>АДМИН</dc:creator>
  <dc:description/>
  <dc:language>en-US</dc:language>
  <cp:lastModifiedBy>АДМИН</cp:lastModifiedBy>
  <dcterms:modified xsi:type="dcterms:W3CDTF">2021-02-14T20:49:46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