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73E-D717-49BB-81B2-2E2618FA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1BF-7417-439D-A2D5-4F39FEDE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06A-864E-47A4-8699-474D1125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C2C-E0B6-4D6E-98E4-44B3E338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32A-46F6-4D08-A323-391E0F7B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1D2-9C2F-4904-92F9-39C6427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96E-647E-459C-9CC1-A6FF22CA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61D-6638-42F3-84EE-C187D45C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90E-7E2E-4B2E-A7D1-0363C4C4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7BC-E5F7-41D9-AAD7-076C189C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1B2-F745-4A75-A2A7-03F3DB0A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826-7BD8-4D08-BBE6-5251221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6C5D-186E-4066-BA04-03A768E36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3640" y="1122480"/>
            <a:ext cx="971388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ментальных карт на уроках русского языка в начальной школ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4745160" y="3665520"/>
            <a:ext cx="3263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ая карт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ллект-карта, карта разума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тельные карты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1682640" y="2054160"/>
            <a:ext cx="87202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640" y="12600"/>
            <a:ext cx="12174480" cy="6845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1166760" y="2060640"/>
            <a:ext cx="5154840" cy="4865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386000" y="1379520"/>
            <a:ext cx="48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6492960" y="2060640"/>
            <a:ext cx="5681520" cy="479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6551640" y="13795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АЯ КА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4" descr=""/>
          <p:cNvPicPr/>
          <p:nvPr/>
        </p:nvPicPr>
        <p:blipFill>
          <a:blip r:embed="rId2"/>
          <a:stretch/>
        </p:blipFill>
        <p:spPr>
          <a:xfrm>
            <a:off x="2252520" y="1690560"/>
            <a:ext cx="8348760" cy="4988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2557440" y="1311120"/>
            <a:ext cx="72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ментальной карты для 2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-61920"/>
            <a:ext cx="12192120" cy="6919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2398680" y="1336680"/>
            <a:ext cx="847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е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1"/>
          <a:stretch/>
        </p:blipFill>
        <p:spPr>
          <a:xfrm>
            <a:off x="54000" y="0"/>
            <a:ext cx="120841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4" descr=""/>
          <p:cNvPicPr/>
          <p:nvPr/>
        </p:nvPicPr>
        <p:blipFill>
          <a:blip r:embed="rId2"/>
          <a:stretch/>
        </p:blipFill>
        <p:spPr>
          <a:xfrm>
            <a:off x="1643040" y="1690560"/>
            <a:ext cx="9634680" cy="5167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3154320" y="1246320"/>
            <a:ext cx="739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ментальной карты для 4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2"/>
          <a:stretch/>
        </p:blipFill>
        <p:spPr>
          <a:xfrm>
            <a:off x="55440" y="0"/>
            <a:ext cx="120808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3075120" y="1006560"/>
            <a:ext cx="60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е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5T13:08:24Z</dcterms:created>
  <dc:creator>Пользователь</dc:creator>
  <dc:description/>
  <dc:language>en-US</dc:language>
  <cp:lastModifiedBy>Пользователь</cp:lastModifiedBy>
  <dcterms:modified xsi:type="dcterms:W3CDTF">2022-11-19T15:20:54Z</dcterms:modified>
  <cp:revision>6</cp:revision>
  <dc:subject/>
  <dc:title>«Использование ментальных карт на уроках русского языка в начальной школе»</dc:title>
</cp:coreProperties>
</file>