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18.png" ContentType="image/png"/>
  <Override PartName="/ppt/media/image15.gif" ContentType="image/gif"/>
  <Override PartName="/ppt/media/image2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1FF-B8B6-44AC-8C51-A0B24487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7E7-1525-44C9-A1B8-94C41CA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FE5-D028-4E2B-A775-757C8F2E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3050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336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7684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3050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4336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172-BAA2-49C7-ADE3-F7F88F36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AEC8-28F7-48FD-8579-96677C5A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FE86-23C4-440F-B42D-4D2B462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C1CE-DBA1-422B-8D12-53646991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1423-333C-47FD-B9A0-448CB4C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AAE2-39AE-49BA-A0CD-F12B021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76840" y="915480"/>
            <a:ext cx="67982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8A5-9D2E-4D12-81B9-F20EBF5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65B-4713-49B2-B59B-7AAEEC9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EB8-ACEB-43E8-ADFC-BFFEB2AF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3687-F3A2-4345-A9DF-A12CE5A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D80-CBD0-4760-ABE4-AB244A4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A070-B4E0-42A9-B729-AADDF94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1A6-A564-4BA8-BBB8-ABD3D825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3050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336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684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3050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34336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BFA-2F58-4376-ADDE-A02C7568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A9B5-8457-4354-BA17-E3DC789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1732-ECA8-4D19-BC2A-578A492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296B-7605-4037-9E4F-8DA0EAA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E169-038B-4A6F-BA76-0A18612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A932-546B-4B5A-871F-5CA2418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F65-C6DD-4B50-B04C-1147766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76840" y="915480"/>
            <a:ext cx="67982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AC7A-B1C7-493D-B310-78442D3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1949-A57F-4452-8610-83BE0F0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2C8A-5AE3-47B2-AD36-E6FB877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E227-8823-4308-8999-FEA062C5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0EB7-EF95-4B39-AEF4-22C31E9F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373E-ECB2-42CB-BA13-C798F854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3050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33680" y="248724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684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3050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3433680" y="4287960"/>
            <a:ext cx="107424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C735-2826-45EC-AB1B-C09F49D7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39B-BFDC-44AD-B27B-BF50311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BC3-C772-465E-B739-FCA34AB1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76840" y="915480"/>
            <a:ext cx="67982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986-3D8C-4983-B44C-DF24D76A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F5D-C91F-43F9-9F1D-F4B8219F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34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86840" y="428796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CBF-A238-4E6A-BD84-864C06B4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86840" y="2487240"/>
            <a:ext cx="162828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840" y="4287960"/>
            <a:ext cx="3337200" cy="16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AC2-E458-411D-8FED-F99C35E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2280" cy="6857640"/>
            <a:chOff x="0" y="0"/>
            <a:chExt cx="9152280" cy="685764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554040" y="542880"/>
              <a:ext cx="803952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84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Group 17"/>
          <p:cNvGrpSpPr/>
          <p:nvPr/>
        </p:nvGrpSpPr>
        <p:grpSpPr>
          <a:xfrm>
            <a:off x="0" y="0"/>
            <a:ext cx="9144360" cy="6857640"/>
            <a:chOff x="0" y="0"/>
            <a:chExt cx="9144360" cy="6857640"/>
          </a:xfrm>
        </p:grpSpPr>
        <p:pic>
          <p:nvPicPr>
            <p:cNvPr id="6" name="Picture 7" descr="SD-PanelTitle-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10"/>
            <p:cNvSpPr/>
            <p:nvPr/>
          </p:nvSpPr>
          <p:spPr>
            <a:xfrm>
              <a:off x="1515600" y="1520280"/>
              <a:ext cx="6112440" cy="381816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11" descr="HDRibbonTitle-UniformTrim.png"/>
            <p:cNvPicPr/>
            <p:nvPr/>
          </p:nvPicPr>
          <p:blipFill>
            <a:blip r:embed="rId7"/>
            <a:srcRect l="0" t="0" r="47955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2" descr="HDRibbonTitle-UniformTrim.png"/>
            <p:cNvPicPr/>
            <p:nvPr/>
          </p:nvPicPr>
          <p:blipFill>
            <a:blip r:embed="rId8"/>
            <a:srcRect l="0" t="0" r="47955" b="0"/>
            <a:stretch/>
          </p:blipFill>
          <p:spPr>
            <a:xfrm>
              <a:off x="748044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2040" y="1811880"/>
            <a:ext cx="53085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Garamond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65280" y="5054760"/>
            <a:ext cx="672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1922040" y="5054760"/>
            <a:ext cx="406440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817320" y="5054760"/>
            <a:ext cx="4132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E57CBF-F3C1-4847-8569-DE984C0B308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" name="Straight Connector 14"/>
          <p:cNvCxnSpPr/>
          <p:nvPr/>
        </p:nvCxnSpPr>
        <p:spPr>
          <a:xfrm>
            <a:off x="2019600" y="3471120"/>
            <a:ext cx="511344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ru-RU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ru-RU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ru-RU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0"/>
            <a:ext cx="9152280" cy="6857640"/>
            <a:chOff x="0" y="0"/>
            <a:chExt cx="9152280" cy="6857640"/>
          </a:xfrm>
        </p:grpSpPr>
        <p:pic>
          <p:nvPicPr>
            <p:cNvPr id="5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554040" y="542880"/>
              <a:ext cx="803952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84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278360" y="2356200"/>
            <a:ext cx="659592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262626"/>
                </a:solidFill>
                <a:latin typeface="Garamond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76840" y="2490120"/>
            <a:ext cx="6798240" cy="34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Второй уровень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Третий уровень</a:t>
            </a:r>
            <a:endParaRPr b="0" lang="ru-RU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</a:rPr>
              <a:t>Пятый уровень</a:t>
            </a:r>
            <a:endParaRPr b="0" lang="ru-RU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356520" y="5960520"/>
            <a:ext cx="11480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176840" y="5960520"/>
            <a:ext cx="51044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580160" y="5960520"/>
            <a:ext cx="3952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D744F9-7240-4584-B3BC-DCF9E672A2C5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6"/>
          <p:cNvGrpSpPr/>
          <p:nvPr/>
        </p:nvGrpSpPr>
        <p:grpSpPr>
          <a:xfrm>
            <a:off x="0" y="0"/>
            <a:ext cx="9152280" cy="6857640"/>
            <a:chOff x="0" y="0"/>
            <a:chExt cx="9152280" cy="6857640"/>
          </a:xfrm>
        </p:grpSpPr>
        <p:pic>
          <p:nvPicPr>
            <p:cNvPr id="100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8"/>
            <p:cNvSpPr/>
            <p:nvPr/>
          </p:nvSpPr>
          <p:spPr>
            <a:xfrm>
              <a:off x="554040" y="542880"/>
              <a:ext cx="803952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84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4" name="Straight Connector 7"/>
          <p:cNvCxnSpPr/>
          <p:nvPr/>
        </p:nvCxnSpPr>
        <p:spPr>
          <a:xfrm>
            <a:off x="1278360" y="2356200"/>
            <a:ext cx="659592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262626"/>
                </a:solidFill>
                <a:latin typeface="Garamond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84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Второй уровень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Третий уровень</a:t>
            </a:r>
            <a:endParaRPr b="0" lang="ru-RU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</a:rPr>
              <a:t>Пятый уровень</a:t>
            </a:r>
            <a:endParaRPr b="0" lang="ru-RU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4645080" y="2487240"/>
            <a:ext cx="333720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</a:rPr>
              <a:t>Второй уровень</a:t>
            </a:r>
            <a:endParaRPr b="0" lang="ru-RU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Третий уровень</a:t>
            </a:r>
            <a:endParaRPr b="0" lang="ru-RU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</a:rPr>
              <a:t>Пятый уровень</a:t>
            </a:r>
            <a:endParaRPr b="0" lang="ru-RU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dt" idx="7"/>
          </p:nvPr>
        </p:nvSpPr>
        <p:spPr>
          <a:xfrm>
            <a:off x="6356520" y="5960520"/>
            <a:ext cx="11480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1176840" y="5960520"/>
            <a:ext cx="51044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7580160" y="5960520"/>
            <a:ext cx="3952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2DE0A6-FA6D-463B-9BCA-B023D91339B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2532960" y="4279680"/>
            <a:ext cx="1995480" cy="2577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"/>
          <p:cNvPicPr/>
          <p:nvPr/>
        </p:nvPicPr>
        <p:blipFill>
          <a:blip r:embed="rId2"/>
          <a:stretch/>
        </p:blipFill>
        <p:spPr>
          <a:xfrm>
            <a:off x="5076000" y="4333680"/>
            <a:ext cx="2014200" cy="25520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1598400"/>
            <a:ext cx="8667360" cy="20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Литературное чтение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Урок № 46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3"/>
          <a:stretch/>
        </p:blipFill>
        <p:spPr>
          <a:xfrm>
            <a:off x="2152440" y="2606400"/>
            <a:ext cx="4752000" cy="164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i.io.ua/img_su/small/0020/90/00209098_n1.jpg"/>
          <p:cNvPicPr/>
          <p:nvPr/>
        </p:nvPicPr>
        <p:blipFill>
          <a:blip r:embed="rId4"/>
          <a:stretch/>
        </p:blipFill>
        <p:spPr>
          <a:xfrm>
            <a:off x="-324720" y="4753080"/>
            <a:ext cx="2857320" cy="2104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85480" y="214200"/>
            <a:ext cx="555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 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5963400" y="0"/>
            <a:ext cx="3312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Г. Пряник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Новокузнецк,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3">
                    <a:lumMod val="75000"/>
                  </a:schemeClr>
                </a:solidFill>
                <a:latin typeface="Garamond"/>
              </a:rPr>
              <a:t>Работа по группам с пословицами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6840" y="2490120"/>
            <a:ext cx="7211160" cy="36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61720" indent="-26172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очитайте пословицы,  предложенные  в карточке, и скажите, какие из них можно отнести к рассказам Л.Н.Толстого. Назовите этот рассказ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marL="261720"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)Будь храбр по уму и по сердцу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marL="261720"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)Гордится отец, что у него сын - храбрец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marL="261720"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)Одним умением, без привычки, хорошо не сделаешь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marL="261720"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4)Кому потеха, а мне не до смеха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marL="261720" indent="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5)Где смекнёт боец, там врагу конец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chemeClr val="accent2">
                    <a:lumMod val="75000"/>
                  </a:schemeClr>
                </a:solidFill>
                <a:latin typeface="Garamond"/>
              </a:rPr>
              <a:t>Итог урока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6840" y="2490120"/>
            <a:ext cx="6798240" cy="34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С произведением, какого писателя мы познакомились на уроке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Что нового  узнали о кораблях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охожи ли эти два рассказа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А в чём отличие рассказов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Кто главные герои рассказа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marL="265320" indent="-265320">
              <a:lnSpc>
                <a:spcPct val="100000"/>
              </a:lnSpc>
              <a:spcBef>
                <a:spcPts val="51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очему в конце рассказа ничего не говорится об обезьяне?</a:t>
            </a:r>
            <a:endParaRPr b="0" lang="ru-RU" sz="2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img-fotki.yandex.ru/get/4411/47407354.2a2/0_90b98_d3391ec8_orig.png"/>
          <p:cNvPicPr/>
          <p:nvPr/>
        </p:nvPicPr>
        <p:blipFill>
          <a:blip r:embed="rId1"/>
          <a:stretch/>
        </p:blipFill>
        <p:spPr>
          <a:xfrm flipH="1">
            <a:off x="1851480" y="1052640"/>
            <a:ext cx="6896880" cy="50986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2719440" y="1484640"/>
            <a:ext cx="38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c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3460320" y="2349000"/>
            <a:ext cx="2339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Garamond"/>
              </a:rPr>
              <a:t>Кни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Garamond"/>
              </a:rPr>
              <a:t>стр. 138-13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Garamond"/>
              </a:rPr>
              <a:t>переск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7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3">
                    <a:lumMod val="75000"/>
                  </a:schemeClr>
                </a:solidFill>
                <a:latin typeface="Garamond"/>
              </a:rPr>
              <a:t>Тема: </a:t>
            </a:r>
            <a:r>
              <a:rPr b="1" lang="ru-RU" sz="4800" spc="-1" strike="noStrike">
                <a:solidFill>
                  <a:schemeClr val="accent2">
                    <a:lumMod val="75000"/>
                  </a:schemeClr>
                </a:solidFill>
                <a:latin typeface="Garamond"/>
              </a:rPr>
              <a:t>Л.Н.Толстой «Прыжок».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Рисунок 12" descr="http://literatura5.narod.ru/kramskoy.jpg"/>
          <p:cNvPicPr/>
          <p:nvPr/>
        </p:nvPicPr>
        <p:blipFill>
          <a:blip r:embed="rId1"/>
          <a:stretch/>
        </p:blipFill>
        <p:spPr>
          <a:xfrm>
            <a:off x="2523960" y="1484640"/>
            <a:ext cx="4095360" cy="523836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2" descr="https://i.io.ua/img_su/small/0020/90/00209098_n1.jpg"/>
          <p:cNvPicPr/>
          <p:nvPr/>
        </p:nvPicPr>
        <p:blipFill>
          <a:blip r:embed="rId2"/>
          <a:stretch/>
        </p:blipFill>
        <p:spPr>
          <a:xfrm>
            <a:off x="-324720" y="4437000"/>
            <a:ext cx="3096000" cy="25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012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Garamond"/>
              </a:rPr>
              <a:t>Рассказ о кораблях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857160"/>
            <a:ext cx="82292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7040" indent="-2570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Garamond"/>
              </a:rPr>
              <a:t>Ещё в глубокой древности человеку приходилось передвигаться по воде для того, чтобы охотиться или сократить путь передвижения. Для этого он использовал обыкновенное дерево. Потом человеку нужно было что – то перевезти, и он связал несколько деревьев вместе. Так получился первый плот. В каменном веке человек научился пользоваться орудием труда, и тогда при помощи камня он стал выдалбливать в дереве углубление, так получилась первая лодка. Но многие народы делали лодки из шкур животных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159" name="Рисунок 6" descr="65faa995e8495198efec9f89623bb9a7.gif"/>
          <p:cNvPicPr/>
          <p:nvPr/>
        </p:nvPicPr>
        <p:blipFill>
          <a:blip r:embed="rId1"/>
          <a:stretch/>
        </p:blipFill>
        <p:spPr>
          <a:xfrm>
            <a:off x="6715080" y="5013000"/>
            <a:ext cx="2428560" cy="2014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s://i.io.ua/img_su/small/0020/90/00209098_n1.jpg"/>
          <p:cNvPicPr/>
          <p:nvPr/>
        </p:nvPicPr>
        <p:blipFill>
          <a:blip r:embed="rId2"/>
          <a:stretch/>
        </p:blipFill>
        <p:spPr>
          <a:xfrm>
            <a:off x="-48240" y="5382720"/>
            <a:ext cx="20214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Garamond"/>
              </a:rPr>
              <a:t>Первые корабли – небольшие деревянные суда различной формы, передвигающиеся с помощью вёсел, появились за долго до нашей эры в Египте, на Крите, в Древней Греции и Риме. В 5 веке до нашей эры появились корабли с несколькими рядами вёсел. Корабли с двумя рядами вёсел назывались бремами, с тремя – триремами.</a:t>
            </a:r>
            <a:endParaRPr b="0" lang="ru-RU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162" name="Рисунок 4" descr="3caf8bcf2ac70b9d8cf8c7b2f3c4dec9.gif"/>
          <p:cNvPicPr/>
          <p:nvPr/>
        </p:nvPicPr>
        <p:blipFill>
          <a:blip r:embed="rId1"/>
          <a:stretch/>
        </p:blipFill>
        <p:spPr>
          <a:xfrm>
            <a:off x="571320" y="4714920"/>
            <a:ext cx="2356920" cy="1704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750c5ef6988ad76ec6a24f07257ce8f7.gif"/>
          <p:cNvPicPr/>
          <p:nvPr/>
        </p:nvPicPr>
        <p:blipFill>
          <a:blip r:embed="rId2"/>
          <a:stretch/>
        </p:blipFill>
        <p:spPr>
          <a:xfrm>
            <a:off x="5786280" y="4500720"/>
            <a:ext cx="2714400" cy="210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s://www.ukazka.ru/img/g/uk43779.jpg"/>
          <p:cNvPicPr/>
          <p:nvPr/>
        </p:nvPicPr>
        <p:blipFill>
          <a:blip r:embed="rId3"/>
          <a:stretch/>
        </p:blipFill>
        <p:spPr>
          <a:xfrm>
            <a:off x="2353320" y="3480840"/>
            <a:ext cx="3446280" cy="267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Экипаж крупного корабля насчитывал несколько сот человек. В Vll веке в Венеции был создан более быстроходный корабль – галера. Она имела длину 40 – 50 метров, ширину 6 метров, один ряд вёсел, экипаж до 450 человек, развивала скорость 7 узлов (13 км/ч). Кроме вёсел имела две мачты с косыми парусами. Переход от гребного к  парусному флоту осуществлялся вплоть до ХVll – ХVlll веков.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166" name="Рисунок 5" descr="53ef61a9fec89b41b8985e1917c3e9f4.gif"/>
          <p:cNvPicPr/>
          <p:nvPr/>
        </p:nvPicPr>
        <p:blipFill>
          <a:blip r:embed="rId1"/>
          <a:stretch/>
        </p:blipFill>
        <p:spPr>
          <a:xfrm>
            <a:off x="5580000" y="4056120"/>
            <a:ext cx="3188520" cy="236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s://i.io.ua/img_su/small/0020/90/00209098_n1.jpg"/>
          <p:cNvPicPr/>
          <p:nvPr/>
        </p:nvPicPr>
        <p:blipFill>
          <a:blip r:embed="rId2"/>
          <a:stretch/>
        </p:blipFill>
        <p:spPr>
          <a:xfrm>
            <a:off x="-18000" y="4077000"/>
            <a:ext cx="34308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187640" y="764640"/>
            <a:ext cx="6930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262626"/>
                </a:solidFill>
                <a:latin typeface="Garamond"/>
              </a:rPr>
              <a:t>Корабль 19 век</a:t>
            </a:r>
            <a:endParaRPr b="0" lang="ru-RU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2" descr="D:\Новая папка (3)\КОРАБЛЬ 19 ВЕК.jpg"/>
          <p:cNvPicPr/>
          <p:nvPr/>
        </p:nvPicPr>
        <p:blipFill>
          <a:blip r:embed="rId1"/>
          <a:stretch/>
        </p:blipFill>
        <p:spPr>
          <a:xfrm>
            <a:off x="468720" y="2061000"/>
            <a:ext cx="821484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6840" y="2490120"/>
            <a:ext cx="6798240" cy="34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Понравился рассказ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Назовите главных героев рассказа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Где происходят события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ие чувства пробуждает этот рассказ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434880" y="332640"/>
            <a:ext cx="75373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5"/>
                </a:solidFill>
                <a:latin typeface="Garamond"/>
              </a:rPr>
              <a:t>Чтение по учебни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5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chemeClr val="accent5"/>
                </a:solidFill>
                <a:latin typeface="Garamond"/>
              </a:rPr>
              <a:t>стр. 138-1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6840" y="915480"/>
            <a:ext cx="67982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chemeClr val="accent2">
                    <a:lumMod val="75000"/>
                  </a:schemeClr>
                </a:solidFill>
                <a:latin typeface="Garamond"/>
              </a:rPr>
              <a:t>Работа над содержанием.</a:t>
            </a:r>
            <a:endParaRPr b="0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6840" y="2490120"/>
            <a:ext cx="6798240" cy="34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 появилась на корабле обезьяна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 вы понимаете фразу «ещё больше расходилась»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 можно сказать другими словами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Найдите в тексе и зачитайте, что обезьяна сделала со шляпой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 повёл себя мальчик в первые две минуты, оставшись без шляпы? Зачитайте.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  <a:p>
            <a:pPr marL="259200" indent="-2592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Как дальше разворачивались события?</a:t>
            </a:r>
            <a:endParaRPr b="0" lang="ru-RU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ganic</Template>
  <TotalTime>143</TotalTime>
  <Application>LibreOffice/7.4.7.2$Linux_X86_64 LibreOffice_project/40$Build-2</Application>
  <AppVersion>15.0000</AppVersion>
  <Words>462</Words>
  <Paragraphs>4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4:55:24Z</dcterms:created>
  <dc:creator>Home</dc:creator>
  <dc:description/>
  <dc:language>en-US</dc:language>
  <cp:lastModifiedBy>User</cp:lastModifiedBy>
  <dcterms:modified xsi:type="dcterms:W3CDTF">2022-11-19T05:08:23Z</dcterms:modified>
  <cp:revision>22</cp:revision>
  <dc:subject/>
  <dc:title>Тема: Л.Н.Толстой «Прыжок»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