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3.jpeg" ContentType="image/jpeg"/>
  <Override PartName="/ppt/media/image23.png" ContentType="image/png"/>
  <Override PartName="/ppt/media/image18.jpeg" ContentType="image/jpeg"/>
  <Override PartName="/ppt/media/image10.jpeg" ContentType="image/jpeg"/>
  <Override PartName="/ppt/media/image30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36.png" ContentType="image/png"/>
  <Override PartName="/ppt/media/image6.png" ContentType="image/pn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51C-191A-45C6-9984-149D2B1D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186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63600"/>
            <a:ext cx="76186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0367-5F52-49F9-8087-D8526B78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71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0160" y="1752120"/>
            <a:ext cx="371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63600"/>
            <a:ext cx="371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0160" y="3963600"/>
            <a:ext cx="371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97F-3319-4B3D-8245-F566AF54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45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480" y="1752120"/>
            <a:ext cx="245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8640" y="1752120"/>
            <a:ext cx="245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63600"/>
            <a:ext cx="245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480" y="3963600"/>
            <a:ext cx="245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8640" y="3963600"/>
            <a:ext cx="245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1B7-DF98-49E0-A679-662427E1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0EA9-3E55-49AD-84E2-5D911FDF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6186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E0FA-7B20-4CE7-BD2C-D49AC8CA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186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9C18-D3F3-499C-B209-AA881DF4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71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0160" y="1752120"/>
            <a:ext cx="371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7A18-7E49-4099-9F35-E91646DA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DFAF-8328-4FF1-9639-0D1998A1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235080"/>
            <a:ext cx="7618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B3ED-596C-48D2-BE30-4FC2D8E4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71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0160" y="1752120"/>
            <a:ext cx="371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63600"/>
            <a:ext cx="371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CBA9-0ED6-4F54-8FF1-B947B2B1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6186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582E-D386-4BF8-98C8-3E0085EE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71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0160" y="1752120"/>
            <a:ext cx="371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0160" y="3963600"/>
            <a:ext cx="371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5784-6B79-4D93-A978-ECB98D03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71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0160" y="1752120"/>
            <a:ext cx="371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63600"/>
            <a:ext cx="76186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2581-F85D-491D-90D9-CE5A5932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186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63600"/>
            <a:ext cx="76186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9B8E-845D-445A-BA79-49FC08CA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71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0160" y="1752120"/>
            <a:ext cx="371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63600"/>
            <a:ext cx="371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0160" y="3963600"/>
            <a:ext cx="371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7D87-BBBA-4343-BB3D-776DA2E4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45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480" y="1752120"/>
            <a:ext cx="245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8640" y="1752120"/>
            <a:ext cx="245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63600"/>
            <a:ext cx="245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480" y="3963600"/>
            <a:ext cx="245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8640" y="3963600"/>
            <a:ext cx="245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0B4F-D522-4E99-8EF0-594D0AE0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186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3F5-B20C-4A8A-AE54-1630AEFE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71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0160" y="1752120"/>
            <a:ext cx="371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DB9-A879-4019-8C69-E4717047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438-140A-49A8-B659-338EE071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235080"/>
            <a:ext cx="7618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4D0C-C36B-4AD6-9F81-5B6F2678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71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0160" y="1752120"/>
            <a:ext cx="371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63600"/>
            <a:ext cx="371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620-4773-4F16-93DC-A53DC0B5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71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0160" y="1752120"/>
            <a:ext cx="371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0160" y="3963600"/>
            <a:ext cx="371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A37-EA74-430F-B128-F3E72BFA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71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0160" y="1752120"/>
            <a:ext cx="371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63600"/>
            <a:ext cx="76186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34A-55D2-4ABC-BBF3-F96A437F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Line 2"/>
          <p:cNvSpPr/>
          <p:nvPr/>
        </p:nvSpPr>
        <p:spPr>
          <a:xfrm>
            <a:off x="1015920" y="1600200"/>
            <a:ext cx="7670880" cy="144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6186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33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иронова Валентина Вячеслав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6680"/>
            <a:ext cx="28940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Электронное пособ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400" y="6106680"/>
            <a:ext cx="19033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60991F-5442-4663-8074-ABDEB3C04EF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6186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3960" y="6095880"/>
            <a:ext cx="1903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иронова Валентина Вячеслав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240" y="60958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Электронное пособ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240" y="60958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AF1BDA-CDE0-4445-9595-4C626FBACD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4" descr=""/>
          <p:cNvPicPr/>
          <p:nvPr/>
        </p:nvPicPr>
        <p:blipFill>
          <a:blip r:embed="rId1"/>
          <a:stretch/>
        </p:blipFill>
        <p:spPr>
          <a:xfrm>
            <a:off x="1803240" y="3716280"/>
            <a:ext cx="2175120" cy="2809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5920" y="1413000"/>
            <a:ext cx="8667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ное чтение</a:t>
            </a:r>
            <a:br>
              <a:rPr sz="36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№ 51</a:t>
            </a:r>
            <a:br>
              <a:rPr sz="36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2" name="Рисунок 2" descr=""/>
          <p:cNvPicPr/>
          <p:nvPr/>
        </p:nvPicPr>
        <p:blipFill>
          <a:blip r:embed="rId2"/>
          <a:stretch/>
        </p:blipFill>
        <p:spPr>
          <a:xfrm>
            <a:off x="981000" y="1847880"/>
            <a:ext cx="5992920" cy="1743120"/>
          </a:xfrm>
          <a:prstGeom prst="rect">
            <a:avLst/>
          </a:prstGeom>
          <a:ln w="0">
            <a:noFill/>
          </a:ln>
        </p:spPr>
      </p:pic>
      <p:sp>
        <p:nvSpPr>
          <p:cNvPr id="93" name="Подзаголовок 2"/>
          <p:cNvSpPr/>
          <p:nvPr/>
        </p:nvSpPr>
        <p:spPr>
          <a:xfrm>
            <a:off x="5830920" y="174600"/>
            <a:ext cx="3313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резентаци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Г. Пряников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ой школ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овокузнецк, 20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744840" y="225360"/>
            <a:ext cx="50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БОУ «Средняя общеобразовательная школ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3"/>
          <a:stretch/>
        </p:blipFill>
        <p:spPr>
          <a:xfrm>
            <a:off x="4356000" y="3718080"/>
            <a:ext cx="2151000" cy="28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692280"/>
            <a:ext cx="7618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«Я лиру посвятил народу своему»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258920" y="1682640"/>
            <a:ext cx="2955960" cy="457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5076720" y="1682640"/>
            <a:ext cx="3044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235080"/>
            <a:ext cx="7618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оизведения Н.А. Некрасова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2" name="Picture 13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2862000" cy="3857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"/>
          <p:cNvPicPr/>
          <p:nvPr/>
        </p:nvPicPr>
        <p:blipFill>
          <a:blip r:embed="rId2"/>
          <a:stretch/>
        </p:blipFill>
        <p:spPr>
          <a:xfrm>
            <a:off x="6143760" y="1357200"/>
            <a:ext cx="2830320" cy="3714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"/>
          <p:cNvPicPr/>
          <p:nvPr/>
        </p:nvPicPr>
        <p:blipFill>
          <a:blip r:embed="rId3"/>
          <a:stretch/>
        </p:blipFill>
        <p:spPr>
          <a:xfrm>
            <a:off x="3357720" y="2428920"/>
            <a:ext cx="2857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http://readly.ru/public/media/covers/2/3/23a58da1b0ee69c22c42062ef3fe1f9e_200x0.jpg"/>
          <p:cNvPicPr/>
          <p:nvPr/>
        </p:nvPicPr>
        <p:blipFill>
          <a:blip r:embed="rId1"/>
          <a:stretch/>
        </p:blipFill>
        <p:spPr>
          <a:xfrm>
            <a:off x="1042920" y="549360"/>
            <a:ext cx="3792600" cy="568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http://detskiychas.ru/wp-content/uploads/2013/02/shmarinov_krestyanskie_deti.jpg"/>
          <p:cNvPicPr/>
          <p:nvPr/>
        </p:nvPicPr>
        <p:blipFill>
          <a:blip r:embed="rId2"/>
          <a:stretch/>
        </p:blipFill>
        <p:spPr>
          <a:xfrm>
            <a:off x="4843440" y="1881360"/>
            <a:ext cx="38768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3" descr=""/>
          <p:cNvPicPr/>
          <p:nvPr/>
        </p:nvPicPr>
        <p:blipFill>
          <a:blip r:embed="rId1"/>
          <a:stretch/>
        </p:blipFill>
        <p:spPr>
          <a:xfrm>
            <a:off x="1014480" y="333360"/>
            <a:ext cx="7734240" cy="1311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ature Ulmus rubra in graveyard.jpg"/>
          <p:cNvPicPr/>
          <p:nvPr/>
        </p:nvPicPr>
        <p:blipFill>
          <a:blip r:embed="rId2"/>
          <a:stretch/>
        </p:blipFill>
        <p:spPr>
          <a:xfrm>
            <a:off x="679320" y="1628640"/>
            <a:ext cx="2600280" cy="3848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ttps://upload.wikimedia.org/wikipedia/commons/thumb/d/d2/Japanese_elm_leaves.jpg/225px-Japanese_elm_leaves.jpg"/>
          <p:cNvPicPr/>
          <p:nvPr/>
        </p:nvPicPr>
        <p:blipFill>
          <a:blip r:embed="rId3"/>
          <a:stretch/>
        </p:blipFill>
        <p:spPr>
          <a:xfrm>
            <a:off x="2556000" y="377496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://diletant.media/upload/medialibrary/615/615476f1bcf75c29a431642bae80b444.jpg"/>
          <p:cNvPicPr/>
          <p:nvPr/>
        </p:nvPicPr>
        <p:blipFill>
          <a:blip r:embed="rId4"/>
          <a:stretch/>
        </p:blipFill>
        <p:spPr>
          <a:xfrm>
            <a:off x="5345280" y="1604880"/>
            <a:ext cx="33908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452000" cy="15130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"/>
          <p:cNvPicPr/>
          <p:nvPr/>
        </p:nvPicPr>
        <p:blipFill>
          <a:blip r:embed="rId2"/>
          <a:stretch/>
        </p:blipFill>
        <p:spPr>
          <a:xfrm>
            <a:off x="900000" y="3141720"/>
            <a:ext cx="7452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Скругленный прямоугольник 1"/>
          <p:cNvSpPr/>
          <p:nvPr/>
        </p:nvSpPr>
        <p:spPr>
          <a:xfrm>
            <a:off x="1670040" y="765000"/>
            <a:ext cx="6408720" cy="792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Прямоугольник 5" descr=""/>
          <p:cNvPicPr/>
          <p:nvPr/>
        </p:nvPicPr>
        <p:blipFill>
          <a:blip r:embed="rId1"/>
          <a:stretch/>
        </p:blipFill>
        <p:spPr>
          <a:xfrm>
            <a:off x="1670040" y="738360"/>
            <a:ext cx="6840720" cy="1090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3255840" y="2187720"/>
            <a:ext cx="3240360" cy="420840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2" descr=""/>
          <p:cNvPicPr/>
          <p:nvPr/>
        </p:nvPicPr>
        <p:blipFill>
          <a:blip r:embed="rId3"/>
          <a:stretch/>
        </p:blipFill>
        <p:spPr>
          <a:xfrm>
            <a:off x="4157640" y="1639800"/>
            <a:ext cx="1322280" cy="6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98508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042920" y="209520"/>
            <a:ext cx="7894800" cy="63882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ая соединительная линия 4"/>
          <p:cNvSpPr/>
          <p:nvPr/>
        </p:nvSpPr>
        <p:spPr>
          <a:xfrm>
            <a:off x="3924360" y="1773360"/>
            <a:ext cx="316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img-fotki.yandex.ru/get/4411/47407354.2a2/0_90b98_d3391ec8_orig.png"/>
          <p:cNvPicPr/>
          <p:nvPr/>
        </p:nvPicPr>
        <p:blipFill>
          <a:blip r:embed="rId1"/>
          <a:stretch/>
        </p:blipFill>
        <p:spPr>
          <a:xfrm>
            <a:off x="1116000" y="1052640"/>
            <a:ext cx="7632720" cy="509904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2" descr=""/>
          <p:cNvPicPr/>
          <p:nvPr/>
        </p:nvPicPr>
        <p:blipFill>
          <a:blip r:embed="rId2"/>
          <a:stretch/>
        </p:blipFill>
        <p:spPr>
          <a:xfrm>
            <a:off x="2505240" y="1378080"/>
            <a:ext cx="4243320" cy="101124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3" descr=""/>
          <p:cNvPicPr/>
          <p:nvPr/>
        </p:nvPicPr>
        <p:blipFill>
          <a:blip r:embed="rId3"/>
          <a:stretch/>
        </p:blipFill>
        <p:spPr>
          <a:xfrm>
            <a:off x="2670120" y="2279520"/>
            <a:ext cx="3913200" cy="20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3929040" cy="49291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9440" y="-298800"/>
            <a:ext cx="847224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ворчество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Никол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я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Алексеевич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Некрасов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 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2286000" y="3152880"/>
            <a:ext cx="4572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394240" y="2398680"/>
            <a:ext cx="350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колай Алексеевич Некрасов родился 28 ноября 1821 года на Укра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24 году семья Некрасовых переехала в Грешнёво 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ерн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де и прошло детство будущего поэ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отец некрасова"/>
          <p:cNvPicPr/>
          <p:nvPr/>
        </p:nvPicPr>
        <p:blipFill>
          <a:blip r:embed="rId1"/>
          <a:stretch/>
        </p:blipFill>
        <p:spPr>
          <a:xfrm>
            <a:off x="755640" y="549360"/>
            <a:ext cx="435924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076360" y="981000"/>
            <a:ext cx="3692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ексей Сергеевич Некрасов принадлежал к старинному , но обедневшему роду. В молодости служил в армии, а после выхода в отставку, занялся хозяйством. Он был очень суровым и своенравным, жестоко обращался со своими крестьянами. За малейшую провинность наказывал розгами. Очень любил псовую охоту и  кар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64000" y="-171720"/>
            <a:ext cx="1981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</a:rPr>
              <a:t>Отец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716360" y="1104840"/>
            <a:ext cx="4122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лена Андреевна Закревская- дворянка из богатой семьи. Родители не соглашались выдать прекрасно воспитанную дочь за небогатого, малообразованного офицера. Брак состоялся без их согласия. Елена Андреевна очень страдала в замужестве. Целыми днями она сидела дома одна, а её муж развлекался псовой охотой, картами. Бывали дни, когда она целый день сидела за роялем, пела и плакала о своей горькой уча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642920" y="37800"/>
            <a:ext cx="3762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221304"/>
                </a:solidFill>
                <a:latin typeface="Times New Roman"/>
              </a:rPr>
              <a:t>Мать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716040" y="571680"/>
            <a:ext cx="40003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IMG_4557"/>
          <p:cNvPicPr/>
          <p:nvPr/>
        </p:nvPicPr>
        <p:blipFill>
          <a:blip r:embed="rId1"/>
          <a:stretch/>
        </p:blipFill>
        <p:spPr>
          <a:xfrm>
            <a:off x="214200" y="3143160"/>
            <a:ext cx="3786480" cy="3286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Осенью 1824 году, когда маленькому Николаю исполнилось 3 года , вместе с отцом и матерью, впервые  приехал в родовое имение Грешнёво (ныне Некрасово ).Здесь Некрасов провёл своё детство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садьба в Грешнё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7" descr="na_af003"/>
          <p:cNvPicPr/>
          <p:nvPr/>
        </p:nvPicPr>
        <p:blipFill>
          <a:blip r:embed="rId2"/>
          <a:stretch/>
        </p:blipFill>
        <p:spPr>
          <a:xfrm>
            <a:off x="4214880" y="3143160"/>
            <a:ext cx="4500360" cy="328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indefinite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indefinite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9" dur="indefinite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0" dur="indefinite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55640" y="631800"/>
            <a:ext cx="4186080" cy="4535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427280" y="620280"/>
            <a:ext cx="442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Пр</a:t>
            </a:r>
            <a:r>
              <a:rPr b="0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 у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садьбе был старый, запущенный сад, обнесенный глухим забором. Мальчик проделал в заборе лазейку и в те часы, когда отца не было дома, зазывал к себе крестьянских детей. Дети врывались в сад и набрасывались на яблоки, груши, смородину, вишню. Но стоило няньке крикнуть: "Барин, барин идет!"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как они мгновенно исчезал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Ему не разрешали дружить с детьми крепостных крестьян, но Некрасову удавалось  убегать к своим друзьям, с которыми  ходил в лес, купался в реке. Этому периоду своего детства, он посвятил стихотворение « Крестьянские дет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http://900igr.net/datai/izo/Portrety-Tretjakovskoj-galerei/0024-031-Nekrasov.jpg"/>
          <p:cNvPicPr/>
          <p:nvPr/>
        </p:nvPicPr>
        <p:blipFill>
          <a:blip r:embed="rId1"/>
          <a:stretch/>
        </p:blipFill>
        <p:spPr>
          <a:xfrm>
            <a:off x="1187280" y="549360"/>
            <a:ext cx="4730760" cy="59040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"/>
          <p:cNvSpPr/>
          <p:nvPr/>
        </p:nvSpPr>
        <p:spPr>
          <a:xfrm>
            <a:off x="6084720" y="1700280"/>
            <a:ext cx="25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1875 году у поэта обнаружили рак кишечника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https://img-fotki.yandex.ru/get/119695/374871492.32/0_1aaecb_d1296b0a_orig"/>
          <p:cNvPicPr/>
          <p:nvPr/>
        </p:nvPicPr>
        <p:blipFill>
          <a:blip r:embed="rId1"/>
          <a:stretch/>
        </p:blipFill>
        <p:spPr>
          <a:xfrm>
            <a:off x="1042920" y="1989000"/>
            <a:ext cx="762012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"/>
          <p:cNvSpPr/>
          <p:nvPr/>
        </p:nvSpPr>
        <p:spPr>
          <a:xfrm>
            <a:off x="1289160" y="620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Sans"/>
              </a:rPr>
              <a:t>В 1877 году 27 декабря после продолжительной болезни Некрасова не ста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https://go1.imgsmail.ru/imgpreview?key=7414796ce787e6fd&amp;mb=imgdb_preview_778"/>
          <p:cNvPicPr/>
          <p:nvPr/>
        </p:nvPicPr>
        <p:blipFill>
          <a:blip r:embed="rId1"/>
          <a:stretch/>
        </p:blipFill>
        <p:spPr>
          <a:xfrm>
            <a:off x="6084720" y="2773440"/>
            <a:ext cx="2575080" cy="3673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http://platform.guideadvisor.ru/file/58/21/5821c07e5ee39.jpg"/>
          <p:cNvPicPr/>
          <p:nvPr/>
        </p:nvPicPr>
        <p:blipFill>
          <a:blip r:embed="rId2"/>
          <a:stretch/>
        </p:blipFill>
        <p:spPr>
          <a:xfrm>
            <a:off x="826920" y="1209600"/>
            <a:ext cx="5185080" cy="31273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2"/>
          <p:cNvSpPr/>
          <p:nvPr/>
        </p:nvSpPr>
        <p:spPr>
          <a:xfrm>
            <a:off x="1476360" y="260280"/>
            <a:ext cx="732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ыл похоронен в Санкт-Петербурге на Новодевичьем кладбищ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9:03:08Z</dcterms:created>
  <dc:creator>1</dc:creator>
  <dc:description/>
  <dc:language>en-US</dc:language>
  <cp:lastModifiedBy>User</cp:lastModifiedBy>
  <dcterms:modified xsi:type="dcterms:W3CDTF">2022-11-19T07:32:50Z</dcterms:modified>
  <cp:revision>155</cp:revision>
  <dc:subject/>
  <dc:title>ТЕСТ  ПО РУССКОМУ ЯЗЫКУ по теме «ПРЕДЛОЖЕНИЕ»</dc:title>
</cp:coreProperties>
</file>