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4D22-EDCB-4471-B25F-B9913F2F2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BBDF-EA55-417E-BA16-4A3C879A2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BE3A-AEB5-44BE-87A9-F84853EF1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4374-40DF-4BFB-9217-12AAD3981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B5A7-D796-4545-AA76-EDEC405A3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444B-29BB-436C-A941-469F86380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57D7-1286-4540-A9B6-06F90AB0D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B5B2-45CC-4B20-B04D-7B6F7C636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6EEE-F9C2-47AD-BE52-1E1A7C47A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AD6D-842B-4321-9DF5-91420813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0D81-062F-4272-85C2-DDFD71E7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59FB-7C18-49CE-A7FB-782B931C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074F8-C3A0-4512-9D05-CB0F5EE47E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Группа 11"/>
          <p:cNvGrpSpPr/>
          <p:nvPr/>
        </p:nvGrpSpPr>
        <p:grpSpPr>
          <a:xfrm>
            <a:off x="-49320" y="-46080"/>
            <a:ext cx="9242640" cy="6956640"/>
            <a:chOff x="-49320" y="-46080"/>
            <a:chExt cx="9242640" cy="6956640"/>
          </a:xfrm>
        </p:grpSpPr>
        <p:pic>
          <p:nvPicPr>
            <p:cNvPr id="42" name="Picture 2" descr=""/>
            <p:cNvPicPr/>
            <p:nvPr/>
          </p:nvPicPr>
          <p:blipFill>
            <a:blip r:embed="rId1"/>
            <a:stretch/>
          </p:blipFill>
          <p:spPr>
            <a:xfrm>
              <a:off x="-49320" y="-46080"/>
              <a:ext cx="9242640" cy="6956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" name="Группа 5"/>
            <p:cNvGrpSpPr/>
            <p:nvPr/>
          </p:nvGrpSpPr>
          <p:grpSpPr>
            <a:xfrm>
              <a:off x="7184880" y="5381280"/>
              <a:ext cx="1607760" cy="1284120"/>
              <a:chOff x="7184880" y="5381280"/>
              <a:chExt cx="1607760" cy="1284120"/>
            </a:xfrm>
          </p:grpSpPr>
          <p:grpSp>
            <p:nvGrpSpPr>
              <p:cNvPr id="44" name="Шестиугольник 8"/>
              <p:cNvGrpSpPr/>
              <p:nvPr/>
            </p:nvGrpSpPr>
            <p:grpSpPr>
              <a:xfrm>
                <a:off x="7598520" y="5445720"/>
                <a:ext cx="1194120" cy="974880"/>
                <a:chOff x="7598520" y="5445720"/>
                <a:chExt cx="1194120" cy="974880"/>
              </a:xfrm>
            </p:grpSpPr>
            <p:pic>
              <p:nvPicPr>
                <p:cNvPr id="45" name="Шестиугольник 8" descr=""/>
                <p:cNvPicPr/>
                <p:nvPr/>
              </p:nvPicPr>
              <p:blipFill>
                <a:blip r:embed="rId2"/>
                <a:stretch/>
              </p:blipFill>
              <p:spPr>
                <a:xfrm rot="21599400">
                  <a:off x="7598520" y="5445720"/>
                  <a:ext cx="1194120" cy="974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" name=""/>
                <p:cNvSpPr/>
                <p:nvPr/>
              </p:nvSpPr>
              <p:spPr>
                <a:xfrm rot="582000">
                  <a:off x="7821360" y="5649840"/>
                  <a:ext cx="746640" cy="53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47" name="Равнобедренный треугольник 9"/>
              <p:cNvSpPr/>
              <p:nvPr/>
            </p:nvSpPr>
            <p:spPr>
              <a:xfrm rot="2449200">
                <a:off x="7271280" y="5625000"/>
                <a:ext cx="981000" cy="6307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dafda7"/>
                  </a:gs>
                  <a:gs pos="100000">
                    <a:srgbClr val="f5ffe6"/>
                  </a:gs>
                </a:gsLst>
                <a:lin ang="14334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" name="Овал 10"/>
              <p:cNvSpPr/>
              <p:nvPr/>
            </p:nvSpPr>
            <p:spPr>
              <a:xfrm rot="582600">
                <a:off x="7780320" y="5967360"/>
                <a:ext cx="700200" cy="643680"/>
              </a:xfrm>
              <a:prstGeom prst="ellipse">
                <a:avLst/>
              </a:prstGeom>
              <a:gradFill rotWithShape="0">
                <a:gsLst>
                  <a:gs pos="0">
                    <a:srgbClr val="769535"/>
                  </a:gs>
                  <a:gs pos="100000">
                    <a:srgbClr val="9cc746"/>
                  </a:gs>
                </a:gsLst>
                <a:lin ang="16200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9" name="Прямоугольник 3"/>
            <p:cNvGrpSpPr/>
            <p:nvPr/>
          </p:nvGrpSpPr>
          <p:grpSpPr>
            <a:xfrm>
              <a:off x="115560" y="5760"/>
              <a:ext cx="9028440" cy="1706760"/>
              <a:chOff x="115560" y="5760"/>
              <a:chExt cx="9028440" cy="1706760"/>
            </a:xfrm>
          </p:grpSpPr>
          <p:pic>
            <p:nvPicPr>
              <p:cNvPr id="50" name="Прямоугольник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5560" y="5760"/>
                <a:ext cx="9028440" cy="170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395280" y="260280"/>
                <a:ext cx="8471160" cy="115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400" spc="-1" strike="noStrike">
                    <a:solidFill>
                      <a:srgbClr val="4f6228"/>
                    </a:solidFill>
                    <a:latin typeface="Calibri"/>
                  </a:rPr>
                  <a:t>Притча «Решение проблемы»</a:t>
                </a:r>
                <a:endParaRPr b="0" lang="en-US" sz="4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днажды ученик пришел к учителю: «Мне нужно решить очень важную проблему, и я хочу спросить, каким способом — вот таким, таким, а может быть, вообще попробовать какой-то другой?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ответ учитель взял свой толстый деревянный посох и слегка ударил ученика по лбу. «За что?!« — вскричал то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Глупец, сколько раз тебе повторять: один добытый опыт важнее семи правил мудрости», — изрек учител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Группа 11"/>
          <p:cNvGrpSpPr/>
          <p:nvPr/>
        </p:nvGrpSpPr>
        <p:grpSpPr>
          <a:xfrm>
            <a:off x="-49320" y="-46080"/>
            <a:ext cx="9242640" cy="6956640"/>
            <a:chOff x="-49320" y="-46080"/>
            <a:chExt cx="9242640" cy="6956640"/>
          </a:xfrm>
        </p:grpSpPr>
        <p:pic>
          <p:nvPicPr>
            <p:cNvPr id="156" name="Picture 2" descr=""/>
            <p:cNvPicPr/>
            <p:nvPr/>
          </p:nvPicPr>
          <p:blipFill>
            <a:blip r:embed="rId1"/>
            <a:stretch/>
          </p:blipFill>
          <p:spPr>
            <a:xfrm>
              <a:off x="-49320" y="197640"/>
              <a:ext cx="9242640" cy="6712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7" name="Группа 5"/>
            <p:cNvGrpSpPr/>
            <p:nvPr/>
          </p:nvGrpSpPr>
          <p:grpSpPr>
            <a:xfrm>
              <a:off x="7191720" y="5422320"/>
              <a:ext cx="1600200" cy="1254960"/>
              <a:chOff x="7191720" y="5422320"/>
              <a:chExt cx="1600200" cy="1254960"/>
            </a:xfrm>
          </p:grpSpPr>
          <p:grpSp>
            <p:nvGrpSpPr>
              <p:cNvPr id="158" name="Шестиугольник 8"/>
              <p:cNvGrpSpPr/>
              <p:nvPr/>
            </p:nvGrpSpPr>
            <p:grpSpPr>
              <a:xfrm>
                <a:off x="7597800" y="5498280"/>
                <a:ext cx="1194120" cy="940680"/>
                <a:chOff x="7597800" y="5498280"/>
                <a:chExt cx="1194120" cy="940680"/>
              </a:xfrm>
            </p:grpSpPr>
            <p:pic>
              <p:nvPicPr>
                <p:cNvPr id="159" name="Шестиугольник 8" descr=""/>
                <p:cNvPicPr/>
                <p:nvPr/>
              </p:nvPicPr>
              <p:blipFill>
                <a:blip r:embed="rId2"/>
                <a:stretch/>
              </p:blipFill>
              <p:spPr>
                <a:xfrm rot="21599400">
                  <a:off x="7597800" y="5498280"/>
                  <a:ext cx="1194120" cy="940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0" name=""/>
                <p:cNvSpPr/>
                <p:nvPr/>
              </p:nvSpPr>
              <p:spPr>
                <a:xfrm rot="582000">
                  <a:off x="7820640" y="5694840"/>
                  <a:ext cx="7466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61" name="Равнобедренный треугольник 9"/>
              <p:cNvSpPr/>
              <p:nvPr/>
            </p:nvSpPr>
            <p:spPr>
              <a:xfrm rot="2449200">
                <a:off x="7271280" y="5668920"/>
                <a:ext cx="981000" cy="6084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dafda7"/>
                  </a:gs>
                  <a:gs pos="100000">
                    <a:srgbClr val="f5ffe6"/>
                  </a:gs>
                </a:gsLst>
                <a:lin ang="14334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" name="Овал 10"/>
              <p:cNvSpPr/>
              <p:nvPr/>
            </p:nvSpPr>
            <p:spPr>
              <a:xfrm rot="582600">
                <a:off x="7781760" y="6001200"/>
                <a:ext cx="700200" cy="621360"/>
              </a:xfrm>
              <a:prstGeom prst="ellipse">
                <a:avLst/>
              </a:prstGeom>
              <a:gradFill rotWithShape="0">
                <a:gsLst>
                  <a:gs pos="0">
                    <a:srgbClr val="769535"/>
                  </a:gs>
                  <a:gs pos="100000">
                    <a:srgbClr val="9cc746"/>
                  </a:gs>
                </a:gsLst>
                <a:lin ang="16200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3" name="Прямоугольник 3"/>
            <p:cNvGrpSpPr/>
            <p:nvPr/>
          </p:nvGrpSpPr>
          <p:grpSpPr>
            <a:xfrm>
              <a:off x="54720" y="-46080"/>
              <a:ext cx="9034560" cy="3147120"/>
              <a:chOff x="54720" y="-46080"/>
              <a:chExt cx="9034560" cy="3147120"/>
            </a:xfrm>
          </p:grpSpPr>
          <p:pic>
            <p:nvPicPr>
              <p:cNvPr id="164" name="Прямоугольник 3" descr=""/>
              <p:cNvPicPr/>
              <p:nvPr/>
            </p:nvPicPr>
            <p:blipFill>
              <a:blip r:embed="rId3"/>
              <a:stretch/>
            </p:blipFill>
            <p:spPr>
              <a:xfrm>
                <a:off x="54720" y="-46080"/>
                <a:ext cx="9034560" cy="3147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5" name=""/>
              <p:cNvSpPr/>
              <p:nvPr/>
            </p:nvSpPr>
            <p:spPr>
              <a:xfrm>
                <a:off x="336240" y="493560"/>
                <a:ext cx="8471520" cy="18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400" spc="-1" strike="noStrike">
                    <a:solidFill>
                      <a:srgbClr val="4f6228"/>
                    </a:solidFill>
                    <a:latin typeface="Cambria"/>
                  </a:rPr>
                  <a:t>Задание № 3. Переложите 3 круга (монеты) так, чтобы треугольник перевернулся вершиной вниз. </a:t>
                </a:r>
                <a:endParaRPr b="0" lang="en-US" sz="4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66" name=""/>
          <p:cNvSpPr txBox="1"/>
          <p:nvPr/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50f03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4"/>
          <a:srcRect l="0" t="0" r="42547" b="0"/>
          <a:stretch/>
        </p:blipFill>
        <p:spPr>
          <a:xfrm>
            <a:off x="1619280" y="2517840"/>
            <a:ext cx="446544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Группа 11"/>
          <p:cNvGrpSpPr/>
          <p:nvPr/>
        </p:nvGrpSpPr>
        <p:grpSpPr>
          <a:xfrm>
            <a:off x="-49320" y="-46080"/>
            <a:ext cx="9242640" cy="6956640"/>
            <a:chOff x="-49320" y="-46080"/>
            <a:chExt cx="9242640" cy="6956640"/>
          </a:xfrm>
        </p:grpSpPr>
        <p:pic>
          <p:nvPicPr>
            <p:cNvPr id="169" name="Picture 2" descr=""/>
            <p:cNvPicPr/>
            <p:nvPr/>
          </p:nvPicPr>
          <p:blipFill>
            <a:blip r:embed="rId1"/>
            <a:stretch/>
          </p:blipFill>
          <p:spPr>
            <a:xfrm>
              <a:off x="-49320" y="-46080"/>
              <a:ext cx="9242640" cy="6956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0" name="Группа 5"/>
            <p:cNvGrpSpPr/>
            <p:nvPr/>
          </p:nvGrpSpPr>
          <p:grpSpPr>
            <a:xfrm>
              <a:off x="7184880" y="5381280"/>
              <a:ext cx="1607760" cy="1284120"/>
              <a:chOff x="7184880" y="5381280"/>
              <a:chExt cx="1607760" cy="1284120"/>
            </a:xfrm>
          </p:grpSpPr>
          <p:grpSp>
            <p:nvGrpSpPr>
              <p:cNvPr id="171" name="Шестиугольник 8"/>
              <p:cNvGrpSpPr/>
              <p:nvPr/>
            </p:nvGrpSpPr>
            <p:grpSpPr>
              <a:xfrm>
                <a:off x="7598520" y="5445720"/>
                <a:ext cx="1194120" cy="974880"/>
                <a:chOff x="7598520" y="5445720"/>
                <a:chExt cx="1194120" cy="974880"/>
              </a:xfrm>
            </p:grpSpPr>
            <p:pic>
              <p:nvPicPr>
                <p:cNvPr id="172" name="Шестиугольник 8" descr=""/>
                <p:cNvPicPr/>
                <p:nvPr/>
              </p:nvPicPr>
              <p:blipFill>
                <a:blip r:embed="rId2"/>
                <a:stretch/>
              </p:blipFill>
              <p:spPr>
                <a:xfrm rot="21599400">
                  <a:off x="7598520" y="5445720"/>
                  <a:ext cx="1194120" cy="974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" name=""/>
                <p:cNvSpPr/>
                <p:nvPr/>
              </p:nvSpPr>
              <p:spPr>
                <a:xfrm rot="582000">
                  <a:off x="7821360" y="5649840"/>
                  <a:ext cx="746640" cy="53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74" name="Равнобедренный треугольник 9"/>
              <p:cNvSpPr/>
              <p:nvPr/>
            </p:nvSpPr>
            <p:spPr>
              <a:xfrm rot="2449200">
                <a:off x="7271280" y="5625000"/>
                <a:ext cx="981000" cy="6307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dafda7"/>
                  </a:gs>
                  <a:gs pos="100000">
                    <a:srgbClr val="f5ffe6"/>
                  </a:gs>
                </a:gsLst>
                <a:lin ang="14334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" name="Овал 10"/>
              <p:cNvSpPr/>
              <p:nvPr/>
            </p:nvSpPr>
            <p:spPr>
              <a:xfrm rot="582600">
                <a:off x="7780320" y="5967360"/>
                <a:ext cx="700200" cy="643680"/>
              </a:xfrm>
              <a:prstGeom prst="ellipse">
                <a:avLst/>
              </a:prstGeom>
              <a:gradFill rotWithShape="0">
                <a:gsLst>
                  <a:gs pos="0">
                    <a:srgbClr val="769535"/>
                  </a:gs>
                  <a:gs pos="100000">
                    <a:srgbClr val="9cc746"/>
                  </a:gs>
                </a:gsLst>
                <a:lin ang="16200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6" name="Прямоугольник 3"/>
            <p:cNvGrpSpPr/>
            <p:nvPr/>
          </p:nvGrpSpPr>
          <p:grpSpPr>
            <a:xfrm>
              <a:off x="54720" y="5760"/>
              <a:ext cx="9034560" cy="1706760"/>
              <a:chOff x="54720" y="5760"/>
              <a:chExt cx="9034560" cy="1706760"/>
            </a:xfrm>
          </p:grpSpPr>
          <p:pic>
            <p:nvPicPr>
              <p:cNvPr id="177" name="Прямоугольник 3" descr=""/>
              <p:cNvPicPr/>
              <p:nvPr/>
            </p:nvPicPr>
            <p:blipFill>
              <a:blip r:embed="rId3"/>
              <a:stretch/>
            </p:blipFill>
            <p:spPr>
              <a:xfrm>
                <a:off x="54720" y="5760"/>
                <a:ext cx="9034560" cy="170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8" name=""/>
              <p:cNvSpPr/>
              <p:nvPr/>
            </p:nvSpPr>
            <p:spPr>
              <a:xfrm>
                <a:off x="336240" y="260280"/>
                <a:ext cx="8471520" cy="115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79" name="Picture 2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Группа 11"/>
          <p:cNvGrpSpPr/>
          <p:nvPr/>
        </p:nvGrpSpPr>
        <p:grpSpPr>
          <a:xfrm>
            <a:off x="336600" y="0"/>
            <a:ext cx="9242280" cy="6956280"/>
            <a:chOff x="336600" y="0"/>
            <a:chExt cx="9242280" cy="6956280"/>
          </a:xfrm>
        </p:grpSpPr>
        <p:pic>
          <p:nvPicPr>
            <p:cNvPr id="181" name="Picture 2" descr=""/>
            <p:cNvPicPr/>
            <p:nvPr/>
          </p:nvPicPr>
          <p:blipFill>
            <a:blip r:embed="rId1"/>
            <a:stretch/>
          </p:blipFill>
          <p:spPr>
            <a:xfrm>
              <a:off x="336600" y="0"/>
              <a:ext cx="9242280" cy="6956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2" name="Группа 5"/>
            <p:cNvGrpSpPr/>
            <p:nvPr/>
          </p:nvGrpSpPr>
          <p:grpSpPr>
            <a:xfrm>
              <a:off x="7570440" y="5429160"/>
              <a:ext cx="1608120" cy="1283040"/>
              <a:chOff x="7570440" y="5429160"/>
              <a:chExt cx="1608120" cy="1283040"/>
            </a:xfrm>
          </p:grpSpPr>
          <p:grpSp>
            <p:nvGrpSpPr>
              <p:cNvPr id="183" name="Шестиугольник 8"/>
              <p:cNvGrpSpPr/>
              <p:nvPr/>
            </p:nvGrpSpPr>
            <p:grpSpPr>
              <a:xfrm>
                <a:off x="7982640" y="5491800"/>
                <a:ext cx="1195920" cy="972360"/>
                <a:chOff x="7982640" y="5491800"/>
                <a:chExt cx="1195920" cy="972360"/>
              </a:xfrm>
            </p:grpSpPr>
            <p:pic>
              <p:nvPicPr>
                <p:cNvPr id="184" name="Шестиугольник 8" descr=""/>
                <p:cNvPicPr/>
                <p:nvPr/>
              </p:nvPicPr>
              <p:blipFill>
                <a:blip r:embed="rId2"/>
                <a:stretch/>
              </p:blipFill>
              <p:spPr>
                <a:xfrm rot="21599400">
                  <a:off x="7982640" y="5491800"/>
                  <a:ext cx="1195920" cy="972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5" name=""/>
                <p:cNvSpPr/>
                <p:nvPr/>
              </p:nvSpPr>
              <p:spPr>
                <a:xfrm rot="582000">
                  <a:off x="8207280" y="5698440"/>
                  <a:ext cx="747720" cy="53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86" name="Равнобедренный треугольник 9"/>
              <p:cNvSpPr/>
              <p:nvPr/>
            </p:nvSpPr>
            <p:spPr>
              <a:xfrm rot="2449200">
                <a:off x="7656480" y="5673600"/>
                <a:ext cx="982440" cy="6292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dafda7"/>
                  </a:gs>
                  <a:gs pos="100000">
                    <a:srgbClr val="f5ffe6"/>
                  </a:gs>
                </a:gsLst>
                <a:lin ang="14334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Овал 10"/>
              <p:cNvSpPr/>
              <p:nvPr/>
            </p:nvSpPr>
            <p:spPr>
              <a:xfrm rot="582600">
                <a:off x="8166240" y="6015240"/>
                <a:ext cx="700920" cy="642240"/>
              </a:xfrm>
              <a:prstGeom prst="ellipse">
                <a:avLst/>
              </a:prstGeom>
              <a:gradFill rotWithShape="0">
                <a:gsLst>
                  <a:gs pos="0">
                    <a:srgbClr val="769535"/>
                  </a:gs>
                  <a:gs pos="100000">
                    <a:srgbClr val="9cc746"/>
                  </a:gs>
                </a:gsLst>
                <a:lin ang="16200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8" name="Прямоугольник 3"/>
            <p:cNvGrpSpPr/>
            <p:nvPr/>
          </p:nvGrpSpPr>
          <p:grpSpPr>
            <a:xfrm>
              <a:off x="438840" y="48600"/>
              <a:ext cx="9034200" cy="603360"/>
              <a:chOff x="438840" y="48600"/>
              <a:chExt cx="9034200" cy="603360"/>
            </a:xfrm>
          </p:grpSpPr>
          <p:pic>
            <p:nvPicPr>
              <p:cNvPr id="189" name="Прямоугольник 3" descr=""/>
              <p:cNvPicPr/>
              <p:nvPr/>
            </p:nvPicPr>
            <p:blipFill>
              <a:blip r:embed="rId3"/>
              <a:stretch/>
            </p:blipFill>
            <p:spPr>
              <a:xfrm>
                <a:off x="438840" y="48600"/>
                <a:ext cx="9034200" cy="603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"/>
              <p:cNvSpPr/>
              <p:nvPr/>
            </p:nvSpPr>
            <p:spPr>
              <a:xfrm>
                <a:off x="722160" y="306360"/>
                <a:ext cx="8471160" cy="4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91" name=""/>
          <p:cNvSpPr txBox="1"/>
          <p:nvPr/>
        </p:nvSpPr>
        <p:spPr>
          <a:xfrm>
            <a:off x="457200" y="620280"/>
            <a:ext cx="853272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50f03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550f03"/>
                </a:solidFill>
                <a:latin typeface="Times New Roman"/>
                <a:ea typeface="Times New Roman"/>
              </a:rPr>
              <a:t>Довольно часто мы называем проблемой любую жизненную ситуацию, которая не вписывается в наш стандартный жизненный уклад, заставляет нас действовать, предпринимать какие-то шаги по её решению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50f03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550f03"/>
                </a:solidFill>
                <a:latin typeface="Times New Roman"/>
                <a:ea typeface="Times New Roman"/>
              </a:rPr>
              <a:t>Как ни удивительно, но именно проблемы приносят в нашу жизни чудесные плоды. Если задуматься и проанализировать свою жизнь, то Вы увидите, что после того, как Вы решили ту или иную проблему, жизнь сторицей вознаграждает Ваши старания. Вслед за процессом решения проблемы следует успе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50f03"/>
                </a:solidFill>
                <a:latin typeface="Times New Roman"/>
                <a:ea typeface="Times New Roman"/>
              </a:rPr>
              <a:t>Успехов Вам!!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480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50f03"/>
                </a:solidFill>
                <a:latin typeface="Cambria"/>
              </a:rPr>
              <a:t>Универсальный способ действия при решении пробле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834920" y="3613320"/>
            <a:ext cx="6265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50f03"/>
                </a:solidFill>
                <a:latin typeface="Calibri"/>
              </a:rPr>
              <a:t>Федосеева Елена Михайловна, учитель начальных классо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50f03"/>
                </a:solidFill>
                <a:latin typeface="Calibri"/>
              </a:rPr>
              <a:t>МАОУ «СОШ№5 г. Закаменс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" name="Группа 20"/>
          <p:cNvGrpSpPr/>
          <p:nvPr/>
        </p:nvGrpSpPr>
        <p:grpSpPr>
          <a:xfrm>
            <a:off x="-164880" y="-182520"/>
            <a:ext cx="9455760" cy="6769080"/>
            <a:chOff x="-164880" y="-182520"/>
            <a:chExt cx="9455760" cy="6769080"/>
          </a:xfrm>
        </p:grpSpPr>
        <p:grpSp>
          <p:nvGrpSpPr>
            <p:cNvPr id="57" name="Группа 7"/>
            <p:cNvGrpSpPr/>
            <p:nvPr/>
          </p:nvGrpSpPr>
          <p:grpSpPr>
            <a:xfrm>
              <a:off x="7162920" y="5410080"/>
              <a:ext cx="1574640" cy="1176480"/>
              <a:chOff x="7162920" y="5410080"/>
              <a:chExt cx="1574640" cy="1176480"/>
            </a:xfrm>
          </p:grpSpPr>
          <p:grpSp>
            <p:nvGrpSpPr>
              <p:cNvPr id="58" name="Шестиугольник 6"/>
              <p:cNvGrpSpPr/>
              <p:nvPr/>
            </p:nvGrpSpPr>
            <p:grpSpPr>
              <a:xfrm>
                <a:off x="7590600" y="5413680"/>
                <a:ext cx="1146960" cy="909000"/>
                <a:chOff x="7590600" y="5413680"/>
                <a:chExt cx="1146960" cy="909000"/>
              </a:xfrm>
            </p:grpSpPr>
            <p:pic>
              <p:nvPicPr>
                <p:cNvPr id="59" name="Шестиугольник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590600" y="5413680"/>
                  <a:ext cx="1146960" cy="90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0" name=""/>
                <p:cNvSpPr/>
                <p:nvPr/>
              </p:nvSpPr>
              <p:spPr>
                <a:xfrm>
                  <a:off x="7796880" y="5561280"/>
                  <a:ext cx="736560" cy="5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1" name="Равнобедренный треугольник 4"/>
              <p:cNvSpPr/>
              <p:nvPr/>
            </p:nvSpPr>
            <p:spPr>
              <a:xfrm rot="1866600">
                <a:off x="7265160" y="5613120"/>
                <a:ext cx="972720" cy="6667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dafda7"/>
                  </a:gs>
                  <a:gs pos="100000">
                    <a:srgbClr val="f5ffe6"/>
                  </a:gs>
                </a:gsLst>
                <a:lin ang="14334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" name="Овал 5"/>
              <p:cNvSpPr/>
              <p:nvPr/>
            </p:nvSpPr>
            <p:spPr>
              <a:xfrm>
                <a:off x="7818120" y="5901480"/>
                <a:ext cx="695520" cy="685080"/>
              </a:xfrm>
              <a:prstGeom prst="ellipse">
                <a:avLst/>
              </a:prstGeom>
              <a:gradFill rotWithShape="0">
                <a:gsLst>
                  <a:gs pos="0">
                    <a:srgbClr val="769535"/>
                  </a:gs>
                  <a:gs pos="100000">
                    <a:srgbClr val="9cc746"/>
                  </a:gs>
                </a:gsLst>
                <a:lin ang="16200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" name="Равнобедренный треугольник 13"/>
            <p:cNvSpPr/>
            <p:nvPr/>
          </p:nvSpPr>
          <p:spPr>
            <a:xfrm rot="4943400">
              <a:off x="100440" y="-255960"/>
              <a:ext cx="1255680" cy="1635120"/>
            </a:xfrm>
            <a:custGeom>
              <a:avLst/>
              <a:gdLst/>
              <a:ahLst/>
              <a:rect l="l" t="t" r="r" b="b"/>
              <a:pathLst>
                <a:path w="1254793" h="1635786">
                  <a:moveTo>
                    <a:pt x="40" y="1452700"/>
                  </a:moveTo>
                  <a:cubicBezTo>
                    <a:pt x="-1083" y="1434192"/>
                    <a:pt x="21288" y="1239824"/>
                    <a:pt x="20165" y="1221316"/>
                  </a:cubicBezTo>
                  <a:lnTo>
                    <a:pt x="193736" y="0"/>
                  </a:lnTo>
                  <a:cubicBezTo>
                    <a:pt x="381218" y="288422"/>
                    <a:pt x="336871" y="766177"/>
                    <a:pt x="524353" y="1054599"/>
                  </a:cubicBezTo>
                  <a:lnTo>
                    <a:pt x="1254793" y="1635786"/>
                  </a:lnTo>
                  <a:lnTo>
                    <a:pt x="40" y="1452700"/>
                  </a:lnTo>
                  <a:close/>
                </a:path>
              </a:pathLst>
            </a:cu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1256000"/>
            </a:gradFill>
            <a:ln w="9360">
              <a:solidFill>
                <a:srgbClr val="98b95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Равнобедренный треугольник 13"/>
            <p:cNvSpPr/>
            <p:nvPr/>
          </p:nvSpPr>
          <p:spPr>
            <a:xfrm flipH="1" flipV="1" rot="21152400">
              <a:off x="7789680" y="-96480"/>
              <a:ext cx="1414440" cy="1427040"/>
            </a:xfrm>
            <a:custGeom>
              <a:avLst/>
              <a:gdLst/>
              <a:ahLst/>
              <a:rect l="l" t="t" r="r" b="b"/>
              <a:pathLst>
                <a:path w="1274392" h="1713532">
                  <a:moveTo>
                    <a:pt x="40" y="1477451"/>
                  </a:moveTo>
                  <a:cubicBezTo>
                    <a:pt x="-1083" y="1458943"/>
                    <a:pt x="21288" y="1264575"/>
                    <a:pt x="20165" y="1246067"/>
                  </a:cubicBezTo>
                  <a:lnTo>
                    <a:pt x="146560" y="0"/>
                  </a:lnTo>
                  <a:cubicBezTo>
                    <a:pt x="334042" y="288422"/>
                    <a:pt x="336871" y="790928"/>
                    <a:pt x="524353" y="1079350"/>
                  </a:cubicBezTo>
                  <a:lnTo>
                    <a:pt x="1274392" y="1713532"/>
                  </a:lnTo>
                  <a:lnTo>
                    <a:pt x="40" y="1477451"/>
                  </a:lnTo>
                  <a:close/>
                </a:path>
              </a:pathLst>
            </a:cu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650000"/>
            </a:gradFill>
            <a:ln w="9360">
              <a:solidFill>
                <a:srgbClr val="98b95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" name="TextBox 7"/>
          <p:cNvSpPr/>
          <p:nvPr/>
        </p:nvSpPr>
        <p:spPr>
          <a:xfrm>
            <a:off x="4187880" y="621648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0f03"/>
                </a:solidFill>
                <a:latin typeface="Calibri"/>
              </a:rPr>
              <a:t>Закаменс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Группа 11"/>
          <p:cNvGrpSpPr/>
          <p:nvPr/>
        </p:nvGrpSpPr>
        <p:grpSpPr>
          <a:xfrm>
            <a:off x="-49320" y="-46080"/>
            <a:ext cx="9242640" cy="6956640"/>
            <a:chOff x="-49320" y="-46080"/>
            <a:chExt cx="9242640" cy="6956640"/>
          </a:xfrm>
        </p:grpSpPr>
        <p:pic>
          <p:nvPicPr>
            <p:cNvPr id="67" name="Picture 2" descr=""/>
            <p:cNvPicPr/>
            <p:nvPr/>
          </p:nvPicPr>
          <p:blipFill>
            <a:blip r:embed="rId1"/>
            <a:stretch/>
          </p:blipFill>
          <p:spPr>
            <a:xfrm>
              <a:off x="-49320" y="-46080"/>
              <a:ext cx="9146880" cy="6956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" name="Группа 5"/>
            <p:cNvGrpSpPr/>
            <p:nvPr/>
          </p:nvGrpSpPr>
          <p:grpSpPr>
            <a:xfrm>
              <a:off x="7107480" y="5385600"/>
              <a:ext cx="1593360" cy="1279080"/>
              <a:chOff x="7107480" y="5385600"/>
              <a:chExt cx="1593360" cy="1279080"/>
            </a:xfrm>
          </p:grpSpPr>
          <p:grpSp>
            <p:nvGrpSpPr>
              <p:cNvPr id="69" name="Шестиугольник 8"/>
              <p:cNvGrpSpPr/>
              <p:nvPr/>
            </p:nvGrpSpPr>
            <p:grpSpPr>
              <a:xfrm>
                <a:off x="7518960" y="5445360"/>
                <a:ext cx="1181880" cy="974880"/>
                <a:chOff x="7518960" y="5445360"/>
                <a:chExt cx="1181880" cy="974880"/>
              </a:xfrm>
            </p:grpSpPr>
            <p:pic>
              <p:nvPicPr>
                <p:cNvPr id="70" name="Шестиугольник 8" descr=""/>
                <p:cNvPicPr/>
                <p:nvPr/>
              </p:nvPicPr>
              <p:blipFill>
                <a:blip r:embed="rId2"/>
                <a:stretch/>
              </p:blipFill>
              <p:spPr>
                <a:xfrm rot="21599400">
                  <a:off x="7518960" y="5445360"/>
                  <a:ext cx="1181880" cy="974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1" name=""/>
                <p:cNvSpPr/>
                <p:nvPr/>
              </p:nvSpPr>
              <p:spPr>
                <a:xfrm rot="582000">
                  <a:off x="7739640" y="5649840"/>
                  <a:ext cx="738720" cy="53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72" name="Равнобедренный треугольник 9"/>
              <p:cNvSpPr/>
              <p:nvPr/>
            </p:nvSpPr>
            <p:spPr>
              <a:xfrm rot="2449200">
                <a:off x="7195320" y="5626080"/>
                <a:ext cx="970920" cy="6307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dafda7"/>
                  </a:gs>
                  <a:gs pos="100000">
                    <a:srgbClr val="f5ffe6"/>
                  </a:gs>
                </a:gsLst>
                <a:lin ang="14334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" name="Овал 10"/>
              <p:cNvSpPr/>
              <p:nvPr/>
            </p:nvSpPr>
            <p:spPr>
              <a:xfrm rot="582600">
                <a:off x="7698600" y="5967000"/>
                <a:ext cx="692640" cy="643680"/>
              </a:xfrm>
              <a:prstGeom prst="ellipse">
                <a:avLst/>
              </a:prstGeom>
              <a:gradFill rotWithShape="0">
                <a:gsLst>
                  <a:gs pos="0">
                    <a:srgbClr val="769535"/>
                  </a:gs>
                  <a:gs pos="100000">
                    <a:srgbClr val="9cc746"/>
                  </a:gs>
                </a:gsLst>
                <a:lin ang="16200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4" name="Прямоугольник 3"/>
            <p:cNvGrpSpPr/>
            <p:nvPr/>
          </p:nvGrpSpPr>
          <p:grpSpPr>
            <a:xfrm>
              <a:off x="258480" y="5760"/>
              <a:ext cx="8934840" cy="1920240"/>
              <a:chOff x="258480" y="5760"/>
              <a:chExt cx="8934840" cy="1920240"/>
            </a:xfrm>
          </p:grpSpPr>
          <p:pic>
            <p:nvPicPr>
              <p:cNvPr id="75" name="Прямоугольник 3" descr=""/>
              <p:cNvPicPr/>
              <p:nvPr/>
            </p:nvPicPr>
            <p:blipFill>
              <a:blip r:embed="rId3"/>
              <a:stretch/>
            </p:blipFill>
            <p:spPr>
              <a:xfrm>
                <a:off x="258480" y="5760"/>
                <a:ext cx="8934840" cy="192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" name=""/>
              <p:cNvSpPr/>
              <p:nvPr/>
            </p:nvSpPr>
            <p:spPr>
              <a:xfrm>
                <a:off x="532800" y="260280"/>
                <a:ext cx="8383680" cy="136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400" spc="-1" strike="noStrike">
                    <a:solidFill>
                      <a:srgbClr val="4f6228"/>
                    </a:solidFill>
                    <a:latin typeface="Calibri"/>
                  </a:rPr>
                  <a:t>Ситуативная задача</a:t>
                </a:r>
                <a:endParaRPr b="0" lang="en-US" sz="4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7" name=""/>
          <p:cNvSpPr txBox="1"/>
          <p:nvPr/>
        </p:nvSpPr>
        <p:spPr>
          <a:xfrm>
            <a:off x="914400" y="3645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50f03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4"/>
          <a:stretch/>
        </p:blipFill>
        <p:spPr>
          <a:xfrm>
            <a:off x="1366920" y="1989000"/>
            <a:ext cx="623412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Группа 11"/>
          <p:cNvGrpSpPr/>
          <p:nvPr/>
        </p:nvGrpSpPr>
        <p:grpSpPr>
          <a:xfrm>
            <a:off x="-49320" y="-46080"/>
            <a:ext cx="9242640" cy="6957000"/>
            <a:chOff x="-49320" y="-46080"/>
            <a:chExt cx="9242640" cy="6957000"/>
          </a:xfrm>
        </p:grpSpPr>
        <p:pic>
          <p:nvPicPr>
            <p:cNvPr id="80" name="Picture 2" descr=""/>
            <p:cNvPicPr/>
            <p:nvPr/>
          </p:nvPicPr>
          <p:blipFill>
            <a:blip r:embed="rId1"/>
            <a:stretch/>
          </p:blipFill>
          <p:spPr>
            <a:xfrm>
              <a:off x="-49320" y="-24840"/>
              <a:ext cx="9242640" cy="6935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1" name="Группа 5"/>
            <p:cNvGrpSpPr/>
            <p:nvPr/>
          </p:nvGrpSpPr>
          <p:grpSpPr>
            <a:xfrm>
              <a:off x="7185600" y="5385240"/>
              <a:ext cx="1607040" cy="1281600"/>
              <a:chOff x="7185600" y="5385240"/>
              <a:chExt cx="1607040" cy="1281600"/>
            </a:xfrm>
          </p:grpSpPr>
          <p:grpSp>
            <p:nvGrpSpPr>
              <p:cNvPr id="82" name="Шестиугольник 8"/>
              <p:cNvGrpSpPr/>
              <p:nvPr/>
            </p:nvGrpSpPr>
            <p:grpSpPr>
              <a:xfrm>
                <a:off x="7598520" y="5450400"/>
                <a:ext cx="1194120" cy="971640"/>
                <a:chOff x="7598520" y="5450400"/>
                <a:chExt cx="1194120" cy="971640"/>
              </a:xfrm>
            </p:grpSpPr>
            <p:pic>
              <p:nvPicPr>
                <p:cNvPr id="83" name="Шестиугольник 8" descr=""/>
                <p:cNvPicPr/>
                <p:nvPr/>
              </p:nvPicPr>
              <p:blipFill>
                <a:blip r:embed="rId2"/>
                <a:stretch/>
              </p:blipFill>
              <p:spPr>
                <a:xfrm rot="21599400">
                  <a:off x="7598520" y="5450400"/>
                  <a:ext cx="1194120" cy="971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" name=""/>
                <p:cNvSpPr/>
                <p:nvPr/>
              </p:nvSpPr>
              <p:spPr>
                <a:xfrm rot="582000">
                  <a:off x="7821720" y="5653800"/>
                  <a:ext cx="746640" cy="53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5" name="Равнобедренный треугольник 9"/>
              <p:cNvSpPr/>
              <p:nvPr/>
            </p:nvSpPr>
            <p:spPr>
              <a:xfrm rot="2449200">
                <a:off x="7271280" y="5629320"/>
                <a:ext cx="981000" cy="62856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dafda7"/>
                  </a:gs>
                  <a:gs pos="100000">
                    <a:srgbClr val="f5ffe6"/>
                  </a:gs>
                </a:gsLst>
                <a:lin ang="14334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" name="Овал 10"/>
              <p:cNvSpPr/>
              <p:nvPr/>
            </p:nvSpPr>
            <p:spPr>
              <a:xfrm rot="582600">
                <a:off x="7780320" y="5970240"/>
                <a:ext cx="700200" cy="641880"/>
              </a:xfrm>
              <a:prstGeom prst="ellipse">
                <a:avLst/>
              </a:prstGeom>
              <a:gradFill rotWithShape="0">
                <a:gsLst>
                  <a:gs pos="0">
                    <a:srgbClr val="769535"/>
                  </a:gs>
                  <a:gs pos="100000">
                    <a:srgbClr val="9cc746"/>
                  </a:gs>
                </a:gsLst>
                <a:lin ang="16200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7" name="Прямоугольник 3"/>
            <p:cNvGrpSpPr/>
            <p:nvPr/>
          </p:nvGrpSpPr>
          <p:grpSpPr>
            <a:xfrm>
              <a:off x="54720" y="-46080"/>
              <a:ext cx="9034560" cy="3135960"/>
              <a:chOff x="54720" y="-46080"/>
              <a:chExt cx="9034560" cy="3135960"/>
            </a:xfrm>
          </p:grpSpPr>
          <p:pic>
            <p:nvPicPr>
              <p:cNvPr id="88" name="Прямоугольник 3" descr=""/>
              <p:cNvPicPr/>
              <p:nvPr/>
            </p:nvPicPr>
            <p:blipFill>
              <a:blip r:embed="rId3"/>
              <a:stretch/>
            </p:blipFill>
            <p:spPr>
              <a:xfrm>
                <a:off x="54720" y="-46080"/>
                <a:ext cx="9034560" cy="313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" name=""/>
              <p:cNvSpPr/>
              <p:nvPr/>
            </p:nvSpPr>
            <p:spPr>
              <a:xfrm>
                <a:off x="336240" y="280440"/>
                <a:ext cx="8471520" cy="251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600" spc="-1" strike="noStrike">
                    <a:solidFill>
                      <a:srgbClr val="4f6228"/>
                    </a:solidFill>
                    <a:latin typeface="Cambria"/>
                  </a:rPr>
                  <a:t>Переместите две спички так,  чтобы получилось четыре одинаковых  квадрата.</a:t>
                </a:r>
                <a:br>
                  <a:rPr sz="3600"/>
                </a:b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90" name=""/>
          <p:cNvSpPr txBox="1"/>
          <p:nvPr/>
        </p:nvSpPr>
        <p:spPr>
          <a:xfrm>
            <a:off x="914400" y="3645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50f03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4"/>
          <a:stretch/>
        </p:blipFill>
        <p:spPr>
          <a:xfrm>
            <a:off x="1908000" y="3035160"/>
            <a:ext cx="5121360" cy="28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Группа 11"/>
          <p:cNvGrpSpPr/>
          <p:nvPr/>
        </p:nvGrpSpPr>
        <p:grpSpPr>
          <a:xfrm>
            <a:off x="-49320" y="-46080"/>
            <a:ext cx="9242640" cy="6956640"/>
            <a:chOff x="-49320" y="-46080"/>
            <a:chExt cx="9242640" cy="6956640"/>
          </a:xfrm>
        </p:grpSpPr>
        <p:pic>
          <p:nvPicPr>
            <p:cNvPr id="93" name="Picture 2" descr=""/>
            <p:cNvPicPr/>
            <p:nvPr/>
          </p:nvPicPr>
          <p:blipFill>
            <a:blip r:embed="rId1"/>
            <a:stretch/>
          </p:blipFill>
          <p:spPr>
            <a:xfrm>
              <a:off x="-49320" y="-46080"/>
              <a:ext cx="9242640" cy="6956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4" name="Группа 5"/>
            <p:cNvGrpSpPr/>
            <p:nvPr/>
          </p:nvGrpSpPr>
          <p:grpSpPr>
            <a:xfrm>
              <a:off x="7184880" y="5381280"/>
              <a:ext cx="1607760" cy="1284120"/>
              <a:chOff x="7184880" y="5381280"/>
              <a:chExt cx="1607760" cy="1284120"/>
            </a:xfrm>
          </p:grpSpPr>
          <p:grpSp>
            <p:nvGrpSpPr>
              <p:cNvPr id="95" name="Шестиугольник 8"/>
              <p:cNvGrpSpPr/>
              <p:nvPr/>
            </p:nvGrpSpPr>
            <p:grpSpPr>
              <a:xfrm>
                <a:off x="7598520" y="5445720"/>
                <a:ext cx="1194120" cy="974880"/>
                <a:chOff x="7598520" y="5445720"/>
                <a:chExt cx="1194120" cy="974880"/>
              </a:xfrm>
            </p:grpSpPr>
            <p:pic>
              <p:nvPicPr>
                <p:cNvPr id="96" name="Шестиугольник 8" descr=""/>
                <p:cNvPicPr/>
                <p:nvPr/>
              </p:nvPicPr>
              <p:blipFill>
                <a:blip r:embed="rId2"/>
                <a:stretch/>
              </p:blipFill>
              <p:spPr>
                <a:xfrm rot="21599400">
                  <a:off x="7598520" y="5445720"/>
                  <a:ext cx="1194120" cy="974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" name=""/>
                <p:cNvSpPr/>
                <p:nvPr/>
              </p:nvSpPr>
              <p:spPr>
                <a:xfrm rot="582000">
                  <a:off x="7821360" y="5649840"/>
                  <a:ext cx="746640" cy="53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98" name="Равнобедренный треугольник 9"/>
              <p:cNvSpPr/>
              <p:nvPr/>
            </p:nvSpPr>
            <p:spPr>
              <a:xfrm rot="2449200">
                <a:off x="7271280" y="5625000"/>
                <a:ext cx="981000" cy="6307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dafda7"/>
                  </a:gs>
                  <a:gs pos="100000">
                    <a:srgbClr val="f5ffe6"/>
                  </a:gs>
                </a:gsLst>
                <a:lin ang="14334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Овал 10"/>
              <p:cNvSpPr/>
              <p:nvPr/>
            </p:nvSpPr>
            <p:spPr>
              <a:xfrm rot="582600">
                <a:off x="7780320" y="5967360"/>
                <a:ext cx="700200" cy="643680"/>
              </a:xfrm>
              <a:prstGeom prst="ellipse">
                <a:avLst/>
              </a:prstGeom>
              <a:gradFill rotWithShape="0">
                <a:gsLst>
                  <a:gs pos="0">
                    <a:srgbClr val="769535"/>
                  </a:gs>
                  <a:gs pos="100000">
                    <a:srgbClr val="9cc746"/>
                  </a:gs>
                </a:gsLst>
                <a:lin ang="16200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0" name="Прямоугольник 3"/>
            <p:cNvGrpSpPr/>
            <p:nvPr/>
          </p:nvGrpSpPr>
          <p:grpSpPr>
            <a:xfrm>
              <a:off x="54720" y="5760"/>
              <a:ext cx="9034560" cy="1706760"/>
              <a:chOff x="54720" y="5760"/>
              <a:chExt cx="9034560" cy="1706760"/>
            </a:xfrm>
          </p:grpSpPr>
          <p:pic>
            <p:nvPicPr>
              <p:cNvPr id="101" name="Прямоугольник 3" descr=""/>
              <p:cNvPicPr/>
              <p:nvPr/>
            </p:nvPicPr>
            <p:blipFill>
              <a:blip r:embed="rId3"/>
              <a:stretch/>
            </p:blipFill>
            <p:spPr>
              <a:xfrm>
                <a:off x="54720" y="5760"/>
                <a:ext cx="9034560" cy="170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"/>
              <p:cNvSpPr/>
              <p:nvPr/>
            </p:nvSpPr>
            <p:spPr>
              <a:xfrm>
                <a:off x="336240" y="260280"/>
                <a:ext cx="8471520" cy="115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03" name="Picture 2" descr=""/>
          <p:cNvPicPr/>
          <p:nvPr/>
        </p:nvPicPr>
        <p:blipFill>
          <a:blip r:embed="rId4"/>
          <a:stretch/>
        </p:blipFill>
        <p:spPr>
          <a:xfrm>
            <a:off x="336600" y="836640"/>
            <a:ext cx="5121360" cy="2828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5"/>
          <a:stretch/>
        </p:blipFill>
        <p:spPr>
          <a:xfrm>
            <a:off x="4067280" y="3741840"/>
            <a:ext cx="462096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Группа 11"/>
          <p:cNvGrpSpPr/>
          <p:nvPr/>
        </p:nvGrpSpPr>
        <p:grpSpPr>
          <a:xfrm>
            <a:off x="-49320" y="-46080"/>
            <a:ext cx="9242640" cy="6956640"/>
            <a:chOff x="-49320" y="-46080"/>
            <a:chExt cx="9242640" cy="6956640"/>
          </a:xfrm>
        </p:grpSpPr>
        <p:pic>
          <p:nvPicPr>
            <p:cNvPr id="106" name="Picture 2" descr=""/>
            <p:cNvPicPr/>
            <p:nvPr/>
          </p:nvPicPr>
          <p:blipFill>
            <a:blip r:embed="rId1"/>
            <a:stretch/>
          </p:blipFill>
          <p:spPr>
            <a:xfrm>
              <a:off x="-49320" y="-46080"/>
              <a:ext cx="9242640" cy="6956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7" name="Группа 5"/>
            <p:cNvGrpSpPr/>
            <p:nvPr/>
          </p:nvGrpSpPr>
          <p:grpSpPr>
            <a:xfrm>
              <a:off x="7184880" y="5381280"/>
              <a:ext cx="1607760" cy="1284120"/>
              <a:chOff x="7184880" y="5381280"/>
              <a:chExt cx="1607760" cy="1284120"/>
            </a:xfrm>
          </p:grpSpPr>
          <p:grpSp>
            <p:nvGrpSpPr>
              <p:cNvPr id="108" name="Шестиугольник 8"/>
              <p:cNvGrpSpPr/>
              <p:nvPr/>
            </p:nvGrpSpPr>
            <p:grpSpPr>
              <a:xfrm>
                <a:off x="7598520" y="5445720"/>
                <a:ext cx="1194120" cy="974880"/>
                <a:chOff x="7598520" y="5445720"/>
                <a:chExt cx="1194120" cy="974880"/>
              </a:xfrm>
            </p:grpSpPr>
            <p:pic>
              <p:nvPicPr>
                <p:cNvPr id="109" name="Шестиугольник 8" descr=""/>
                <p:cNvPicPr/>
                <p:nvPr/>
              </p:nvPicPr>
              <p:blipFill>
                <a:blip r:embed="rId2"/>
                <a:stretch/>
              </p:blipFill>
              <p:spPr>
                <a:xfrm rot="21599400">
                  <a:off x="7598520" y="5445720"/>
                  <a:ext cx="1194120" cy="974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" name=""/>
                <p:cNvSpPr/>
                <p:nvPr/>
              </p:nvSpPr>
              <p:spPr>
                <a:xfrm rot="582000">
                  <a:off x="7821360" y="5649840"/>
                  <a:ext cx="746640" cy="53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11" name="Равнобедренный треугольник 9"/>
              <p:cNvSpPr/>
              <p:nvPr/>
            </p:nvSpPr>
            <p:spPr>
              <a:xfrm rot="2449200">
                <a:off x="7271280" y="5625000"/>
                <a:ext cx="981000" cy="6307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dafda7"/>
                  </a:gs>
                  <a:gs pos="100000">
                    <a:srgbClr val="f5ffe6"/>
                  </a:gs>
                </a:gsLst>
                <a:lin ang="14334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" name="Овал 10"/>
              <p:cNvSpPr/>
              <p:nvPr/>
            </p:nvSpPr>
            <p:spPr>
              <a:xfrm rot="582600">
                <a:off x="7780320" y="5967360"/>
                <a:ext cx="700200" cy="643680"/>
              </a:xfrm>
              <a:prstGeom prst="ellipse">
                <a:avLst/>
              </a:prstGeom>
              <a:gradFill rotWithShape="0">
                <a:gsLst>
                  <a:gs pos="0">
                    <a:srgbClr val="769535"/>
                  </a:gs>
                  <a:gs pos="100000">
                    <a:srgbClr val="9cc746"/>
                  </a:gs>
                </a:gsLst>
                <a:lin ang="16200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3" name="Прямоугольник 3"/>
            <p:cNvGrpSpPr/>
            <p:nvPr/>
          </p:nvGrpSpPr>
          <p:grpSpPr>
            <a:xfrm>
              <a:off x="54720" y="5760"/>
              <a:ext cx="9034560" cy="1706760"/>
              <a:chOff x="54720" y="5760"/>
              <a:chExt cx="9034560" cy="1706760"/>
            </a:xfrm>
          </p:grpSpPr>
          <p:pic>
            <p:nvPicPr>
              <p:cNvPr id="114" name="Прямоугольник 3" descr=""/>
              <p:cNvPicPr/>
              <p:nvPr/>
            </p:nvPicPr>
            <p:blipFill>
              <a:blip r:embed="rId3"/>
              <a:stretch/>
            </p:blipFill>
            <p:spPr>
              <a:xfrm>
                <a:off x="54720" y="5760"/>
                <a:ext cx="9034560" cy="170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" name=""/>
              <p:cNvSpPr/>
              <p:nvPr/>
            </p:nvSpPr>
            <p:spPr>
              <a:xfrm>
                <a:off x="336240" y="260280"/>
                <a:ext cx="8471520" cy="115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16" name="Picture 2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Группа 11"/>
          <p:cNvGrpSpPr/>
          <p:nvPr/>
        </p:nvGrpSpPr>
        <p:grpSpPr>
          <a:xfrm>
            <a:off x="-49320" y="-46080"/>
            <a:ext cx="9242640" cy="6956640"/>
            <a:chOff x="-49320" y="-46080"/>
            <a:chExt cx="9242640" cy="6956640"/>
          </a:xfrm>
        </p:grpSpPr>
        <p:pic>
          <p:nvPicPr>
            <p:cNvPr id="118" name="Picture 2" descr=""/>
            <p:cNvPicPr/>
            <p:nvPr/>
          </p:nvPicPr>
          <p:blipFill>
            <a:blip r:embed="rId1"/>
            <a:stretch/>
          </p:blipFill>
          <p:spPr>
            <a:xfrm>
              <a:off x="-49320" y="-46080"/>
              <a:ext cx="9242640" cy="6956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9" name="Группа 5"/>
            <p:cNvGrpSpPr/>
            <p:nvPr/>
          </p:nvGrpSpPr>
          <p:grpSpPr>
            <a:xfrm>
              <a:off x="7184880" y="5381280"/>
              <a:ext cx="1607760" cy="1284120"/>
              <a:chOff x="7184880" y="5381280"/>
              <a:chExt cx="1607760" cy="1284120"/>
            </a:xfrm>
          </p:grpSpPr>
          <p:grpSp>
            <p:nvGrpSpPr>
              <p:cNvPr id="120" name="Шестиугольник 8"/>
              <p:cNvGrpSpPr/>
              <p:nvPr/>
            </p:nvGrpSpPr>
            <p:grpSpPr>
              <a:xfrm>
                <a:off x="7598520" y="5445720"/>
                <a:ext cx="1194120" cy="974880"/>
                <a:chOff x="7598520" y="5445720"/>
                <a:chExt cx="1194120" cy="974880"/>
              </a:xfrm>
            </p:grpSpPr>
            <p:pic>
              <p:nvPicPr>
                <p:cNvPr id="121" name="Шестиугольник 8" descr=""/>
                <p:cNvPicPr/>
                <p:nvPr/>
              </p:nvPicPr>
              <p:blipFill>
                <a:blip r:embed="rId2"/>
                <a:stretch/>
              </p:blipFill>
              <p:spPr>
                <a:xfrm rot="21599400">
                  <a:off x="7598520" y="5445720"/>
                  <a:ext cx="1194120" cy="974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" name=""/>
                <p:cNvSpPr/>
                <p:nvPr/>
              </p:nvSpPr>
              <p:spPr>
                <a:xfrm rot="582000">
                  <a:off x="7821360" y="5649840"/>
                  <a:ext cx="746640" cy="53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23" name="Равнобедренный треугольник 9"/>
              <p:cNvSpPr/>
              <p:nvPr/>
            </p:nvSpPr>
            <p:spPr>
              <a:xfrm rot="2449200">
                <a:off x="7271280" y="5625000"/>
                <a:ext cx="981000" cy="6307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dafda7"/>
                  </a:gs>
                  <a:gs pos="100000">
                    <a:srgbClr val="f5ffe6"/>
                  </a:gs>
                </a:gsLst>
                <a:lin ang="14334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" name="Овал 10"/>
              <p:cNvSpPr/>
              <p:nvPr/>
            </p:nvSpPr>
            <p:spPr>
              <a:xfrm rot="582600">
                <a:off x="7780320" y="5967360"/>
                <a:ext cx="700200" cy="643680"/>
              </a:xfrm>
              <a:prstGeom prst="ellipse">
                <a:avLst/>
              </a:prstGeom>
              <a:gradFill rotWithShape="0">
                <a:gsLst>
                  <a:gs pos="0">
                    <a:srgbClr val="769535"/>
                  </a:gs>
                  <a:gs pos="100000">
                    <a:srgbClr val="9cc746"/>
                  </a:gs>
                </a:gsLst>
                <a:lin ang="16200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5" name="Прямоугольник 3"/>
            <p:cNvGrpSpPr/>
            <p:nvPr/>
          </p:nvGrpSpPr>
          <p:grpSpPr>
            <a:xfrm>
              <a:off x="54720" y="5760"/>
              <a:ext cx="9034560" cy="1706760"/>
              <a:chOff x="54720" y="5760"/>
              <a:chExt cx="9034560" cy="1706760"/>
            </a:xfrm>
          </p:grpSpPr>
          <p:pic>
            <p:nvPicPr>
              <p:cNvPr id="126" name="Прямоугольник 3" descr=""/>
              <p:cNvPicPr/>
              <p:nvPr/>
            </p:nvPicPr>
            <p:blipFill>
              <a:blip r:embed="rId3"/>
              <a:stretch/>
            </p:blipFill>
            <p:spPr>
              <a:xfrm>
                <a:off x="54720" y="5760"/>
                <a:ext cx="9034560" cy="170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" name=""/>
              <p:cNvSpPr/>
              <p:nvPr/>
            </p:nvSpPr>
            <p:spPr>
              <a:xfrm>
                <a:off x="336240" y="260280"/>
                <a:ext cx="8471520" cy="115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400" spc="-1" strike="noStrike">
                    <a:solidFill>
                      <a:srgbClr val="4f6228"/>
                    </a:solidFill>
                    <a:latin typeface="Cambria"/>
                  </a:rPr>
                  <a:t>Задание №2.</a:t>
                </a:r>
                <a:endParaRPr b="0" lang="en-US" sz="4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50f03"/>
                </a:solidFill>
                <a:latin typeface="Arial"/>
                <a:ea typeface="Arial"/>
              </a:rPr>
              <a:t>Попробуйте составить из 13 спичек целый метр. Если что, длина одной спички 45м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4"/>
          <a:stretch/>
        </p:blipFill>
        <p:spPr>
          <a:xfrm>
            <a:off x="2035080" y="2662200"/>
            <a:ext cx="514368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Группа 11"/>
          <p:cNvGrpSpPr/>
          <p:nvPr/>
        </p:nvGrpSpPr>
        <p:grpSpPr>
          <a:xfrm>
            <a:off x="-49320" y="-46080"/>
            <a:ext cx="9242640" cy="6956640"/>
            <a:chOff x="-49320" y="-46080"/>
            <a:chExt cx="9242640" cy="6956640"/>
          </a:xfrm>
        </p:grpSpPr>
        <p:pic>
          <p:nvPicPr>
            <p:cNvPr id="131" name="Picture 2" descr=""/>
            <p:cNvPicPr/>
            <p:nvPr/>
          </p:nvPicPr>
          <p:blipFill>
            <a:blip r:embed="rId1"/>
            <a:stretch/>
          </p:blipFill>
          <p:spPr>
            <a:xfrm>
              <a:off x="-49320" y="-46080"/>
              <a:ext cx="9242640" cy="6956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2" name="Группа 5"/>
            <p:cNvGrpSpPr/>
            <p:nvPr/>
          </p:nvGrpSpPr>
          <p:grpSpPr>
            <a:xfrm>
              <a:off x="7184880" y="5381280"/>
              <a:ext cx="1607760" cy="1284120"/>
              <a:chOff x="7184880" y="5381280"/>
              <a:chExt cx="1607760" cy="1284120"/>
            </a:xfrm>
          </p:grpSpPr>
          <p:grpSp>
            <p:nvGrpSpPr>
              <p:cNvPr id="133" name="Шестиугольник 8"/>
              <p:cNvGrpSpPr/>
              <p:nvPr/>
            </p:nvGrpSpPr>
            <p:grpSpPr>
              <a:xfrm>
                <a:off x="7598520" y="5445720"/>
                <a:ext cx="1194120" cy="974880"/>
                <a:chOff x="7598520" y="5445720"/>
                <a:chExt cx="1194120" cy="974880"/>
              </a:xfrm>
            </p:grpSpPr>
            <p:pic>
              <p:nvPicPr>
                <p:cNvPr id="134" name="Шестиугольник 8" descr=""/>
                <p:cNvPicPr/>
                <p:nvPr/>
              </p:nvPicPr>
              <p:blipFill>
                <a:blip r:embed="rId2"/>
                <a:stretch/>
              </p:blipFill>
              <p:spPr>
                <a:xfrm rot="21599400">
                  <a:off x="7598520" y="5445720"/>
                  <a:ext cx="1194120" cy="974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" name=""/>
                <p:cNvSpPr/>
                <p:nvPr/>
              </p:nvSpPr>
              <p:spPr>
                <a:xfrm rot="582000">
                  <a:off x="7821360" y="5649840"/>
                  <a:ext cx="746640" cy="53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36" name="Равнобедренный треугольник 9"/>
              <p:cNvSpPr/>
              <p:nvPr/>
            </p:nvSpPr>
            <p:spPr>
              <a:xfrm rot="2449200">
                <a:off x="7271280" y="5625000"/>
                <a:ext cx="981000" cy="6307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dafda7"/>
                  </a:gs>
                  <a:gs pos="100000">
                    <a:srgbClr val="f5ffe6"/>
                  </a:gs>
                </a:gsLst>
                <a:lin ang="14334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" name="Овал 10"/>
              <p:cNvSpPr/>
              <p:nvPr/>
            </p:nvSpPr>
            <p:spPr>
              <a:xfrm rot="582600">
                <a:off x="7780320" y="5967360"/>
                <a:ext cx="700200" cy="643680"/>
              </a:xfrm>
              <a:prstGeom prst="ellipse">
                <a:avLst/>
              </a:prstGeom>
              <a:gradFill rotWithShape="0">
                <a:gsLst>
                  <a:gs pos="0">
                    <a:srgbClr val="769535"/>
                  </a:gs>
                  <a:gs pos="100000">
                    <a:srgbClr val="9cc746"/>
                  </a:gs>
                </a:gsLst>
                <a:lin ang="16200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8" name="Прямоугольник 3"/>
            <p:cNvGrpSpPr/>
            <p:nvPr/>
          </p:nvGrpSpPr>
          <p:grpSpPr>
            <a:xfrm>
              <a:off x="54720" y="5760"/>
              <a:ext cx="9034560" cy="1706760"/>
              <a:chOff x="54720" y="5760"/>
              <a:chExt cx="9034560" cy="1706760"/>
            </a:xfrm>
          </p:grpSpPr>
          <p:pic>
            <p:nvPicPr>
              <p:cNvPr id="139" name="Прямоугольник 3" descr=""/>
              <p:cNvPicPr/>
              <p:nvPr/>
            </p:nvPicPr>
            <p:blipFill>
              <a:blip r:embed="rId3"/>
              <a:stretch/>
            </p:blipFill>
            <p:spPr>
              <a:xfrm>
                <a:off x="54720" y="5760"/>
                <a:ext cx="9034560" cy="170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"/>
              <p:cNvSpPr/>
              <p:nvPr/>
            </p:nvSpPr>
            <p:spPr>
              <a:xfrm>
                <a:off x="336240" y="260280"/>
                <a:ext cx="8471520" cy="115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f6228"/>
              </a:buClr>
              <a:buFont typeface="Arial"/>
              <a:buChar char="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4"/>
          <a:srcRect l="4813" t="30252" r="3874" b="29748"/>
          <a:stretch/>
        </p:blipFill>
        <p:spPr>
          <a:xfrm>
            <a:off x="1817640" y="2525760"/>
            <a:ext cx="55659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Группа 11"/>
          <p:cNvGrpSpPr/>
          <p:nvPr/>
        </p:nvGrpSpPr>
        <p:grpSpPr>
          <a:xfrm>
            <a:off x="-49320" y="-46080"/>
            <a:ext cx="9242640" cy="6956640"/>
            <a:chOff x="-49320" y="-46080"/>
            <a:chExt cx="9242640" cy="6956640"/>
          </a:xfrm>
        </p:grpSpPr>
        <p:pic>
          <p:nvPicPr>
            <p:cNvPr id="144" name="Picture 2" descr=""/>
            <p:cNvPicPr/>
            <p:nvPr/>
          </p:nvPicPr>
          <p:blipFill>
            <a:blip r:embed="rId1"/>
            <a:stretch/>
          </p:blipFill>
          <p:spPr>
            <a:xfrm>
              <a:off x="-49320" y="-46080"/>
              <a:ext cx="9242640" cy="6956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5" name="Группа 5"/>
            <p:cNvGrpSpPr/>
            <p:nvPr/>
          </p:nvGrpSpPr>
          <p:grpSpPr>
            <a:xfrm>
              <a:off x="7184880" y="5381280"/>
              <a:ext cx="1607760" cy="1284120"/>
              <a:chOff x="7184880" y="5381280"/>
              <a:chExt cx="1607760" cy="1284120"/>
            </a:xfrm>
          </p:grpSpPr>
          <p:grpSp>
            <p:nvGrpSpPr>
              <p:cNvPr id="146" name="Шестиугольник 8"/>
              <p:cNvGrpSpPr/>
              <p:nvPr/>
            </p:nvGrpSpPr>
            <p:grpSpPr>
              <a:xfrm>
                <a:off x="7598520" y="5445720"/>
                <a:ext cx="1194120" cy="974880"/>
                <a:chOff x="7598520" y="5445720"/>
                <a:chExt cx="1194120" cy="974880"/>
              </a:xfrm>
            </p:grpSpPr>
            <p:pic>
              <p:nvPicPr>
                <p:cNvPr id="147" name="Шестиугольник 8" descr=""/>
                <p:cNvPicPr/>
                <p:nvPr/>
              </p:nvPicPr>
              <p:blipFill>
                <a:blip r:embed="rId2"/>
                <a:stretch/>
              </p:blipFill>
              <p:spPr>
                <a:xfrm rot="21599400">
                  <a:off x="7598520" y="5445720"/>
                  <a:ext cx="1194120" cy="974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" name=""/>
                <p:cNvSpPr/>
                <p:nvPr/>
              </p:nvSpPr>
              <p:spPr>
                <a:xfrm rot="582000">
                  <a:off x="7821360" y="5649840"/>
                  <a:ext cx="746640" cy="53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49" name="Равнобедренный треугольник 9"/>
              <p:cNvSpPr/>
              <p:nvPr/>
            </p:nvSpPr>
            <p:spPr>
              <a:xfrm rot="2449200">
                <a:off x="7271280" y="5625000"/>
                <a:ext cx="981000" cy="6307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dafda7"/>
                  </a:gs>
                  <a:gs pos="100000">
                    <a:srgbClr val="f5ffe6"/>
                  </a:gs>
                </a:gsLst>
                <a:lin ang="14334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" name="Овал 10"/>
              <p:cNvSpPr/>
              <p:nvPr/>
            </p:nvSpPr>
            <p:spPr>
              <a:xfrm rot="582600">
                <a:off x="7780320" y="5967360"/>
                <a:ext cx="700200" cy="643680"/>
              </a:xfrm>
              <a:prstGeom prst="ellipse">
                <a:avLst/>
              </a:prstGeom>
              <a:gradFill rotWithShape="0">
                <a:gsLst>
                  <a:gs pos="0">
                    <a:srgbClr val="769535"/>
                  </a:gs>
                  <a:gs pos="100000">
                    <a:srgbClr val="9cc746"/>
                  </a:gs>
                </a:gsLst>
                <a:lin ang="16200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1" name="Прямоугольник 3"/>
            <p:cNvGrpSpPr/>
            <p:nvPr/>
          </p:nvGrpSpPr>
          <p:grpSpPr>
            <a:xfrm>
              <a:off x="54720" y="5760"/>
              <a:ext cx="9034560" cy="1706760"/>
              <a:chOff x="54720" y="5760"/>
              <a:chExt cx="9034560" cy="1706760"/>
            </a:xfrm>
          </p:grpSpPr>
          <p:pic>
            <p:nvPicPr>
              <p:cNvPr id="152" name="Прямоугольник 3" descr=""/>
              <p:cNvPicPr/>
              <p:nvPr/>
            </p:nvPicPr>
            <p:blipFill>
              <a:blip r:embed="rId3"/>
              <a:stretch/>
            </p:blipFill>
            <p:spPr>
              <a:xfrm>
                <a:off x="54720" y="5760"/>
                <a:ext cx="9034560" cy="170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" name=""/>
              <p:cNvSpPr/>
              <p:nvPr/>
            </p:nvSpPr>
            <p:spPr>
              <a:xfrm>
                <a:off x="336240" y="260280"/>
                <a:ext cx="8471520" cy="115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54" name="Picture 2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2T17:06:19Z</dcterms:created>
  <dc:creator>User</dc:creator>
  <dc:description/>
  <dc:language>en-US</dc:language>
  <cp:lastModifiedBy>ДОМ</cp:lastModifiedBy>
  <cp:lastPrinted>2016-03-16T16:58:30Z</cp:lastPrinted>
  <dcterms:modified xsi:type="dcterms:W3CDTF">2016-03-16T17:07:02Z</dcterms:modified>
  <cp:revision>15</cp:revision>
  <dc:subject/>
  <dc:title>Презентация PowerPoint</dc:title>
</cp:coreProperties>
</file>