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408-BF91-435B-BA09-29608074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723D-FCD4-407B-8DF1-9C26C27D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A91-2A13-49CA-8C86-161F5467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0C9B-6EEE-4ACF-BE7D-AE8E8AA9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F4A-077D-49DE-8637-BC839932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D3D4-94A0-41BA-AB95-D34B4E4D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D3C-C015-4496-BC94-8A716BFD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729A-7348-4756-8C9F-EFC43D7F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3492-7FEB-4B34-86A4-AEB87BB0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039-216A-45DC-A7F3-4C77EA1D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20F-E798-44DA-824C-11E3A91E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5FE-008E-4589-9C7C-F7DB6AB7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9BB4-6559-4915-9BEA-AA9ECCADE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russianfood.com/recipes/recipe.php?rid=119980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s://www.russianfood.com/recipes/recipe.php?rid=119980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russianfood.com/recipes/recipe.php?rid=133412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s://www.russianfood.com/recipes/recipe.php?rid=133412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russianfood.com/recipes/recipe.php?rid=164169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s://www.russianfood.com/recipes/recipe.php?rid=164169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s://www.russianfood.com/recipes/recipe.php?rid=125562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russianfood.com/recipes/recipe.php?rid=121216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s://www.russianfood.com/recipes/recipe.php?rid=121216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russianfood.com/recipes/recipe.php?rid=120170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s://www.russianfood.com/recipes/recipe.php?rid=120170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russianfood.com/recipes/recipe.php?rid=70190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s://www.russianfood.com/recipes/recipe.php?rid=70190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077320" cy="30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крытый урок теоретического обучен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тему: «Технология приготовления холодных напитков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компоты, смузи, лимонады)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441936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Arial"/>
                <a:ea typeface="Microsoft YaHei UI Light"/>
              </a:rPr>
              <a:t>                    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  <a:ea typeface="Microsoft YaHei UI Light"/>
              </a:rPr>
              <a:t>В.И.Шестернён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  <a:ea typeface="Microsoft YaHei UI Light"/>
              </a:rPr>
              <a:t>Мастер производственного обу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  <a:ea typeface="Microsoft YaHei UI Light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  <a:ea typeface="Microsoft YaHei UI Light"/>
              </a:rPr>
              <a:t>ФКП ОУ №79, филиал №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8391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4" descr="Фото к рецепту: Компот фруктовы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00320" y="762120"/>
            <a:ext cx="2333520" cy="25905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762120" y="396252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Компот фрукт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адкий ароматный напи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ива, нектарин, яблоко, виноград, сахар,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Фото к рецепту: Коктейль для иммунитет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304920"/>
            <a:ext cx="274320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1295280" y="3200400"/>
            <a:ext cx="6705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Коктейль для иммуни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ток с имбирем, лимоном и гранатом. Для иммунитета и настроения:) Витаминная бомб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мон, корень имбиря, гранат, сахар, мята свежая, корица, гвозд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Фото к рецепту: Компот из клюквы и ябло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5040" y="838080"/>
            <a:ext cx="3695760" cy="2400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88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ts val="29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омпот из клюквы и яб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юква может быть не только в сахаре, но и в компоте. Этот пряный, согревающий компот из яблок, клюквы и имбиря сохраняет много полезных веществ, так как процесс термической обработки занимает всего около пяти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блоко, клюква, корень имбиря, сахар, в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Фото к рецепту: Узвар с пряностям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57600" y="914400"/>
            <a:ext cx="2209680" cy="25909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5"/>
          <p:cNvSpPr/>
          <p:nvPr/>
        </p:nvSpPr>
        <p:spPr>
          <a:xfrm>
            <a:off x="685800" y="3774960"/>
            <a:ext cx="76201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звар с пряност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авьте в узвар (компот из сухофруктов) немного пряностей - получится замечательный вкус и арома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хофрукты, корень имбиря, бадьян, гвоздика, перец душистый, мё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Фото к рецепту: Яблочный сок на зиму (без сахара)"/>
          <p:cNvPicPr/>
          <p:nvPr/>
        </p:nvPicPr>
        <p:blipFill>
          <a:blip r:embed="rId2"/>
          <a:stretch/>
        </p:blipFill>
        <p:spPr>
          <a:xfrm>
            <a:off x="2666880" y="281160"/>
            <a:ext cx="3505320" cy="22334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457200" y="2625840"/>
            <a:ext cx="81532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Яблочный сок на зиму (без саха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есный ответ на вопрос, как заготовить яблочный сок на зиму без соковыжималки и соковарки. Яблочный сок по этому рецепту готовится очень просто, всего из двух ингредиентов и без сахара. Такой консервированный яблочный сок получается более насыщенным и густым, чем привычный сок из яблок, и очень похож на магазинные соки-нектары с мякотью, только намного вкуснее и не содержит сомнительных добавок. Прекрасный способ запастись ароматными яблочками впр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блоко, лимон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Объект 3" descr="Фото к рецепту: Лимонад с чёрной смородиной и мятой"/>
          <p:cNvPicPr/>
          <p:nvPr/>
        </p:nvPicPr>
        <p:blipFill>
          <a:blip r:embed="rId1"/>
          <a:stretch/>
        </p:blipFill>
        <p:spPr>
          <a:xfrm>
            <a:off x="2895480" y="633240"/>
            <a:ext cx="3200400" cy="21862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557280" y="3048120"/>
            <a:ext cx="80010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Лимонад с чёрной смородиной и мя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монад с чёрной смородиной и свежей мятой. Очень вкусный, полезный летний напиток, который отлично охлаждает в жаркую по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ородина, сахар, лимон, мята свежая,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Фото к рецепту: Клубника в собственном соку (заготовка на зиму)"/>
          <p:cNvPicPr/>
          <p:nvPr/>
        </p:nvPicPr>
        <p:blipFill>
          <a:blip r:embed="rId2"/>
          <a:stretch/>
        </p:blipFill>
        <p:spPr>
          <a:xfrm>
            <a:off x="2819520" y="457200"/>
            <a:ext cx="3009960" cy="254304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380880" y="3124080"/>
            <a:ext cx="815364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лубника в собственном соку (заготовка на зим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вная и любимая ягода начала лета – клубника. Заготовки из нее зимой подарят вам кусочек лета и позволят баловать домашних и гостей чаем и пирогами с этой ароматной яг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убника, сах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990720" y="3276720"/>
            <a:ext cx="48765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6" descr="hello_html_76478414.jpg"/>
          <p:cNvPicPr/>
          <p:nvPr/>
        </p:nvPicPr>
        <p:blipFill>
          <a:blip r:embed="rId1"/>
          <a:stretch/>
        </p:blipFill>
        <p:spPr>
          <a:xfrm>
            <a:off x="685800" y="457200"/>
            <a:ext cx="792324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6" descr="hello_html_m70900309.jpg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533520" y="190440"/>
            <a:ext cx="8076960" cy="6058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Рисунок 5" descr="hello_html_m66f5a4.jpg"/>
          <p:cNvPicPr/>
          <p:nvPr/>
        </p:nvPicPr>
        <p:blipFill>
          <a:blip r:embed="rId1"/>
          <a:stretch/>
        </p:blipFill>
        <p:spPr>
          <a:xfrm>
            <a:off x="522360" y="457200"/>
            <a:ext cx="807696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" name="Рисунок 4" descr="hello_html_3695472.jpg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6" descr="Фото к рецепту: Компот из смеси сухофрукт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533520"/>
            <a:ext cx="4343400" cy="30477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762120" y="357012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Компот из смеси сухофру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й вкусный компот получается из смеси сухофруктов. Ароматный и полезный. Мы всегда делаем такой на новый год и Рождество. Курага, чернослив, изюм, яблоки сушеные, сахар, лимон, малина мороженая, 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Фото к рецепту: Яблочный компо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685800"/>
            <a:ext cx="2571480" cy="28954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838080" y="3809880"/>
            <a:ext cx="73152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Яблочный комп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блоки в любом виде обожаю. А компот, мало того, что вкусный, так еще и полезный напиток, яблоко, вода, сах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Фото к рецепту: Компот из смородин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838080"/>
            <a:ext cx="3000240" cy="33912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343080" y="3352680"/>
            <a:ext cx="84960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Компот из смород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ы приготовить компот из смородины для детей, сохранив максимум витаминов, важно не подвергать ягоды длительной термической обработке. Предлагаем рецепт компота из смород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гредиенты: смородина чёрная, смородина красная, сахар,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4:43:13Z</dcterms:created>
  <dc:creator>Катенок</dc:creator>
  <dc:description/>
  <dc:language>en-US</dc:language>
  <cp:lastModifiedBy>Сварщики</cp:lastModifiedBy>
  <dcterms:modified xsi:type="dcterms:W3CDTF">2021-12-22T10:17:44Z</dcterms:modified>
  <cp:revision>148</cp:revision>
  <dc:subject/>
  <dc:title>При использовании шаблона ссылка на Pedsovet.su обязательна</dc:title>
</cp:coreProperties>
</file>