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C4F8F-86F2-4425-93B2-1DCA14C1A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C8479-04C7-4120-AF4F-AF8587EEE8A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63FB3-DCD3-47FA-B8E3-AEC31692347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.С. Атанасян.   Геометрия 7-9.      Гла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«Четырехугольники»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1. « Многоугольник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8FB43-2515-4614-955B-652FED22466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10417-BE79-413E-87E7-A5EE97CB22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.И. Звавич, Е.В. Потоскуев «Тестовые задания по геометри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62C15-C00F-4A7E-9DB0-9B8E8216EFB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86385-D6D5-449B-A742-1B8E40952B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.Ф. Гаврилова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69510-5833-49ED-988B-148CE6B8FEC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20BA2-A9CD-47D9-9D9E-1114754EB3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.Ф. Гаврилова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92078-D897-4DA4-9D8E-96430A846FF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35DC6-F282-43B4-A064-CE5B0C6C85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.Ф. Гаврилова «Поурочные разработки по геометрии: 8 клас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05716-1736-4065-9EA9-754D70127B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90680-90DF-4640-910B-B6EE666780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.Г. Зив, В.М. Мейлер «Дидактические материалы по геометрии для 8 класс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63191-0244-45CA-87FE-FFDA60C939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C580B-F137-4052-8EC4-3BF8E6610D6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.Г. Зив, В.М. Мейлер «Дидактические материалы по геометрии для 8 класс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58DF0-8FB4-4E4D-8EB1-023997653CF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D12AD-FB21-4330-A055-50FA0183421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BED23-FCE6-450C-A373-1CF8E26C1E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48165-76E4-40FF-A66C-D2C671385E0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A8F65-D815-4FD7-A013-8C75491A736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BC618-50F6-4A8B-87AC-B0A9C774534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82C5B-FFF9-4125-8A75-650D518E25F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EF6BA-14DF-4AA0-BD5E-BCAE4B907B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FB9D4-7133-45FD-93EF-F2BCD0013BE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EEB5B-0418-4497-BCFC-86C952A7F2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E4FBE-ABD9-4C73-97EA-1B6AFBCCADA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4B5D-E629-40F8-9201-3254C6FD3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808E-0C16-47E1-8BDE-970B46777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625E-69E7-4C24-AA47-582C95449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9A40-E5CD-4508-835D-1A63C94DC3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45FF-B230-4C94-AD64-AFD990F586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75BE-14AC-49C1-B3A4-ACEFDC560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28C0-D91F-4A29-9851-2592807EE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B4ED-3C6B-4A04-B33B-CF63540D3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16E2-49E3-4F90-A12D-9D3C2953B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0D0B-E53C-494A-B95B-65D9D9A99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62FF-888A-4AD2-813C-7E137F1F0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B375-EBD7-4E02-A1F0-C6C0292D7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86D809-FE31-438B-B926-4FE77F48188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266400" y="277920"/>
            <a:ext cx="8579880" cy="6195600"/>
            <a:chOff x="266400" y="277920"/>
            <a:chExt cx="8579880" cy="6195600"/>
          </a:xfrm>
        </p:grpSpPr>
        <p:sp>
          <p:nvSpPr>
            <p:cNvPr id="51" name="Freeform 2"/>
            <p:cNvSpPr/>
            <p:nvPr/>
          </p:nvSpPr>
          <p:spPr>
            <a:xfrm>
              <a:off x="706320" y="300240"/>
              <a:ext cx="771840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cap="sq"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3"/>
            <p:cNvSpPr/>
            <p:nvPr/>
          </p:nvSpPr>
          <p:spPr>
            <a:xfrm>
              <a:off x="744480" y="6463800"/>
              <a:ext cx="7692840" cy="36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cap="sq"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8808840" y="703440"/>
              <a:ext cx="360" cy="53272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cap="sq"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312840" y="703440"/>
              <a:ext cx="21960" cy="532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327280"/>
                <a:gd name="textAreaBottom" fmla="*/ 5327640 h 53272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cap="sq"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312840" y="6022440"/>
              <a:ext cx="428400" cy="451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cap="sq"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 flipH="1">
              <a:off x="8415360" y="6008400"/>
              <a:ext cx="428400" cy="450720"/>
            </a:xfrm>
            <a:custGeom>
              <a:avLst/>
              <a:gdLst>
                <a:gd name="textAreaLeft" fmla="*/ 360 w 428400"/>
                <a:gd name="textAreaRight" fmla="*/ 429120 w 42840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cap="sq"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 flipH="1" rot="16200000">
              <a:off x="8406000" y="263520"/>
              <a:ext cx="425520" cy="453960"/>
            </a:xfrm>
            <a:custGeom>
              <a:avLst/>
              <a:gdLst>
                <a:gd name="textAreaLeft" fmla="*/ 360 w 425520"/>
                <a:gd name="textAreaRight" fmla="*/ 426240 w 4255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cap="sq"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 rot="5400000">
              <a:off x="280440" y="263520"/>
              <a:ext cx="425520" cy="4539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cap="sq"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WordArt 10"/>
          <p:cNvSpPr txBox="1"/>
          <p:nvPr/>
        </p:nvSpPr>
        <p:spPr>
          <a:xfrm>
            <a:off x="2286000" y="303120"/>
            <a:ext cx="4876920" cy="19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1962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лощадь</a:t>
            </a:r>
            <a:endParaRPr b="1" lang="en-US" sz="1800" spc="1" strike="noStrike">
              <a:ln cap="sq"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11"/>
          <p:cNvSpPr txBox="1"/>
          <p:nvPr/>
        </p:nvSpPr>
        <p:spPr>
          <a:xfrm>
            <a:off x="2438280" y="2424240"/>
            <a:ext cx="449604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25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 8 класс</a:t>
            </a:r>
            <a:endParaRPr b="1" lang="en-US" sz="1800" spc="1" strike="noStrike">
              <a:ln cap="sq" w="25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12"/>
          <p:cNvSpPr txBox="1"/>
          <p:nvPr/>
        </p:nvSpPr>
        <p:spPr>
          <a:xfrm>
            <a:off x="457200" y="3030480"/>
            <a:ext cx="8153280" cy="21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6428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араллелограмма</a:t>
            </a:r>
            <a:endParaRPr b="1" lang="en-US" sz="1800" spc="1" strike="noStrike">
              <a:ln cap="sq"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7543800" y="37339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28600" y="533520"/>
            <a:ext cx="883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    Найдите периметр параллелограмма, если его высоты 3 и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6320" y="76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685800" y="1905120"/>
            <a:ext cx="5257800" cy="2361960"/>
          </a:xfrm>
          <a:prstGeom prst="parallelogram">
            <a:avLst>
              <a:gd name="adj" fmla="val 6736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06360" y="4114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83024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579276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Group 8"/>
          <p:cNvGrpSpPr/>
          <p:nvPr/>
        </p:nvGrpSpPr>
        <p:grpSpPr>
          <a:xfrm>
            <a:off x="2070000" y="1890720"/>
            <a:ext cx="437760" cy="2806560"/>
            <a:chOff x="2070000" y="1890720"/>
            <a:chExt cx="437760" cy="2806560"/>
          </a:xfrm>
        </p:grpSpPr>
        <p:grpSp>
          <p:nvGrpSpPr>
            <p:cNvPr id="242" name="Group 9"/>
            <p:cNvGrpSpPr/>
            <p:nvPr/>
          </p:nvGrpSpPr>
          <p:grpSpPr>
            <a:xfrm>
              <a:off x="2070000" y="1890720"/>
              <a:ext cx="225360" cy="2359080"/>
              <a:chOff x="2070000" y="1890720"/>
              <a:chExt cx="225360" cy="2359080"/>
            </a:xfrm>
          </p:grpSpPr>
          <p:sp>
            <p:nvSpPr>
              <p:cNvPr id="243" name="Line 10"/>
              <p:cNvSpPr/>
              <p:nvPr/>
            </p:nvSpPr>
            <p:spPr>
              <a:xfrm>
                <a:off x="2295360" y="1890720"/>
                <a:ext cx="0" cy="235908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1"/>
              <p:cNvSpPr/>
              <p:nvPr/>
            </p:nvSpPr>
            <p:spPr>
              <a:xfrm>
                <a:off x="2070000" y="4024440"/>
                <a:ext cx="222120" cy="2253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Text Box 12"/>
            <p:cNvSpPr/>
            <p:nvPr/>
          </p:nvSpPr>
          <p:spPr>
            <a:xfrm>
              <a:off x="2071080" y="4176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Group 13"/>
          <p:cNvGrpSpPr/>
          <p:nvPr/>
        </p:nvGrpSpPr>
        <p:grpSpPr>
          <a:xfrm>
            <a:off x="2286000" y="1905120"/>
            <a:ext cx="2854800" cy="2044440"/>
            <a:chOff x="2286000" y="1905120"/>
            <a:chExt cx="2854800" cy="2044440"/>
          </a:xfrm>
        </p:grpSpPr>
        <p:sp>
          <p:nvSpPr>
            <p:cNvPr id="247" name="Freeform 14"/>
            <p:cNvSpPr/>
            <p:nvPr/>
          </p:nvSpPr>
          <p:spPr>
            <a:xfrm>
              <a:off x="2286000" y="1905120"/>
              <a:ext cx="2522520" cy="1685880"/>
            </a:xfrm>
            <a:custGeom>
              <a:avLst/>
              <a:gdLst>
                <a:gd name="textAreaLeft" fmla="*/ 0 w 2522520"/>
                <a:gd name="textAreaRight" fmla="*/ 2522880 w 252252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cap="sq"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4604040" y="3230640"/>
              <a:ext cx="356760" cy="19692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16"/>
            <p:cNvSpPr/>
            <p:nvPr/>
          </p:nvSpPr>
          <p:spPr>
            <a:xfrm>
              <a:off x="4723920" y="342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Text Box 17"/>
          <p:cNvSpPr/>
          <p:nvPr/>
        </p:nvSpPr>
        <p:spPr>
          <a:xfrm>
            <a:off x="3596040" y="2424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8"/>
          <p:cNvSpPr/>
          <p:nvPr/>
        </p:nvSpPr>
        <p:spPr>
          <a:xfrm>
            <a:off x="723960" y="4278240"/>
            <a:ext cx="3632040" cy="403200"/>
          </a:xfrm>
          <a:custGeom>
            <a:avLst/>
            <a:gdLst>
              <a:gd name="textAreaLeft" fmla="*/ 0 w 3632040"/>
              <a:gd name="textAreaRight" fmla="*/ 3632400 w 36320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288" h="254">
                <a:moveTo>
                  <a:pt x="0" y="0"/>
                </a:moveTo>
                <a:cubicBezTo>
                  <a:pt x="171" y="41"/>
                  <a:pt x="643" y="244"/>
                  <a:pt x="1024" y="249"/>
                </a:cubicBezTo>
                <a:cubicBezTo>
                  <a:pt x="1405" y="254"/>
                  <a:pt x="2025" y="77"/>
                  <a:pt x="2288" y="32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6208560" y="2057400"/>
            <a:ext cx="244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* B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4357800" y="43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6629040" y="28954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D * 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6858000" y="37339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2300760" y="2881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6055920" y="4572000"/>
            <a:ext cx="244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* 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6478560" y="54100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*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6707520" y="6248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7392960" y="62485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2819520" y="152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816200" y="552924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 -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792 0.03333 -0.09583 0.06667 -0.19167 0.08889 C -0.2875 0.11111 -0.51111 0.12593 -0.575 0.13333 E">
                                      <p:cBhvr>
                                        <p:cTn id="36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 -6 L 1.11111 -6 L -0.22501 -0.43333 E">
                                      <p:cBhvr>
                                        <p:cTn id="39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reeform 1"/>
          <p:cNvSpPr/>
          <p:nvPr/>
        </p:nvSpPr>
        <p:spPr>
          <a:xfrm>
            <a:off x="533520" y="1905120"/>
            <a:ext cx="7315200" cy="2374920"/>
          </a:xfrm>
          <a:custGeom>
            <a:avLst/>
            <a:gdLst>
              <a:gd name="textAreaLeft" fmla="*/ 0 w 7315200"/>
              <a:gd name="textAreaRight" fmla="*/ 7315560 w 731520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4608" h="1496">
                <a:moveTo>
                  <a:pt x="0" y="1488"/>
                </a:moveTo>
                <a:lnTo>
                  <a:pt x="1592" y="8"/>
                </a:lnTo>
                <a:lnTo>
                  <a:pt x="4608" y="0"/>
                </a:lnTo>
                <a:lnTo>
                  <a:pt x="3264" y="1488"/>
                </a:lnTo>
                <a:lnTo>
                  <a:pt x="8" y="1496"/>
                </a:lnTo>
              </a:path>
            </a:pathLst>
          </a:custGeom>
          <a:blipFill rotWithShape="0">
            <a:blip r:embed="rId1"/>
            <a:srcRect/>
            <a:stretch/>
          </a:blip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76320" y="76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004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97324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792648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6"/>
          <p:cNvGrpSpPr/>
          <p:nvPr/>
        </p:nvGrpSpPr>
        <p:grpSpPr>
          <a:xfrm>
            <a:off x="2835360" y="1905120"/>
            <a:ext cx="437400" cy="2806560"/>
            <a:chOff x="2835360" y="1905120"/>
            <a:chExt cx="437400" cy="2806560"/>
          </a:xfrm>
        </p:grpSpPr>
        <p:grpSp>
          <p:nvGrpSpPr>
            <p:cNvPr id="269" name="Group 7"/>
            <p:cNvGrpSpPr/>
            <p:nvPr/>
          </p:nvGrpSpPr>
          <p:grpSpPr>
            <a:xfrm>
              <a:off x="2835360" y="1905120"/>
              <a:ext cx="225360" cy="2359080"/>
              <a:chOff x="2835360" y="1905120"/>
              <a:chExt cx="225360" cy="2359080"/>
            </a:xfrm>
          </p:grpSpPr>
          <p:sp>
            <p:nvSpPr>
              <p:cNvPr id="270" name="Line 8"/>
              <p:cNvSpPr/>
              <p:nvPr/>
            </p:nvSpPr>
            <p:spPr>
              <a:xfrm>
                <a:off x="3060720" y="1905120"/>
                <a:ext cx="0" cy="235908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9"/>
              <p:cNvSpPr/>
              <p:nvPr/>
            </p:nvSpPr>
            <p:spPr>
              <a:xfrm>
                <a:off x="2835360" y="4038480"/>
                <a:ext cx="222480" cy="2257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2" name="Text Box 10"/>
            <p:cNvSpPr/>
            <p:nvPr/>
          </p:nvSpPr>
          <p:spPr>
            <a:xfrm>
              <a:off x="2836080" y="4191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"/>
          <p:cNvSpPr/>
          <p:nvPr/>
        </p:nvSpPr>
        <p:spPr>
          <a:xfrm>
            <a:off x="556416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30499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769680" y="39625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752480" y="4038480"/>
            <a:ext cx="7632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4572000" y="4038480"/>
            <a:ext cx="7632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19520" y="152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30499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1221120" y="441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 -6 L -1.85185 -6 L -0.20001 0.23334 E">
                                      <p:cBhvr>
                                        <p:cTn id="412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4.07407 -6 L 0.3125 -0.0044 E">
                                      <p:cBhvr>
                                        <p:cTn id="41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1"/>
          <p:cNvSpPr/>
          <p:nvPr/>
        </p:nvSpPr>
        <p:spPr>
          <a:xfrm>
            <a:off x="1257480" y="2171880"/>
            <a:ext cx="6197400" cy="2108160"/>
          </a:xfrm>
          <a:custGeom>
            <a:avLst/>
            <a:gdLst>
              <a:gd name="textAreaLeft" fmla="*/ 0 w 6197400"/>
              <a:gd name="textAreaRight" fmla="*/ 6197760 w 6197400"/>
              <a:gd name="textAreaTop" fmla="*/ 0 h 2108160"/>
              <a:gd name="textAreaBottom" fmla="*/ 2108520 h 2108160"/>
            </a:gdLst>
            <a:ahLst/>
            <a:rect l="textAreaLeft" t="textAreaTop" r="textAreaRight" b="textAreaBottom"/>
            <a:pathLst>
              <a:path w="3904" h="1328">
                <a:moveTo>
                  <a:pt x="0" y="1328"/>
                </a:moveTo>
                <a:lnTo>
                  <a:pt x="960" y="16"/>
                </a:lnTo>
                <a:lnTo>
                  <a:pt x="3904" y="0"/>
                </a:lnTo>
                <a:lnTo>
                  <a:pt x="3056" y="1312"/>
                </a:lnTo>
                <a:lnTo>
                  <a:pt x="16" y="1328"/>
                </a:lnTo>
              </a:path>
            </a:pathLst>
          </a:custGeom>
          <a:blipFill rotWithShape="0">
            <a:blip r:embed="rId1"/>
            <a:srcRect/>
            <a:stretch/>
          </a:blip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76320" y="76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992160" y="426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516040" y="1676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545240" y="16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Freeform 6"/>
          <p:cNvSpPr/>
          <p:nvPr/>
        </p:nvSpPr>
        <p:spPr>
          <a:xfrm>
            <a:off x="2781360" y="2197080"/>
            <a:ext cx="3327480" cy="20322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032200"/>
              <a:gd name="textAreaBottom" fmla="*/ 2032560 h 2032200"/>
            </a:gdLst>
            <a:ahLst/>
            <a:rect l="textAreaLeft" t="textAreaTop" r="textAreaRight" b="textAreaBottom"/>
            <a:pathLst>
              <a:path w="2096" h="1280">
                <a:moveTo>
                  <a:pt x="2096" y="1280"/>
                </a:moveTo>
                <a:lnTo>
                  <a:pt x="0" y="0"/>
                </a:lnTo>
              </a:path>
            </a:pathLst>
          </a:custGeom>
          <a:noFill/>
          <a:ln cap="sq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2654280" y="2298600"/>
            <a:ext cx="355680" cy="203400"/>
          </a:xfrm>
          <a:custGeom>
            <a:avLst/>
            <a:gdLst>
              <a:gd name="textAreaLeft" fmla="*/ 0 w 355680"/>
              <a:gd name="textAreaRight" fmla="*/ 356040 w 3556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224" h="128">
                <a:moveTo>
                  <a:pt x="0" y="32"/>
                </a:moveTo>
                <a:lnTo>
                  <a:pt x="128" y="128"/>
                </a:lnTo>
                <a:lnTo>
                  <a:pt x="224" y="0"/>
                </a:ln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594504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4344840" y="274320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1352520" y="39369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3127320" y="41911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264280" y="38862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268280" y="268128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5749920" y="4876920"/>
            <a:ext cx="24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B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819520" y="152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76320" y="76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1206360" y="2376360"/>
            <a:ext cx="5257800" cy="2362320"/>
          </a:xfrm>
          <a:prstGeom prst="parallelogram">
            <a:avLst>
              <a:gd name="adj" fmla="val 6735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826920" y="4586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235116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332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6"/>
          <p:cNvGrpSpPr/>
          <p:nvPr/>
        </p:nvGrpSpPr>
        <p:grpSpPr>
          <a:xfrm>
            <a:off x="2590920" y="2362320"/>
            <a:ext cx="437400" cy="2806560"/>
            <a:chOff x="2590920" y="2362320"/>
            <a:chExt cx="437400" cy="2806560"/>
          </a:xfrm>
        </p:grpSpPr>
        <p:grpSp>
          <p:nvGrpSpPr>
            <p:cNvPr id="304" name="Group 7"/>
            <p:cNvGrpSpPr/>
            <p:nvPr/>
          </p:nvGrpSpPr>
          <p:grpSpPr>
            <a:xfrm>
              <a:off x="2590920" y="2362320"/>
              <a:ext cx="225360" cy="2359080"/>
              <a:chOff x="2590920" y="2362320"/>
              <a:chExt cx="225360" cy="2359080"/>
            </a:xfrm>
          </p:grpSpPr>
          <p:sp>
            <p:nvSpPr>
              <p:cNvPr id="305" name="Line 8"/>
              <p:cNvSpPr/>
              <p:nvPr/>
            </p:nvSpPr>
            <p:spPr>
              <a:xfrm>
                <a:off x="2816280" y="2362320"/>
                <a:ext cx="0" cy="235908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"/>
              <p:cNvSpPr/>
              <p:nvPr/>
            </p:nvSpPr>
            <p:spPr>
              <a:xfrm>
                <a:off x="2590920" y="4495680"/>
                <a:ext cx="222120" cy="22572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Text Box 10"/>
            <p:cNvSpPr/>
            <p:nvPr/>
          </p:nvSpPr>
          <p:spPr>
            <a:xfrm>
              <a:off x="2591640" y="4648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11"/>
          <p:cNvGrpSpPr/>
          <p:nvPr/>
        </p:nvGrpSpPr>
        <p:grpSpPr>
          <a:xfrm>
            <a:off x="2806560" y="2376360"/>
            <a:ext cx="2974680" cy="2044800"/>
            <a:chOff x="2806560" y="2376360"/>
            <a:chExt cx="2974680" cy="2044800"/>
          </a:xfrm>
        </p:grpSpPr>
        <p:sp>
          <p:nvSpPr>
            <p:cNvPr id="309" name="Freeform 12"/>
            <p:cNvSpPr/>
            <p:nvPr/>
          </p:nvSpPr>
          <p:spPr>
            <a:xfrm>
              <a:off x="2806560" y="2376360"/>
              <a:ext cx="2525760" cy="1685880"/>
            </a:xfrm>
            <a:custGeom>
              <a:avLst/>
              <a:gdLst>
                <a:gd name="textAreaLeft" fmla="*/ 0 w 2525760"/>
                <a:gd name="textAreaRight" fmla="*/ 2526120 w 252576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cap="sq"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3"/>
            <p:cNvSpPr/>
            <p:nvPr/>
          </p:nvSpPr>
          <p:spPr>
            <a:xfrm>
              <a:off x="5127480" y="3701880"/>
              <a:ext cx="357480" cy="19692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4"/>
            <p:cNvSpPr/>
            <p:nvPr/>
          </p:nvSpPr>
          <p:spPr>
            <a:xfrm>
              <a:off x="5245560" y="3900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Text Box 15"/>
          <p:cNvSpPr/>
          <p:nvPr/>
        </p:nvSpPr>
        <p:spPr>
          <a:xfrm>
            <a:off x="404064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6208560" y="1295280"/>
            <a:ext cx="24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D * B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4878360" y="48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2819520" y="152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1301760" y="43941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1754640" y="4648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2368080" y="2895480"/>
            <a:ext cx="5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1983240" y="44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1602000" y="3048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25"/>
          <p:cNvSpPr/>
          <p:nvPr/>
        </p:nvSpPr>
        <p:spPr>
          <a:xfrm>
            <a:off x="4952880" y="2362320"/>
            <a:ext cx="1524240" cy="236196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960" h="1488">
                <a:moveTo>
                  <a:pt x="960" y="0"/>
                </a:moveTo>
                <a:cubicBezTo>
                  <a:pt x="872" y="284"/>
                  <a:pt x="784" y="568"/>
                  <a:pt x="624" y="816"/>
                </a:cubicBezTo>
                <a:cubicBezTo>
                  <a:pt x="464" y="1064"/>
                  <a:pt x="232" y="1276"/>
                  <a:pt x="0" y="1488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6 -0.21111 E">
                                      <p:cBhvr>
                                        <p:cTn id="481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 -6 L 4.07407 -6 L 0.47084 0.07338 E">
                                      <p:cBhvr>
                                        <p:cTn id="489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76320" y="152280"/>
            <a:ext cx="899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аллелограмме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гол В тупой. На продолжении стороны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ерши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чена точка Е так, чт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АВ = 4 см,  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 см. Найдите площадь параллелограм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0" y="932040"/>
                <a:ext cx="3808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2057400" y="9144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Freeform 4"/>
          <p:cNvSpPr/>
          <p:nvPr/>
        </p:nvSpPr>
        <p:spPr>
          <a:xfrm>
            <a:off x="241200" y="2743200"/>
            <a:ext cx="7226280" cy="2006640"/>
          </a:xfrm>
          <a:custGeom>
            <a:avLst/>
            <a:gdLst>
              <a:gd name="textAreaLeft" fmla="*/ 0 w 7226280"/>
              <a:gd name="textAreaRight" fmla="*/ 7226640 w 722628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4552" h="1264">
                <a:moveTo>
                  <a:pt x="0" y="1264"/>
                </a:moveTo>
                <a:lnTo>
                  <a:pt x="1808" y="0"/>
                </a:lnTo>
                <a:lnTo>
                  <a:pt x="4552" y="0"/>
                </a:lnTo>
                <a:lnTo>
                  <a:pt x="2656" y="1264"/>
                </a:lnTo>
                <a:lnTo>
                  <a:pt x="0" y="126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77760" y="48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282096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746928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426888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Freeform 9"/>
          <p:cNvSpPr/>
          <p:nvPr/>
        </p:nvSpPr>
        <p:spPr>
          <a:xfrm>
            <a:off x="4280040" y="4699080"/>
            <a:ext cx="3860640" cy="5076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432" h="32">
                <a:moveTo>
                  <a:pt x="0" y="32"/>
                </a:moveTo>
                <a:lnTo>
                  <a:pt x="2432" y="0"/>
                </a:lnTo>
              </a:path>
            </a:pathLst>
          </a:custGeom>
          <a:noFill/>
          <a:ln cap="sq" w="1908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Group 10"/>
          <p:cNvGrpSpPr/>
          <p:nvPr/>
        </p:nvGrpSpPr>
        <p:grpSpPr>
          <a:xfrm>
            <a:off x="7254720" y="2743200"/>
            <a:ext cx="225720" cy="1933560"/>
            <a:chOff x="7254720" y="2743200"/>
            <a:chExt cx="225720" cy="1933560"/>
          </a:xfrm>
        </p:grpSpPr>
        <p:sp>
          <p:nvSpPr>
            <p:cNvPr id="333" name="Line 11"/>
            <p:cNvSpPr/>
            <p:nvPr/>
          </p:nvSpPr>
          <p:spPr>
            <a:xfrm>
              <a:off x="7480440" y="2743200"/>
              <a:ext cx="0" cy="1933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7254720" y="4492800"/>
              <a:ext cx="222480" cy="18396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13"/>
          <p:cNvSpPr/>
          <p:nvPr/>
        </p:nvSpPr>
        <p:spPr>
          <a:xfrm>
            <a:off x="1526040" y="3124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1983240" y="4724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6991200" y="29718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16"/>
          <p:cNvGrpSpPr/>
          <p:nvPr/>
        </p:nvGrpSpPr>
        <p:grpSpPr>
          <a:xfrm>
            <a:off x="7353000" y="4648320"/>
            <a:ext cx="416880" cy="610920"/>
            <a:chOff x="7353000" y="4648320"/>
            <a:chExt cx="416880" cy="610920"/>
          </a:xfrm>
        </p:grpSpPr>
        <p:sp>
          <p:nvSpPr>
            <p:cNvPr id="339" name="Text Box 17"/>
            <p:cNvSpPr/>
            <p:nvPr/>
          </p:nvSpPr>
          <p:spPr>
            <a:xfrm>
              <a:off x="7353000" y="4738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8"/>
            <p:cNvSpPr/>
            <p:nvPr/>
          </p:nvSpPr>
          <p:spPr>
            <a:xfrm>
              <a:off x="7391520" y="4648320"/>
              <a:ext cx="149040" cy="149040"/>
            </a:xfrm>
            <a:prstGeom prst="ellipse">
              <a:avLst/>
            </a:prstGeom>
            <a:solidFill>
              <a:srgbClr val="ff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19"/>
          <p:cNvSpPr/>
          <p:nvPr/>
        </p:nvSpPr>
        <p:spPr>
          <a:xfrm>
            <a:off x="4807080" y="44038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0"/>
          <p:cNvSpPr/>
          <p:nvPr/>
        </p:nvSpPr>
        <p:spPr>
          <a:xfrm>
            <a:off x="1524240" y="3138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746964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4455720" y="5486400"/>
            <a:ext cx="244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*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 -6 L 3.7037 -7 L 0.49999 0.05556 E">
                                      <p:cBhvr>
                                        <p:cTn id="54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5853240" y="4952880"/>
            <a:ext cx="25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380880" y="152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углы параллелограмма, если его площадь 40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го стороны 8 см и 10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7503840" y="152280"/>
            <a:ext cx="95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 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1206360" y="2376360"/>
            <a:ext cx="5257800" cy="2362320"/>
          </a:xfrm>
          <a:prstGeom prst="parallelogram">
            <a:avLst>
              <a:gd name="adj" fmla="val 6735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826920" y="4586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35116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631332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2590920" y="2362320"/>
            <a:ext cx="437400" cy="2806560"/>
            <a:chOff x="2590920" y="2362320"/>
            <a:chExt cx="437400" cy="2806560"/>
          </a:xfrm>
        </p:grpSpPr>
        <p:grpSp>
          <p:nvGrpSpPr>
            <p:cNvPr id="353" name="Group 9"/>
            <p:cNvGrpSpPr/>
            <p:nvPr/>
          </p:nvGrpSpPr>
          <p:grpSpPr>
            <a:xfrm>
              <a:off x="2590920" y="2362320"/>
              <a:ext cx="225360" cy="2359080"/>
              <a:chOff x="2590920" y="2362320"/>
              <a:chExt cx="225360" cy="2359080"/>
            </a:xfrm>
          </p:grpSpPr>
          <p:sp>
            <p:nvSpPr>
              <p:cNvPr id="354" name="Line 10"/>
              <p:cNvSpPr/>
              <p:nvPr/>
            </p:nvSpPr>
            <p:spPr>
              <a:xfrm>
                <a:off x="2816280" y="2362320"/>
                <a:ext cx="0" cy="235908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11"/>
              <p:cNvSpPr/>
              <p:nvPr/>
            </p:nvSpPr>
            <p:spPr>
              <a:xfrm>
                <a:off x="2590920" y="4495680"/>
                <a:ext cx="222120" cy="22572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Text Box 12"/>
            <p:cNvSpPr/>
            <p:nvPr/>
          </p:nvSpPr>
          <p:spPr>
            <a:xfrm>
              <a:off x="2591640" y="4648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13"/>
          <p:cNvGrpSpPr/>
          <p:nvPr/>
        </p:nvGrpSpPr>
        <p:grpSpPr>
          <a:xfrm>
            <a:off x="2806560" y="2376360"/>
            <a:ext cx="2974680" cy="2044800"/>
            <a:chOff x="2806560" y="2376360"/>
            <a:chExt cx="2974680" cy="2044800"/>
          </a:xfrm>
        </p:grpSpPr>
        <p:sp>
          <p:nvSpPr>
            <p:cNvPr id="358" name="Freeform 14"/>
            <p:cNvSpPr/>
            <p:nvPr/>
          </p:nvSpPr>
          <p:spPr>
            <a:xfrm>
              <a:off x="2806560" y="2376360"/>
              <a:ext cx="2525760" cy="1685880"/>
            </a:xfrm>
            <a:custGeom>
              <a:avLst/>
              <a:gdLst>
                <a:gd name="textAreaLeft" fmla="*/ 0 w 2525760"/>
                <a:gd name="textAreaRight" fmla="*/ 2526120 w 252576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cap="sq"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5"/>
            <p:cNvSpPr/>
            <p:nvPr/>
          </p:nvSpPr>
          <p:spPr>
            <a:xfrm>
              <a:off x="5127480" y="3701880"/>
              <a:ext cx="357480" cy="19692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16"/>
            <p:cNvSpPr/>
            <p:nvPr/>
          </p:nvSpPr>
          <p:spPr>
            <a:xfrm>
              <a:off x="5245560" y="3900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Text Box 17"/>
          <p:cNvSpPr/>
          <p:nvPr/>
        </p:nvSpPr>
        <p:spPr>
          <a:xfrm>
            <a:off x="4345200" y="19051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4878360" y="48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1602000" y="3124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4345200" y="1919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Freeform 21"/>
          <p:cNvSpPr/>
          <p:nvPr/>
        </p:nvSpPr>
        <p:spPr>
          <a:xfrm>
            <a:off x="1219320" y="4724280"/>
            <a:ext cx="3657600" cy="39384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2304" h="248">
                <a:moveTo>
                  <a:pt x="0" y="0"/>
                </a:moveTo>
                <a:cubicBezTo>
                  <a:pt x="336" y="116"/>
                  <a:pt x="672" y="232"/>
                  <a:pt x="1056" y="240"/>
                </a:cubicBezTo>
                <a:cubicBezTo>
                  <a:pt x="1440" y="248"/>
                  <a:pt x="1872" y="148"/>
                  <a:pt x="2304" y="48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1600560" y="3124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3"/>
          <p:cNvSpPr/>
          <p:nvPr/>
        </p:nvSpPr>
        <p:spPr>
          <a:xfrm>
            <a:off x="2821320" y="3352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>
            <a:off x="1301760" y="44038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5"/>
          <p:cNvSpPr/>
          <p:nvPr/>
        </p:nvSpPr>
        <p:spPr>
          <a:xfrm>
            <a:off x="2745000" y="5181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6"/>
          <p:cNvSpPr/>
          <p:nvPr/>
        </p:nvSpPr>
        <p:spPr>
          <a:xfrm>
            <a:off x="7521480" y="49528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7"/>
          <p:cNvSpPr/>
          <p:nvPr/>
        </p:nvSpPr>
        <p:spPr>
          <a:xfrm>
            <a:off x="613080" y="594360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йдите остальные уг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 -6 L 1.48148 -6 L -0.175 0.47778 E">
                                      <p:cBhvr>
                                        <p:cTn id="575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 -6 L 4.44444 -6 L -0.17257 0.7 E">
                                      <p:cBhvr>
                                        <p:cTn id="59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0.00209 L 0.45156 -0.03564">
                                      <p:cBhvr>
                                        <p:cTn id="59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. 51, № 459 (а, б), № 46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457200" y="-1865160"/>
            <a:ext cx="822960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урок, ребята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54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ести формулу для вычисления площади параллелограм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применение этой формулы в процессе решения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ть навыки решения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1828800" y="380880"/>
            <a:ext cx="59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ойства площа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76320" y="13716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 Равные многоугольники имеют равные площа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-76320" y="2209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 Если многоугольник составлен из нескольких многоугольников, то его площадь равна сумме площадей этих многоуг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3520" y="46483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свойства помогут нам получить формулу для вычисления площади параллелограм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1"/>
          <p:cNvSpPr/>
          <p:nvPr/>
        </p:nvSpPr>
        <p:spPr>
          <a:xfrm>
            <a:off x="609480" y="1295280"/>
            <a:ext cx="5257800" cy="23623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reeform 2"/>
          <p:cNvSpPr/>
          <p:nvPr/>
        </p:nvSpPr>
        <p:spPr>
          <a:xfrm>
            <a:off x="2209680" y="1295280"/>
            <a:ext cx="3657600" cy="23623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2304" h="1488">
                <a:moveTo>
                  <a:pt x="0" y="0"/>
                </a:moveTo>
                <a:lnTo>
                  <a:pt x="2304" y="0"/>
                </a:lnTo>
                <a:lnTo>
                  <a:pt x="2304" y="1488"/>
                </a:lnTo>
                <a:lnTo>
                  <a:pt x="0" y="14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89000" y="0"/>
            <a:ext cx="8955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ощадь параллелограм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а произведению его основания на высо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609480" y="1295280"/>
            <a:ext cx="5257800" cy="2362320"/>
          </a:xfrm>
          <a:prstGeom prst="parallelogram">
            <a:avLst>
              <a:gd name="adj" fmla="val 67358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30040" y="350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754280" y="838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716440" y="838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79800" y="35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1981080" y="1295280"/>
            <a:ext cx="225720" cy="2359080"/>
            <a:chOff x="1981080" y="1295280"/>
            <a:chExt cx="225720" cy="2359080"/>
          </a:xfrm>
        </p:grpSpPr>
        <p:sp>
          <p:nvSpPr>
            <p:cNvPr id="77" name="Line 10"/>
            <p:cNvSpPr/>
            <p:nvPr/>
          </p:nvSpPr>
          <p:spPr>
            <a:xfrm>
              <a:off x="2206800" y="1295280"/>
              <a:ext cx="0" cy="23590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1981080" y="3429000"/>
              <a:ext cx="222480" cy="22536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Line 12"/>
          <p:cNvSpPr/>
          <p:nvPr/>
        </p:nvSpPr>
        <p:spPr>
          <a:xfrm>
            <a:off x="4191120" y="3657600"/>
            <a:ext cx="1904760" cy="1440"/>
          </a:xfrm>
          <a:prstGeom prst="line">
            <a:avLst/>
          </a:prstGeom>
          <a:ln cap="sq" w="1908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982880" y="35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Group 14"/>
          <p:cNvGrpSpPr/>
          <p:nvPr/>
        </p:nvGrpSpPr>
        <p:grpSpPr>
          <a:xfrm>
            <a:off x="5638680" y="1295280"/>
            <a:ext cx="513720" cy="2882880"/>
            <a:chOff x="5638680" y="1295280"/>
            <a:chExt cx="513720" cy="2882880"/>
          </a:xfrm>
        </p:grpSpPr>
        <p:grpSp>
          <p:nvGrpSpPr>
            <p:cNvPr id="82" name="Group 15"/>
            <p:cNvGrpSpPr/>
            <p:nvPr/>
          </p:nvGrpSpPr>
          <p:grpSpPr>
            <a:xfrm>
              <a:off x="5638680" y="1295280"/>
              <a:ext cx="225720" cy="2359080"/>
              <a:chOff x="5638680" y="1295280"/>
              <a:chExt cx="225720" cy="2359080"/>
            </a:xfrm>
          </p:grpSpPr>
          <p:sp>
            <p:nvSpPr>
              <p:cNvPr id="83" name="Line 16"/>
              <p:cNvSpPr/>
              <p:nvPr/>
            </p:nvSpPr>
            <p:spPr>
              <a:xfrm>
                <a:off x="5864400" y="1295280"/>
                <a:ext cx="0" cy="23590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17"/>
              <p:cNvSpPr/>
              <p:nvPr/>
            </p:nvSpPr>
            <p:spPr>
              <a:xfrm>
                <a:off x="5638680" y="3429000"/>
                <a:ext cx="222480" cy="2253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" name="Text Box 18"/>
            <p:cNvSpPr/>
            <p:nvPr/>
          </p:nvSpPr>
          <p:spPr>
            <a:xfrm>
              <a:off x="5715720" y="3657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19"/>
          <p:cNvGrpSpPr/>
          <p:nvPr/>
        </p:nvGrpSpPr>
        <p:grpSpPr>
          <a:xfrm>
            <a:off x="6859080" y="1295280"/>
            <a:ext cx="1747440" cy="459720"/>
            <a:chOff x="6859080" y="1295280"/>
            <a:chExt cx="1747440" cy="459720"/>
          </a:xfrm>
        </p:grpSpPr>
        <p:sp>
          <p:nvSpPr>
            <p:cNvPr id="87" name="Text Box 20"/>
            <p:cNvSpPr/>
            <p:nvPr/>
          </p:nvSpPr>
          <p:spPr>
            <a:xfrm>
              <a:off x="6859080" y="1295280"/>
              <a:ext cx="174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 = BH  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1"/>
                <p:cNvSpPr txBox="1"/>
                <p:nvPr/>
              </p:nvSpPr>
              <p:spPr>
                <a:xfrm>
                  <a:off x="7864560" y="1407960"/>
                  <a:ext cx="30168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89" name="Group 22"/>
          <p:cNvGrpSpPr/>
          <p:nvPr/>
        </p:nvGrpSpPr>
        <p:grpSpPr>
          <a:xfrm>
            <a:off x="7714080" y="4875120"/>
            <a:ext cx="1195920" cy="459720"/>
            <a:chOff x="7714080" y="4875120"/>
            <a:chExt cx="1195920" cy="459720"/>
          </a:xfrm>
        </p:grpSpPr>
        <p:sp>
          <p:nvSpPr>
            <p:cNvPr id="90" name="Text Box 23"/>
            <p:cNvSpPr/>
            <p:nvPr/>
          </p:nvSpPr>
          <p:spPr>
            <a:xfrm>
              <a:off x="7714080" y="4875120"/>
              <a:ext cx="119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24"/>
                <p:cNvSpPr txBox="1"/>
                <p:nvPr/>
              </p:nvSpPr>
              <p:spPr>
                <a:xfrm>
                  <a:off x="8172360" y="4951440"/>
                  <a:ext cx="30168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" name="Object 25"/>
              <p:cNvSpPr txBox="1"/>
              <p:nvPr/>
            </p:nvSpPr>
            <p:spPr>
              <a:xfrm>
                <a:off x="2057400" y="4114800"/>
                <a:ext cx="5562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H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DC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ип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с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Text Box 26"/>
          <p:cNvSpPr/>
          <p:nvPr/>
        </p:nvSpPr>
        <p:spPr>
          <a:xfrm>
            <a:off x="36720" y="4875120"/>
            <a:ext cx="113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1158480" y="4875120"/>
            <a:ext cx="179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H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2927520" y="4875120"/>
            <a:ext cx="23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H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5294520" y="4875120"/>
            <a:ext cx="113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HK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6325560" y="4875120"/>
            <a:ext cx="1459080" cy="459720"/>
            <a:chOff x="6325560" y="4875120"/>
            <a:chExt cx="1459080" cy="459720"/>
          </a:xfrm>
        </p:grpSpPr>
        <p:sp>
          <p:nvSpPr>
            <p:cNvPr id="98" name="Text Box 31"/>
            <p:cNvSpPr/>
            <p:nvPr/>
          </p:nvSpPr>
          <p:spPr>
            <a:xfrm>
              <a:off x="6325560" y="4875120"/>
              <a:ext cx="14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C  BH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Object 32"/>
                <p:cNvSpPr txBox="1"/>
                <p:nvPr/>
              </p:nvSpPr>
              <p:spPr>
                <a:xfrm>
                  <a:off x="6810480" y="4951440"/>
                  <a:ext cx="30168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00" name="Group 33"/>
          <p:cNvGrpSpPr/>
          <p:nvPr/>
        </p:nvGrpSpPr>
        <p:grpSpPr>
          <a:xfrm>
            <a:off x="914400" y="3200400"/>
            <a:ext cx="3870360" cy="453960"/>
            <a:chOff x="914400" y="3200400"/>
            <a:chExt cx="3870360" cy="453960"/>
          </a:xfrm>
        </p:grpSpPr>
        <p:sp>
          <p:nvSpPr>
            <p:cNvPr id="101" name="Freeform 34"/>
            <p:cNvSpPr/>
            <p:nvPr/>
          </p:nvSpPr>
          <p:spPr>
            <a:xfrm>
              <a:off x="914400" y="3200400"/>
              <a:ext cx="212760" cy="4539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36" h="288">
                  <a:moveTo>
                    <a:pt x="0" y="0"/>
                  </a:moveTo>
                  <a:cubicBezTo>
                    <a:pt x="17" y="21"/>
                    <a:pt x="81" y="80"/>
                    <a:pt x="104" y="128"/>
                  </a:cubicBezTo>
                  <a:cubicBezTo>
                    <a:pt x="127" y="176"/>
                    <a:pt x="129" y="255"/>
                    <a:pt x="136" y="288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35"/>
            <p:cNvSpPr/>
            <p:nvPr/>
          </p:nvSpPr>
          <p:spPr>
            <a:xfrm>
              <a:off x="4572000" y="3200400"/>
              <a:ext cx="212760" cy="4539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36" h="288">
                  <a:moveTo>
                    <a:pt x="0" y="0"/>
                  </a:moveTo>
                  <a:cubicBezTo>
                    <a:pt x="17" y="21"/>
                    <a:pt x="81" y="80"/>
                    <a:pt x="104" y="128"/>
                  </a:cubicBezTo>
                  <a:cubicBezTo>
                    <a:pt x="127" y="176"/>
                    <a:pt x="129" y="255"/>
                    <a:pt x="136" y="288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36"/>
          <p:cNvGrpSpPr/>
          <p:nvPr/>
        </p:nvGrpSpPr>
        <p:grpSpPr>
          <a:xfrm>
            <a:off x="1219320" y="2438280"/>
            <a:ext cx="3959280" cy="149400"/>
            <a:chOff x="1219320" y="2438280"/>
            <a:chExt cx="3959280" cy="149400"/>
          </a:xfrm>
        </p:grpSpPr>
        <p:sp>
          <p:nvSpPr>
            <p:cNvPr id="104" name="Line 37"/>
            <p:cNvSpPr/>
            <p:nvPr/>
          </p:nvSpPr>
          <p:spPr>
            <a:xfrm>
              <a:off x="1219320" y="2438280"/>
              <a:ext cx="301680" cy="149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8"/>
            <p:cNvSpPr/>
            <p:nvPr/>
          </p:nvSpPr>
          <p:spPr>
            <a:xfrm>
              <a:off x="4876920" y="2438280"/>
              <a:ext cx="301680" cy="149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Text Box 39"/>
          <p:cNvSpPr/>
          <p:nvPr/>
        </p:nvSpPr>
        <p:spPr>
          <a:xfrm>
            <a:off x="0" y="56386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1"/>
          <p:cNvSpPr/>
          <p:nvPr/>
        </p:nvSpPr>
        <p:spPr>
          <a:xfrm>
            <a:off x="2057400" y="2362320"/>
            <a:ext cx="5257800" cy="236196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2057400" y="2362320"/>
            <a:ext cx="5257800" cy="2361960"/>
          </a:xfrm>
          <a:prstGeom prst="parallelogram">
            <a:avLst>
              <a:gd name="adj" fmla="val 67368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677960" y="457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01840" y="1905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64360" y="1905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42772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5638680" y="4724280"/>
            <a:ext cx="1905120" cy="1800"/>
          </a:xfrm>
          <a:prstGeom prst="line">
            <a:avLst/>
          </a:prstGeom>
          <a:ln cap="sq" w="1908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3429000" y="2362320"/>
            <a:ext cx="436680" cy="2806560"/>
            <a:chOff x="3429000" y="2362320"/>
            <a:chExt cx="436680" cy="2806560"/>
          </a:xfrm>
        </p:grpSpPr>
        <p:grpSp>
          <p:nvGrpSpPr>
            <p:cNvPr id="115" name="Group 9"/>
            <p:cNvGrpSpPr/>
            <p:nvPr/>
          </p:nvGrpSpPr>
          <p:grpSpPr>
            <a:xfrm>
              <a:off x="3429000" y="2362320"/>
              <a:ext cx="226080" cy="2359080"/>
              <a:chOff x="3429000" y="2362320"/>
              <a:chExt cx="226080" cy="2359080"/>
            </a:xfrm>
          </p:grpSpPr>
          <p:sp>
            <p:nvSpPr>
              <p:cNvPr id="116" name="Line 10"/>
              <p:cNvSpPr/>
              <p:nvPr/>
            </p:nvSpPr>
            <p:spPr>
              <a:xfrm>
                <a:off x="3655080" y="2362320"/>
                <a:ext cx="0" cy="23590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1"/>
              <p:cNvSpPr/>
              <p:nvPr/>
            </p:nvSpPr>
            <p:spPr>
              <a:xfrm>
                <a:off x="3429000" y="4495680"/>
                <a:ext cx="222840" cy="22572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Text Box 12"/>
            <p:cNvSpPr/>
            <p:nvPr/>
          </p:nvSpPr>
          <p:spPr>
            <a:xfrm>
              <a:off x="3429000" y="4648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3"/>
          <p:cNvGrpSpPr/>
          <p:nvPr/>
        </p:nvGrpSpPr>
        <p:grpSpPr>
          <a:xfrm>
            <a:off x="7086600" y="2362320"/>
            <a:ext cx="513720" cy="2882520"/>
            <a:chOff x="7086600" y="2362320"/>
            <a:chExt cx="513720" cy="2882520"/>
          </a:xfrm>
        </p:grpSpPr>
        <p:grpSp>
          <p:nvGrpSpPr>
            <p:cNvPr id="120" name="Group 14"/>
            <p:cNvGrpSpPr/>
            <p:nvPr/>
          </p:nvGrpSpPr>
          <p:grpSpPr>
            <a:xfrm>
              <a:off x="7086600" y="2362320"/>
              <a:ext cx="227160" cy="2359080"/>
              <a:chOff x="7086600" y="2362320"/>
              <a:chExt cx="227160" cy="2359080"/>
            </a:xfrm>
          </p:grpSpPr>
          <p:sp>
            <p:nvSpPr>
              <p:cNvPr id="121" name="Line 15"/>
              <p:cNvSpPr/>
              <p:nvPr/>
            </p:nvSpPr>
            <p:spPr>
              <a:xfrm>
                <a:off x="7313760" y="2362320"/>
                <a:ext cx="0" cy="2359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6"/>
              <p:cNvSpPr/>
              <p:nvPr/>
            </p:nvSpPr>
            <p:spPr>
              <a:xfrm>
                <a:off x="7086600" y="4495680"/>
                <a:ext cx="223920" cy="22572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Text Box 17"/>
            <p:cNvSpPr/>
            <p:nvPr/>
          </p:nvSpPr>
          <p:spPr>
            <a:xfrm>
              <a:off x="7163640" y="4724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Text Box 18"/>
          <p:cNvSpPr/>
          <p:nvPr/>
        </p:nvSpPr>
        <p:spPr>
          <a:xfrm>
            <a:off x="228600" y="2286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огра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19"/>
          <p:cNvGrpSpPr/>
          <p:nvPr/>
        </p:nvGrpSpPr>
        <p:grpSpPr>
          <a:xfrm>
            <a:off x="6489720" y="-32400"/>
            <a:ext cx="3970800" cy="3975840"/>
            <a:chOff x="6489720" y="-32400"/>
            <a:chExt cx="3970800" cy="3975840"/>
          </a:xfrm>
        </p:grpSpPr>
        <p:sp>
          <p:nvSpPr>
            <p:cNvPr id="126" name="Freeform 20"/>
            <p:cNvSpPr/>
            <p:nvPr/>
          </p:nvSpPr>
          <p:spPr>
            <a:xfrm flipV="1" rot="13620000">
              <a:off x="7873560" y="996480"/>
              <a:ext cx="1121040" cy="2190960"/>
            </a:xfrm>
            <a:custGeom>
              <a:avLst/>
              <a:gdLst>
                <a:gd name="textAreaLeft" fmla="*/ 0 w 1121040"/>
                <a:gd name="textAreaRight" fmla="*/ 1121400 w 1121040"/>
                <a:gd name="textAreaTop" fmla="*/ 360 h 2190960"/>
                <a:gd name="textAreaBottom" fmla="*/ 2191680 h 21909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21"/>
            <p:cNvSpPr/>
            <p:nvPr/>
          </p:nvSpPr>
          <p:spPr>
            <a:xfrm flipV="1" rot="13620000">
              <a:off x="7363080" y="2271600"/>
              <a:ext cx="278280" cy="42192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360 h 421920"/>
                <a:gd name="textAreaBottom" fmla="*/ 422640 h 42192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 flipV="1" rot="13620000">
              <a:off x="7313760" y="2441880"/>
              <a:ext cx="104760" cy="1605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160560"/>
                <a:gd name="textAreaBottom" fmla="*/ 161280 h 16056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Group 23"/>
            <p:cNvGrpSpPr/>
            <p:nvPr/>
          </p:nvGrpSpPr>
          <p:grpSpPr>
            <a:xfrm>
              <a:off x="6489720" y="-32400"/>
              <a:ext cx="3970800" cy="3975840"/>
              <a:chOff x="6489720" y="-32400"/>
              <a:chExt cx="3970800" cy="3975840"/>
            </a:xfrm>
          </p:grpSpPr>
          <p:sp>
            <p:nvSpPr>
              <p:cNvPr id="130" name="Freeform 24"/>
              <p:cNvSpPr/>
              <p:nvPr/>
            </p:nvSpPr>
            <p:spPr>
              <a:xfrm flipV="1" rot="13620000">
                <a:off x="7044840" y="574200"/>
                <a:ext cx="2860200" cy="2762280"/>
              </a:xfrm>
              <a:custGeom>
                <a:avLst/>
                <a:gdLst>
                  <a:gd name="textAreaLeft" fmla="*/ 0 w 2860200"/>
                  <a:gd name="textAreaRight" fmla="*/ 2860560 w 2860200"/>
                  <a:gd name="textAreaTop" fmla="*/ -360 h 2762280"/>
                  <a:gd name="textAreaBottom" fmla="*/ 2762280 h 27622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5"/>
              <p:cNvSpPr/>
              <p:nvPr/>
            </p:nvSpPr>
            <p:spPr>
              <a:xfrm flipV="1" rot="10320000">
                <a:off x="9876240" y="592200"/>
                <a:ext cx="65160" cy="5889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360 h 588960"/>
                  <a:gd name="textAreaBottom" fmla="*/ 589680 h 58896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26"/>
          <p:cNvGrpSpPr/>
          <p:nvPr/>
        </p:nvGrpSpPr>
        <p:grpSpPr>
          <a:xfrm>
            <a:off x="1456920" y="1648080"/>
            <a:ext cx="2939760" cy="2867400"/>
            <a:chOff x="1456920" y="1648080"/>
            <a:chExt cx="2939760" cy="2867400"/>
          </a:xfrm>
        </p:grpSpPr>
        <p:sp>
          <p:nvSpPr>
            <p:cNvPr id="133" name="Freeform 27"/>
            <p:cNvSpPr/>
            <p:nvPr/>
          </p:nvSpPr>
          <p:spPr>
            <a:xfrm flipV="1" rot="2100000">
              <a:off x="2039040" y="1770480"/>
              <a:ext cx="995760" cy="2332080"/>
            </a:xfrm>
            <a:custGeom>
              <a:avLst/>
              <a:gdLst>
                <a:gd name="textAreaLeft" fmla="*/ 0 w 995760"/>
                <a:gd name="textAreaRight" fmla="*/ 996120 w 995760"/>
                <a:gd name="textAreaTop" fmla="*/ 360 h 2332080"/>
                <a:gd name="textAreaBottom" fmla="*/ 2332800 h 23320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 flipV="1" rot="2100000">
              <a:off x="3266280" y="2150280"/>
              <a:ext cx="245880" cy="4492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360 h 449280"/>
                <a:gd name="textAreaBottom" fmla="*/ 450000 h 44928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 flipV="1" rot="2100000">
              <a:off x="3475440" y="2228760"/>
              <a:ext cx="92160" cy="169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360 h 169200"/>
                <a:gd name="textAreaBottom" fmla="*/ 169920 h 169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Group 30"/>
            <p:cNvGrpSpPr/>
            <p:nvPr/>
          </p:nvGrpSpPr>
          <p:grpSpPr>
            <a:xfrm>
              <a:off x="1456920" y="1648080"/>
              <a:ext cx="2939760" cy="2867400"/>
              <a:chOff x="1456920" y="1648080"/>
              <a:chExt cx="2939760" cy="2867400"/>
            </a:xfrm>
          </p:grpSpPr>
          <p:sp>
            <p:nvSpPr>
              <p:cNvPr id="137" name="Freeform 31"/>
              <p:cNvSpPr/>
              <p:nvPr/>
            </p:nvSpPr>
            <p:spPr>
              <a:xfrm flipV="1" rot="2100000">
                <a:off x="2311920" y="1864440"/>
                <a:ext cx="1524240" cy="2433240"/>
              </a:xfrm>
              <a:custGeom>
                <a:avLst/>
                <a:gdLst>
                  <a:gd name="textAreaLeft" fmla="*/ 0 w 1524240"/>
                  <a:gd name="textAreaRight" fmla="*/ 1524600 w 1524240"/>
                  <a:gd name="textAreaTop" fmla="*/ -360 h 2433240"/>
                  <a:gd name="textAreaBottom" fmla="*/ 2433240 h 243324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2"/>
              <p:cNvSpPr/>
              <p:nvPr/>
            </p:nvSpPr>
            <p:spPr>
              <a:xfrm flipV="1" rot="20400000">
                <a:off x="1494000" y="3639240"/>
                <a:ext cx="79920" cy="2318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360 h 231840"/>
                  <a:gd name="textAreaBottom" fmla="*/ 232560 h 2318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Text Box 33"/>
          <p:cNvSpPr/>
          <p:nvPr/>
        </p:nvSpPr>
        <p:spPr>
          <a:xfrm>
            <a:off x="2057760" y="6070680"/>
            <a:ext cx="55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еще высоты можно постро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34"/>
          <p:cNvGrpSpPr/>
          <p:nvPr/>
        </p:nvGrpSpPr>
        <p:grpSpPr>
          <a:xfrm>
            <a:off x="3657600" y="2362320"/>
            <a:ext cx="2854800" cy="2044440"/>
            <a:chOff x="3657600" y="2362320"/>
            <a:chExt cx="2854800" cy="2044440"/>
          </a:xfrm>
        </p:grpSpPr>
        <p:sp>
          <p:nvSpPr>
            <p:cNvPr id="141" name="Freeform 35"/>
            <p:cNvSpPr/>
            <p:nvPr/>
          </p:nvSpPr>
          <p:spPr>
            <a:xfrm>
              <a:off x="3657600" y="2362320"/>
              <a:ext cx="2522520" cy="1685880"/>
            </a:xfrm>
            <a:custGeom>
              <a:avLst/>
              <a:gdLst>
                <a:gd name="textAreaLeft" fmla="*/ 0 w 2522520"/>
                <a:gd name="textAreaRight" fmla="*/ 2522880 w 252252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36"/>
            <p:cNvSpPr/>
            <p:nvPr/>
          </p:nvSpPr>
          <p:spPr>
            <a:xfrm>
              <a:off x="5975640" y="3687840"/>
              <a:ext cx="356760" cy="19692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37"/>
            <p:cNvSpPr/>
            <p:nvPr/>
          </p:nvSpPr>
          <p:spPr>
            <a:xfrm>
              <a:off x="6095520" y="3886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Freeform 38"/>
          <p:cNvSpPr/>
          <p:nvPr/>
        </p:nvSpPr>
        <p:spPr>
          <a:xfrm>
            <a:off x="3249720" y="1944720"/>
            <a:ext cx="4343400" cy="208260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2082600"/>
              <a:gd name="textAreaBottom" fmla="*/ 2082960 h 2082600"/>
            </a:gdLst>
            <a:ahLst/>
            <a:rect l="textAreaLeft" t="textAreaTop" r="textAreaRight" b="textAreaBottom"/>
            <a:pathLst>
              <a:path w="2736" h="1312">
                <a:moveTo>
                  <a:pt x="8" y="95"/>
                </a:moveTo>
                <a:lnTo>
                  <a:pt x="1831" y="1312"/>
                </a:lnTo>
                <a:lnTo>
                  <a:pt x="1766" y="1057"/>
                </a:lnTo>
                <a:lnTo>
                  <a:pt x="2310" y="232"/>
                </a:lnTo>
                <a:lnTo>
                  <a:pt x="2736" y="12"/>
                </a:lnTo>
                <a:lnTo>
                  <a:pt x="2321" y="230"/>
                </a:lnTo>
                <a:lnTo>
                  <a:pt x="601" y="264"/>
                </a:lnTo>
                <a:lnTo>
                  <a:pt x="0" y="94"/>
                </a:lnTo>
                <a:lnTo>
                  <a:pt x="602" y="274"/>
                </a:lnTo>
                <a:lnTo>
                  <a:pt x="1775" y="1053"/>
                </a:lnTo>
                <a:lnTo>
                  <a:pt x="1824" y="1312"/>
                </a:lnTo>
                <a:lnTo>
                  <a:pt x="2681" y="47"/>
                </a:lnTo>
                <a:lnTo>
                  <a:pt x="2701" y="0"/>
                </a:lnTo>
                <a:lnTo>
                  <a:pt x="2720" y="27"/>
                </a:lnTo>
                <a:lnTo>
                  <a:pt x="2688" y="43"/>
                </a:lnTo>
                <a:lnTo>
                  <a:pt x="2693" y="20"/>
                </a:lnTo>
                <a:lnTo>
                  <a:pt x="8" y="9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39"/>
          <p:cNvSpPr/>
          <p:nvPr/>
        </p:nvSpPr>
        <p:spPr>
          <a:xfrm rot="10800000">
            <a:off x="3352320" y="688320"/>
            <a:ext cx="4343400" cy="208260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2082600"/>
              <a:gd name="textAreaBottom" fmla="*/ 2082960 h 2082600"/>
            </a:gdLst>
            <a:ahLst/>
            <a:rect l="textAreaLeft" t="textAreaTop" r="textAreaRight" b="textAreaBottom"/>
            <a:pathLst>
              <a:path w="2736" h="1312">
                <a:moveTo>
                  <a:pt x="8" y="95"/>
                </a:moveTo>
                <a:lnTo>
                  <a:pt x="1831" y="1312"/>
                </a:lnTo>
                <a:lnTo>
                  <a:pt x="1766" y="1057"/>
                </a:lnTo>
                <a:lnTo>
                  <a:pt x="2310" y="232"/>
                </a:lnTo>
                <a:lnTo>
                  <a:pt x="2736" y="12"/>
                </a:lnTo>
                <a:lnTo>
                  <a:pt x="2321" y="230"/>
                </a:lnTo>
                <a:lnTo>
                  <a:pt x="601" y="264"/>
                </a:lnTo>
                <a:lnTo>
                  <a:pt x="0" y="94"/>
                </a:lnTo>
                <a:lnTo>
                  <a:pt x="602" y="274"/>
                </a:lnTo>
                <a:lnTo>
                  <a:pt x="1775" y="1053"/>
                </a:lnTo>
                <a:lnTo>
                  <a:pt x="1824" y="1312"/>
                </a:lnTo>
                <a:lnTo>
                  <a:pt x="2681" y="47"/>
                </a:lnTo>
                <a:lnTo>
                  <a:pt x="2701" y="0"/>
                </a:lnTo>
                <a:lnTo>
                  <a:pt x="2720" y="27"/>
                </a:lnTo>
                <a:lnTo>
                  <a:pt x="2688" y="43"/>
                </a:lnTo>
                <a:lnTo>
                  <a:pt x="2693" y="20"/>
                </a:lnTo>
                <a:lnTo>
                  <a:pt x="8" y="9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40"/>
          <p:cNvSpPr/>
          <p:nvPr/>
        </p:nvSpPr>
        <p:spPr>
          <a:xfrm>
            <a:off x="3594240" y="571680"/>
            <a:ext cx="1244520" cy="185400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854000"/>
              <a:gd name="textAreaBottom" fmla="*/ 1854360 h 1854000"/>
            </a:gdLst>
            <a:ahLst/>
            <a:rect l="textAreaLeft" t="textAreaTop" r="textAreaRight" b="textAreaBottom"/>
            <a:pathLst>
              <a:path w="784" h="1168">
                <a:moveTo>
                  <a:pt x="0" y="1168"/>
                </a:moveTo>
                <a:lnTo>
                  <a:pt x="784" y="0"/>
                </a:lnTo>
              </a:path>
            </a:pathLst>
          </a:custGeom>
          <a:noFill/>
          <a:ln cap="sq" w="19080">
            <a:solidFill>
              <a:srgbClr val="000000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41"/>
          <p:cNvGrpSpPr/>
          <p:nvPr/>
        </p:nvGrpSpPr>
        <p:grpSpPr>
          <a:xfrm>
            <a:off x="4344480" y="228600"/>
            <a:ext cx="2967480" cy="2130480"/>
            <a:chOff x="4344480" y="228600"/>
            <a:chExt cx="2967480" cy="2130480"/>
          </a:xfrm>
        </p:grpSpPr>
        <p:sp>
          <p:nvSpPr>
            <p:cNvPr id="148" name="Freeform 42"/>
            <p:cNvSpPr/>
            <p:nvPr/>
          </p:nvSpPr>
          <p:spPr>
            <a:xfrm>
              <a:off x="4788000" y="673200"/>
              <a:ext cx="2523960" cy="1685880"/>
            </a:xfrm>
            <a:custGeom>
              <a:avLst/>
              <a:gdLst>
                <a:gd name="textAreaLeft" fmla="*/ 0 w 2523960"/>
                <a:gd name="textAreaRight" fmla="*/ 2524320 w 252396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3"/>
            <p:cNvSpPr/>
            <p:nvPr/>
          </p:nvSpPr>
          <p:spPr>
            <a:xfrm rot="11040000">
              <a:off x="4650840" y="840960"/>
              <a:ext cx="357480" cy="19692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44"/>
            <p:cNvSpPr/>
            <p:nvPr/>
          </p:nvSpPr>
          <p:spPr>
            <a:xfrm>
              <a:off x="4344480" y="228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Group 45"/>
          <p:cNvGrpSpPr/>
          <p:nvPr/>
        </p:nvGrpSpPr>
        <p:grpSpPr>
          <a:xfrm>
            <a:off x="6388200" y="-108720"/>
            <a:ext cx="3970800" cy="3975840"/>
            <a:chOff x="6388200" y="-108720"/>
            <a:chExt cx="3970800" cy="3975840"/>
          </a:xfrm>
        </p:grpSpPr>
        <p:sp>
          <p:nvSpPr>
            <p:cNvPr id="152" name="Freeform 46"/>
            <p:cNvSpPr/>
            <p:nvPr/>
          </p:nvSpPr>
          <p:spPr>
            <a:xfrm flipV="1" rot="13620000">
              <a:off x="7771680" y="919800"/>
              <a:ext cx="1120680" cy="2190600"/>
            </a:xfrm>
            <a:custGeom>
              <a:avLst/>
              <a:gdLst>
                <a:gd name="textAreaLeft" fmla="*/ 0 w 1120680"/>
                <a:gd name="textAreaRight" fmla="*/ 1121040 w 1120680"/>
                <a:gd name="textAreaTop" fmla="*/ -360 h 2190600"/>
                <a:gd name="textAreaBottom" fmla="*/ 2190600 h 219060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47"/>
            <p:cNvSpPr/>
            <p:nvPr/>
          </p:nvSpPr>
          <p:spPr>
            <a:xfrm flipV="1" rot="13620000">
              <a:off x="7261560" y="2195280"/>
              <a:ext cx="278280" cy="42192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360 h 421920"/>
                <a:gd name="textAreaBottom" fmla="*/ 422640 h 42192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 flipV="1" rot="13620000">
              <a:off x="7211160" y="2368080"/>
              <a:ext cx="104760" cy="159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159120"/>
                <a:gd name="textAreaBottom" fmla="*/ 159840 h 1591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49"/>
            <p:cNvGrpSpPr/>
            <p:nvPr/>
          </p:nvGrpSpPr>
          <p:grpSpPr>
            <a:xfrm>
              <a:off x="6388200" y="-108720"/>
              <a:ext cx="3970800" cy="3975840"/>
              <a:chOff x="6388200" y="-108720"/>
              <a:chExt cx="3970800" cy="3975840"/>
            </a:xfrm>
          </p:grpSpPr>
          <p:sp>
            <p:nvSpPr>
              <p:cNvPr id="156" name="Freeform 50"/>
              <p:cNvSpPr/>
              <p:nvPr/>
            </p:nvSpPr>
            <p:spPr>
              <a:xfrm flipV="1" rot="13620000">
                <a:off x="6943320" y="497880"/>
                <a:ext cx="2860200" cy="2762280"/>
              </a:xfrm>
              <a:custGeom>
                <a:avLst/>
                <a:gdLst>
                  <a:gd name="textAreaLeft" fmla="*/ 0 w 2860200"/>
                  <a:gd name="textAreaRight" fmla="*/ 2860560 w 2860200"/>
                  <a:gd name="textAreaTop" fmla="*/ -360 h 2762280"/>
                  <a:gd name="textAreaBottom" fmla="*/ 2762280 h 27622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51"/>
              <p:cNvSpPr/>
              <p:nvPr/>
            </p:nvSpPr>
            <p:spPr>
              <a:xfrm flipV="1" rot="10320000">
                <a:off x="9770760" y="518760"/>
                <a:ext cx="67320" cy="58896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360 h 588960"/>
                  <a:gd name="textAreaBottom" fmla="*/ 589680 h 58896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Freeform 52"/>
          <p:cNvSpPr/>
          <p:nvPr/>
        </p:nvSpPr>
        <p:spPr>
          <a:xfrm>
            <a:off x="4780080" y="1219320"/>
            <a:ext cx="2535120" cy="3528720"/>
          </a:xfrm>
          <a:custGeom>
            <a:avLst/>
            <a:gdLst>
              <a:gd name="textAreaLeft" fmla="*/ 0 w 2535120"/>
              <a:gd name="textAreaRight" fmla="*/ 2535480 w 2535120"/>
              <a:gd name="textAreaTop" fmla="*/ 0 h 3528720"/>
              <a:gd name="textAreaBottom" fmla="*/ 3529080 h 3528720"/>
            </a:gdLst>
            <a:ahLst/>
            <a:rect l="textAreaLeft" t="textAreaTop" r="textAreaRight" b="textAreaBottom"/>
            <a:pathLst>
              <a:path w="1597" h="2223">
                <a:moveTo>
                  <a:pt x="1594" y="7"/>
                </a:moveTo>
                <a:lnTo>
                  <a:pt x="1584" y="2199"/>
                </a:lnTo>
                <a:lnTo>
                  <a:pt x="1409" y="2002"/>
                </a:lnTo>
                <a:lnTo>
                  <a:pt x="421" y="1993"/>
                </a:lnTo>
                <a:lnTo>
                  <a:pt x="0" y="2223"/>
                </a:lnTo>
                <a:lnTo>
                  <a:pt x="413" y="2001"/>
                </a:lnTo>
                <a:lnTo>
                  <a:pt x="1403" y="593"/>
                </a:lnTo>
                <a:lnTo>
                  <a:pt x="1597" y="0"/>
                </a:lnTo>
                <a:lnTo>
                  <a:pt x="1410" y="600"/>
                </a:lnTo>
                <a:lnTo>
                  <a:pt x="1401" y="2008"/>
                </a:lnTo>
                <a:lnTo>
                  <a:pt x="1588" y="2193"/>
                </a:lnTo>
                <a:lnTo>
                  <a:pt x="10" y="2187"/>
                </a:lnTo>
                <a:lnTo>
                  <a:pt x="22" y="2218"/>
                </a:lnTo>
                <a:lnTo>
                  <a:pt x="53" y="2200"/>
                </a:lnTo>
                <a:lnTo>
                  <a:pt x="31" y="2192"/>
                </a:lnTo>
                <a:lnTo>
                  <a:pt x="1594" y="7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L 1.11111 -6 L 0.26806 0.25 E">
                                      <p:cBhvr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 -6 L -3.33333 -6 L 0.00139 0.41667 E">
                                      <p:cBhvr>
                                        <p:cTn id="23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L -2.22222 -6 L -0.29027 -0.25 E">
                                      <p:cBhvr>
                                        <p:cTn id="26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2"/>
          <p:cNvSpPr/>
          <p:nvPr/>
        </p:nvSpPr>
        <p:spPr>
          <a:xfrm>
            <a:off x="1905120" y="2057400"/>
            <a:ext cx="5257800" cy="23623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5680" y="426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049560" y="16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012080" y="16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275440" y="43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3276720" y="2057400"/>
            <a:ext cx="437400" cy="2806560"/>
            <a:chOff x="3276720" y="2057400"/>
            <a:chExt cx="437400" cy="2806560"/>
          </a:xfrm>
        </p:grpSpPr>
        <p:grpSp>
          <p:nvGrpSpPr>
            <p:cNvPr id="166" name="Group 8"/>
            <p:cNvGrpSpPr/>
            <p:nvPr/>
          </p:nvGrpSpPr>
          <p:grpSpPr>
            <a:xfrm>
              <a:off x="3276720" y="2057400"/>
              <a:ext cx="225360" cy="2359080"/>
              <a:chOff x="3276720" y="2057400"/>
              <a:chExt cx="225360" cy="2359080"/>
            </a:xfrm>
          </p:grpSpPr>
          <p:sp>
            <p:nvSpPr>
              <p:cNvPr id="167" name="Line 9"/>
              <p:cNvSpPr/>
              <p:nvPr/>
            </p:nvSpPr>
            <p:spPr>
              <a:xfrm>
                <a:off x="3502080" y="2057400"/>
                <a:ext cx="0" cy="23590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3276720" y="4191120"/>
                <a:ext cx="222120" cy="2253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Text Box 11"/>
            <p:cNvSpPr/>
            <p:nvPr/>
          </p:nvSpPr>
          <p:spPr>
            <a:xfrm>
              <a:off x="3277440" y="4343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Text Box 12"/>
          <p:cNvSpPr/>
          <p:nvPr/>
        </p:nvSpPr>
        <p:spPr>
          <a:xfrm>
            <a:off x="76320" y="76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35071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14"/>
          <p:cNvSpPr/>
          <p:nvPr/>
        </p:nvSpPr>
        <p:spPr>
          <a:xfrm>
            <a:off x="1905120" y="4419720"/>
            <a:ext cx="3657600" cy="5331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304" h="336">
                <a:moveTo>
                  <a:pt x="0" y="0"/>
                </a:moveTo>
                <a:cubicBezTo>
                  <a:pt x="360" y="168"/>
                  <a:pt x="720" y="336"/>
                  <a:pt x="1104" y="336"/>
                </a:cubicBezTo>
                <a:cubicBezTo>
                  <a:pt x="1488" y="336"/>
                  <a:pt x="1896" y="168"/>
                  <a:pt x="2304" y="0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430800" y="4952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2819520" y="152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1"/>
          <p:cNvSpPr/>
          <p:nvPr/>
        </p:nvSpPr>
        <p:spPr>
          <a:xfrm>
            <a:off x="1206360" y="2376360"/>
            <a:ext cx="5257800" cy="23623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826920" y="4586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116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31332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576680" y="4662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88000" y="4738680"/>
            <a:ext cx="1904760" cy="1440"/>
          </a:xfrm>
          <a:prstGeom prst="line">
            <a:avLst/>
          </a:prstGeom>
          <a:ln cap="sq" w="1908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6235560" y="2376360"/>
            <a:ext cx="513720" cy="2882880"/>
            <a:chOff x="6235560" y="2376360"/>
            <a:chExt cx="513720" cy="2882880"/>
          </a:xfrm>
        </p:grpSpPr>
        <p:grpSp>
          <p:nvGrpSpPr>
            <p:cNvPr id="182" name="Group 8"/>
            <p:cNvGrpSpPr/>
            <p:nvPr/>
          </p:nvGrpSpPr>
          <p:grpSpPr>
            <a:xfrm>
              <a:off x="6235560" y="2376360"/>
              <a:ext cx="225720" cy="2359080"/>
              <a:chOff x="6235560" y="2376360"/>
              <a:chExt cx="225720" cy="2359080"/>
            </a:xfrm>
          </p:grpSpPr>
          <p:sp>
            <p:nvSpPr>
              <p:cNvPr id="183" name="Line 9"/>
              <p:cNvSpPr/>
              <p:nvPr/>
            </p:nvSpPr>
            <p:spPr>
              <a:xfrm>
                <a:off x="6461280" y="2376360"/>
                <a:ext cx="0" cy="2359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6235560" y="4510080"/>
                <a:ext cx="222480" cy="2253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" name="Text Box 11"/>
            <p:cNvSpPr/>
            <p:nvPr/>
          </p:nvSpPr>
          <p:spPr>
            <a:xfrm>
              <a:off x="6312600" y="4738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 Box 12"/>
          <p:cNvSpPr/>
          <p:nvPr/>
        </p:nvSpPr>
        <p:spPr>
          <a:xfrm>
            <a:off x="4269240" y="1905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76320" y="76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269240" y="1905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6477480" y="32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2819520" y="152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-1.85185 -6 L -0.19167 0.43333 E">
                                      <p:cBhvr>
                                        <p:cTn id="28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76320" y="76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762120" y="2895480"/>
            <a:ext cx="8001000" cy="1752840"/>
          </a:xfrm>
          <a:custGeom>
            <a:avLst/>
            <a:gdLst>
              <a:gd name="textAreaLeft" fmla="*/ 0 w 8001000"/>
              <a:gd name="textAreaRight" fmla="*/ 8001360 w 80010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06360" y="45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973240" y="2362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8535960" y="2362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326280" y="45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30600" y="32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9"/>
          <p:cNvGrpSpPr/>
          <p:nvPr/>
        </p:nvGrpSpPr>
        <p:grpSpPr>
          <a:xfrm>
            <a:off x="2971800" y="2895480"/>
            <a:ext cx="436680" cy="2233440"/>
            <a:chOff x="2971800" y="2895480"/>
            <a:chExt cx="436680" cy="2233440"/>
          </a:xfrm>
        </p:grpSpPr>
        <p:grpSp>
          <p:nvGrpSpPr>
            <p:cNvPr id="201" name="Group 10"/>
            <p:cNvGrpSpPr/>
            <p:nvPr/>
          </p:nvGrpSpPr>
          <p:grpSpPr>
            <a:xfrm>
              <a:off x="2971800" y="2895480"/>
              <a:ext cx="226080" cy="1764000"/>
              <a:chOff x="2971800" y="2895480"/>
              <a:chExt cx="226080" cy="1764000"/>
            </a:xfrm>
          </p:grpSpPr>
          <p:sp>
            <p:nvSpPr>
              <p:cNvPr id="202" name="Line 11"/>
              <p:cNvSpPr/>
              <p:nvPr/>
            </p:nvSpPr>
            <p:spPr>
              <a:xfrm>
                <a:off x="3197880" y="2895480"/>
                <a:ext cx="0" cy="176400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2971800" y="4491000"/>
                <a:ext cx="222840" cy="16848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" name="Text Box 13"/>
            <p:cNvSpPr/>
            <p:nvPr/>
          </p:nvSpPr>
          <p:spPr>
            <a:xfrm>
              <a:off x="2971800" y="4608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Text Box 14"/>
          <p:cNvSpPr/>
          <p:nvPr/>
        </p:nvSpPr>
        <p:spPr>
          <a:xfrm>
            <a:off x="998280" y="434340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5716800" y="2362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5716800" y="2362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Freeform 17"/>
          <p:cNvSpPr/>
          <p:nvPr/>
        </p:nvSpPr>
        <p:spPr>
          <a:xfrm>
            <a:off x="762120" y="4648320"/>
            <a:ext cx="5486400" cy="60948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456" h="384">
                <a:moveTo>
                  <a:pt x="0" y="0"/>
                </a:moveTo>
                <a:cubicBezTo>
                  <a:pt x="528" y="192"/>
                  <a:pt x="1056" y="384"/>
                  <a:pt x="1632" y="384"/>
                </a:cubicBezTo>
                <a:cubicBezTo>
                  <a:pt x="2208" y="384"/>
                  <a:pt x="2832" y="192"/>
                  <a:pt x="3456" y="0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3202200" y="3581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819520" y="152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 -18 L -7.40741 -7 L -0.29166 0.44444 E">
                                      <p:cBhvr>
                                        <p:cTn id="294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     Какую высоту параллелограмма можем най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76320" y="76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1206360" y="2376360"/>
            <a:ext cx="5257800" cy="2362320"/>
          </a:xfrm>
          <a:prstGeom prst="parallelogram">
            <a:avLst>
              <a:gd name="adj" fmla="val 6735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6920" y="4586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235116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31332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7"/>
          <p:cNvGrpSpPr/>
          <p:nvPr/>
        </p:nvGrpSpPr>
        <p:grpSpPr>
          <a:xfrm>
            <a:off x="2590920" y="2362320"/>
            <a:ext cx="437400" cy="2806560"/>
            <a:chOff x="2590920" y="2362320"/>
            <a:chExt cx="437400" cy="2806560"/>
          </a:xfrm>
        </p:grpSpPr>
        <p:grpSp>
          <p:nvGrpSpPr>
            <p:cNvPr id="218" name="Group 8"/>
            <p:cNvGrpSpPr/>
            <p:nvPr/>
          </p:nvGrpSpPr>
          <p:grpSpPr>
            <a:xfrm>
              <a:off x="2590920" y="2362320"/>
              <a:ext cx="225360" cy="2359080"/>
              <a:chOff x="2590920" y="2362320"/>
              <a:chExt cx="225360" cy="2359080"/>
            </a:xfrm>
          </p:grpSpPr>
          <p:sp>
            <p:nvSpPr>
              <p:cNvPr id="219" name="Line 9"/>
              <p:cNvSpPr/>
              <p:nvPr/>
            </p:nvSpPr>
            <p:spPr>
              <a:xfrm>
                <a:off x="2816280" y="2362320"/>
                <a:ext cx="0" cy="2359080"/>
              </a:xfrm>
              <a:prstGeom prst="line">
                <a:avLst/>
              </a:prstGeom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>
                <a:off x="2590920" y="4495680"/>
                <a:ext cx="222120" cy="22572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cap="sq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Text Box 11"/>
            <p:cNvSpPr/>
            <p:nvPr/>
          </p:nvSpPr>
          <p:spPr>
            <a:xfrm>
              <a:off x="2591640" y="4648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2806560" y="2376360"/>
            <a:ext cx="2854800" cy="2044800"/>
            <a:chOff x="2806560" y="2376360"/>
            <a:chExt cx="2854800" cy="2044800"/>
          </a:xfrm>
        </p:grpSpPr>
        <p:sp>
          <p:nvSpPr>
            <p:cNvPr id="223" name="Freeform 13"/>
            <p:cNvSpPr/>
            <p:nvPr/>
          </p:nvSpPr>
          <p:spPr>
            <a:xfrm>
              <a:off x="2806560" y="2376360"/>
              <a:ext cx="2522880" cy="1685880"/>
            </a:xfrm>
            <a:custGeom>
              <a:avLst/>
              <a:gdLst>
                <a:gd name="textAreaLeft" fmla="*/ 0 w 2522880"/>
                <a:gd name="textAreaRight" fmla="*/ 2523240 w 252288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cap="sq"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5124600" y="3701880"/>
              <a:ext cx="356760" cy="19692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5"/>
            <p:cNvSpPr/>
            <p:nvPr/>
          </p:nvSpPr>
          <p:spPr>
            <a:xfrm>
              <a:off x="5244480" y="3900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16"/>
          <p:cNvSpPr/>
          <p:nvPr/>
        </p:nvSpPr>
        <p:spPr>
          <a:xfrm>
            <a:off x="4345200" y="1828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4345200" y="1828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8"/>
          <p:cNvSpPr/>
          <p:nvPr/>
        </p:nvSpPr>
        <p:spPr>
          <a:xfrm>
            <a:off x="1244520" y="4749840"/>
            <a:ext cx="3632400" cy="490320"/>
          </a:xfrm>
          <a:custGeom>
            <a:avLst/>
            <a:gdLst>
              <a:gd name="textAreaLeft" fmla="*/ 0 w 3632400"/>
              <a:gd name="textAreaRight" fmla="*/ 3632400 w 363240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2288" h="309">
                <a:moveTo>
                  <a:pt x="0" y="0"/>
                </a:moveTo>
                <a:cubicBezTo>
                  <a:pt x="171" y="51"/>
                  <a:pt x="643" y="299"/>
                  <a:pt x="1024" y="304"/>
                </a:cubicBezTo>
                <a:cubicBezTo>
                  <a:pt x="1405" y="309"/>
                  <a:pt x="2025" y="89"/>
                  <a:pt x="2288" y="32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6208560" y="3048120"/>
            <a:ext cx="244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* B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4878360" y="48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6629040" y="38862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= 8 * B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6858000" y="47242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 =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819520" y="152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 -18 L -7.40741 -7 L -0.175 0.51111 E">
                                      <p:cBhvr>
                                        <p:cTn id="30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User</cp:lastModifiedBy>
  <dcterms:modified xsi:type="dcterms:W3CDTF">2022-10-28T07:23:09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