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8D1E-4A63-4502-AC75-1475F75A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1B34-465D-4010-AB87-DA56B9ED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CD45-5101-437A-B547-E84288E7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E31D-1B49-4BEA-8C8F-1314A587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358E-CB65-433D-8DAC-1A916D54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F923-FC7E-46AC-B119-B7C7404F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1B37-AE0E-4768-890D-5D2DC55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606-5870-497E-ADA4-2C9AB7B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4EBE-1AFE-4F8E-9F93-859A9DB8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2F4-03BC-43F4-BA4A-837E174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EAF-D081-4237-9F4B-C2FB46B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9558-AB73-4108-ADD7-37BC7696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757-72DE-4DD0-8B07-17FB40D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8A9B-834F-4DEB-B0DE-75339C4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F62F-197B-46AE-8818-41C797B0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9883-1AFB-4C50-8255-A5CDF20D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5B2B-DF82-432B-8A4C-1D2FEE0D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EB73-980E-49EB-AA8A-3446847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A7A1-FC0D-47AF-8407-E5DAC84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CF1C-634E-4AA1-9146-C438778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307E-282E-4748-AF11-D2A98F03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824F-8796-477C-8A8D-48216DD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9739-9D48-4E21-8A74-914BA03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9B0F-39C5-4B70-ADE7-5D12F6F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F67-7BDB-4E11-B52D-290A6C76E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24B-27CA-4FE9-B32F-016C6F5B6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Подвижная игра как средство развития основных видов движений младшего дошкольника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00720" y="494172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полнила: Сазонова Н.В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учный руководитель: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   Кориненко С.В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4581360"/>
            <a:ext cx="4572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Совершенствование уровня развития основных движений младшего дошкольника средствами подвижных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11280" y="33336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ормирующий этап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9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Цель формирующего этапа исследования: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376440"/>
            <a:ext cx="4643280" cy="3481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376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результате проведённой работы движения детей заметно улучшились. В самостоятельной деятельности они чаще стали пользоваться такими движениями, как лазание, прыжки, полюбили сюжетные подвижные игры с мячом. Работы по программе кружка «Страна Игралия» позволила нам повысить двигательную активность детей и положительно сказалась на развитие основных движений младших дошкольников в беге и прыжках на прежнем уровне остались показатели в лазанье и ходь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Контрольный этап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Диаграмма 10" descr=""/>
          <p:cNvPicPr/>
          <p:nvPr/>
        </p:nvPicPr>
        <p:blipFill>
          <a:blip r:embed="rId1"/>
          <a:srcRect l="0" t="0" r="0" b="-33"/>
          <a:stretch/>
        </p:blipFill>
        <p:spPr>
          <a:xfrm>
            <a:off x="2843280" y="1413000"/>
            <a:ext cx="554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4572000"/>
            <a:ext cx="864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веденные исследования в экспериментальной части нашей работы  позволили сделать вывод:  подвижные игры являются прекрасным средством развития  основных движений детей младшего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равнительные результаты уровня развития основных движений младших дошкольников средствами подвижных иг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Диаграмма 11" descr=""/>
          <p:cNvPicPr/>
          <p:nvPr/>
        </p:nvPicPr>
        <p:blipFill>
          <a:blip r:embed="rId1"/>
          <a:srcRect l="0" t="0" r="0" b="-117"/>
          <a:stretch/>
        </p:blipFill>
        <p:spPr>
          <a:xfrm>
            <a:off x="0" y="112536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ccff"/>
                </a:solidFill>
                <a:latin typeface="Arial"/>
              </a:rPr>
              <a:t>     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700360" y="2492280"/>
            <a:ext cx="619272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3280" y="1916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Обосновать и экспериментально доказать возможность развития основных движений младшего дошкольника средствами подвижной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410920" y="40464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Цель исследования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280" y="19162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Объект исследования</a:t>
            </a:r>
            <a:r>
              <a:rPr b="1" i="1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Процесс развития основных движений младшего дошкольника</a:t>
            </a: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редмет исследования:</a:t>
            </a: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00"/>
                </a:solidFill>
                <a:latin typeface="Arial"/>
              </a:rPr>
              <a:t>Развитие основных движений младшего дошкольника средствами подвижной иг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5790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71280" y="26370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ы предполагаем, подвижная игра будет эффективным средством развития основных движений младшего дошкольного при соблюдении следующих педагогических условий её организации, если: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будет подобран комплекс, направленный на совершенствование основных движений дошкольников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разнообразные движения в игре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тимулировать вариативностью содержания игры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проведение подвижной игры  предусматривает совершенствование основных движений детей с учётом индивидуальных особ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79280" y="40464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Гипотеза исследования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43280" y="2349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1.  Рассмотреть  особенности развития основных движений младшего дошкольника в условиях дошкольного образовательного учреждения</a:t>
            </a:r>
            <a:br>
              <a:rPr sz="24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2.  Изучить  характеристику подвижной игры как средства физического воспитания детей младшего дошкольного возраста</a:t>
            </a:r>
            <a:br>
              <a:rPr sz="2400"/>
            </a:b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  3. Подобрать комплекс подвижных игр и апробировать их в экспериментальной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123640" y="33336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и исследования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0000" y="1557360"/>
            <a:ext cx="6062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униципальное бюджетное дошкольное образовательное учреждение «Детский сад № 146                       «Дюймовочка»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щеразвивающего вида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.Оренбур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000" y="476280"/>
            <a:ext cx="867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База экспериментального исследования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Экспериментально доказать возможность развития основных движений младшего дошкольника средствами подвижной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Цель опытно-экспериментальной работы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2420640"/>
            <a:ext cx="629928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.Определение  исходного уровня развития основных движений детей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участвующих в исследовании 2.Подбор подвижных игр и объединение их в комплекс 3.Апробация подобранных игр в работе с дошкольниками. 4.Определение эффективности проведенной работы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бота состояла из нескольких взаимосвязанных этапов: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.Констатирующий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2.Формирующий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3.Контро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-360" y="259920"/>
            <a:ext cx="90010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соответствии с целью в опытно - экпериментальном исследовании решались следующие задач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Диаграмма 6" descr=""/>
          <p:cNvPicPr/>
          <p:nvPr/>
        </p:nvPicPr>
        <p:blipFill>
          <a:blip r:embed="rId1"/>
          <a:srcRect l="0" t="0" r="0" b="-33"/>
          <a:stretch/>
        </p:blipFill>
        <p:spPr>
          <a:xfrm>
            <a:off x="2771640" y="1413000"/>
            <a:ext cx="5686560" cy="3095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292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Результаты констатирующего эксперимента подтвердили необходимость проведения дальнейшей работы по совершенствованию основных движений на формирующем этапе нашего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Констатирующий этап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6:02:10Z</dcterms:created>
  <dc:creator>Admin</dc:creator>
  <dc:description/>
  <dc:language>en-US</dc:language>
  <cp:lastModifiedBy>Admin</cp:lastModifiedBy>
  <dcterms:modified xsi:type="dcterms:W3CDTF">2013-04-06T18:00:42Z</dcterms:modified>
  <cp:revision>2</cp:revision>
  <dc:subject/>
  <dc:title>Подвижная игра как средство развития основных видов движений младшего дошкольник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40000000000010292010207f7000400038000</vt:lpwstr>
  </property>
</Properties>
</file>