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FFF-C10F-459F-AB42-AAB9296C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77F-A287-4E48-9D5E-6442B23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028-D8F6-4CDD-BA56-A5028780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79A-8B4C-421A-94E4-AFE92223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847-7238-4DBA-8079-DF0F58B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F54-420C-4BE8-9A0C-3B3BBA8D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A91-9DF8-43AF-8C3F-CD66427E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773-E35B-41E4-8BD8-7FB21DE9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8B3-1B33-4A55-AB07-01F2FA07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F3C-5E78-4F70-98A7-531A242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AFC-41EB-45CC-86E3-5A9EEFA0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87F-1B36-4810-B78F-12AE6AD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7028-D30D-4B7E-822B-ADA72CC84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«Эксплуатац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ерминала для магазинов самообслуживания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Выполнила: Копылова С.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:\Users\User\Desktop\easypos-lite[1].jpg"/>
          <p:cNvPicPr/>
          <p:nvPr/>
        </p:nvPicPr>
        <p:blipFill>
          <a:blip r:embed="rId1"/>
          <a:stretch/>
        </p:blipFill>
        <p:spPr>
          <a:xfrm>
            <a:off x="4857840" y="2071800"/>
            <a:ext cx="3357360" cy="240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технику безопасности необходимо соблюдать при работе на Пос- термин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К работе допускаются лица, достигшие 18 лет, и имеющие образ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Проверка заземление, зану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3.Исправность вилки, розетки, шну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Следует помнить, что при нажатии на клавишу «итог»,можно получить удар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Запрещается класть посторонние предметы на КК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По окончанию работ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терминал отключают от сети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User\Desktop\курсы кассиров.jpg"/>
          <p:cNvPicPr/>
          <p:nvPr/>
        </p:nvPicPr>
        <p:blipFill>
          <a:blip r:embed="rId1"/>
          <a:stretch/>
        </p:blipFill>
        <p:spPr>
          <a:xfrm>
            <a:off x="3429000" y="4000680"/>
            <a:ext cx="4572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ухаживают  за контрольно –кассовым оборудовани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еред началом работы и по окончанию машину протира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з печатающего  механизма удаляют бумажные волокна, с помощью мягкой ки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енежный ящик протирают тканью, смоченной в воде  с моющим средств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зашифрован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857240" y="1785960"/>
          <a:ext cx="5857920" cy="4632480"/>
        </p:xfrm>
        <a:graphic>
          <a:graphicData uri="http://schemas.openxmlformats.org/drawingml/2006/table">
            <a:tbl>
              <a:tblPr/>
              <a:tblGrid>
                <a:gridCol w="1465560"/>
                <a:gridCol w="1463400"/>
                <a:gridCol w="1465200"/>
                <a:gridCol w="1463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сса, калькулятор, кассир, отчет, выру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значение книги  кассира – операцион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Как определяется выру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значение режима «Серви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значение режима «Регистрац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Что делают по окончанию работы 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термин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2600" y="1642680"/>
            <a:ext cx="73580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учающ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haroni"/>
              </a:rPr>
              <a:t>– закрепление знаний и умений  по изучению эксплуатации Пос – терминала для магазинов самообслужи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haroni"/>
              </a:rPr>
              <a:t>Применение знаний  в решении ситуационных зада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haroni"/>
              </a:rPr>
              <a:t>Способствовать овладению навыками работы на Пос – термина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haroni"/>
              </a:rPr>
              <a:t>Закреплять, систематизировать знания обучающих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вающая 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вивать  профессиональные компетенции в организации профессиональной деятельности,  умения анализировать и обобщать.  Способность развитию творческой самосто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питательные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спитание  профессиональных, личностных качеств обучающихся. Стремление воспитывать чувство ответственности за порученное дело, исполнительность, аккуратность, развивать профессиональную  ответственность, чувства долга, работа в коллекти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рмирование компетенц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К 1.1. Правила эксплуатации  торгово – технологического обору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 2.Организовывать собственную деятельность, исходя из цели и способов ее достижения, определенных руководите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 3. Анализировать рабочую ситуацию. Осуществлять текущий и итоговый контроль, оценку  и коррекцию собственной деяельности. Нести ответственность за результаты свое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4. Осуществлять поиск информации, необходимой для эффективного выполнения профессиональных зада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 6. Работать в команде, эффективно общаться с коллегами, руководством, клиентам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преимущество работ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терми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только учитывает продажи, но и сохраняет другие данные, которые впоследствии можно извлечь для анализа. Кроме того, с помощью данного оборудования можно получить информацию о приобретаемом товаре, сформировать фискальный чек, подсчитать сдачу, а также выполнить различные отчёты, подсчитывает количество проданного товара. Pos-терминал позволяет производить оплату не только наличными деньгами, но и пластиковой картой, поддерживает работу с микропроцессорными и магнитными картам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C:\Users\User\Desktop\47482316b7561e9652ef174cedf8a79d.jpg"/>
          <p:cNvPicPr/>
          <p:nvPr/>
        </p:nvPicPr>
        <p:blipFill>
          <a:blip r:embed="rId1"/>
          <a:stretch/>
        </p:blipFill>
        <p:spPr>
          <a:xfrm>
            <a:off x="3143160" y="2857680"/>
            <a:ext cx="48261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числите  режимы работы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терминал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User\Desktop\01451aec45fd4f29da1b164758b82d63_big.jpg"/>
          <p:cNvPicPr/>
          <p:nvPr/>
        </p:nvPicPr>
        <p:blipFill>
          <a:blip r:embed="rId1"/>
          <a:stretch/>
        </p:blipFill>
        <p:spPr>
          <a:xfrm>
            <a:off x="3011400" y="2286000"/>
            <a:ext cx="4132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ежим «Программир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ежим «Администрат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ежим «Серви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ежим «Налоговый инспект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ежим  «Завершение рабо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овите  механизмы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- терминала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POS-терминал SPARK-TT-2215"/>
          <p:cNvPicPr/>
          <p:nvPr/>
        </p:nvPicPr>
        <p:blipFill>
          <a:blip r:embed="rId1"/>
          <a:stretch/>
        </p:blipFill>
        <p:spPr>
          <a:xfrm>
            <a:off x="2428920" y="2143080"/>
            <a:ext cx="40719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стройство вв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Печатающий механ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Индикаторный механ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Оперативно – запоминающее устрой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Фискальная пам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Блок 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Денежный ящ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3:05:50Z</dcterms:created>
  <dc:creator>user</dc:creator>
  <dc:description/>
  <dc:language>en-US</dc:language>
  <cp:lastModifiedBy>я</cp:lastModifiedBy>
  <dcterms:modified xsi:type="dcterms:W3CDTF">2017-11-26T06:00:53Z</dcterms:modified>
  <cp:revision>32</cp:revision>
  <dc:subject/>
  <dc:title>Органолептическая оценка товаров  по натуральным образцам  в соответствии с Гостом, оформление дегустационных листов с использованием поиска информации в сети Интернет</dc:title>
</cp:coreProperties>
</file>