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346-4269-48DE-9977-0934600F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A89-060C-4475-ACC4-BA05975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16E-A67A-4299-A81C-18CD3071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90E-F270-419C-98CB-6F77C3CF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ABB-7805-4B4C-B401-948A2818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465-6057-4576-AF37-335DE23B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55D-F639-41FE-80F6-55037EB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92E-841C-4ADF-A917-E32A205E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6B6-0369-4CC1-9E6A-2A352EC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526-B51E-41BB-BD15-A8C4F3B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C67-4077-4CCA-8207-A8692D8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EDF-D2EF-45E9-8C5C-0156A99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C03-3565-4E43-954E-E4117AA78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Нина Кулагина</cp:lastModifiedBy>
  <dcterms:modified xsi:type="dcterms:W3CDTF">2022-11-19T12:39:21Z</dcterms:modified>
  <cp:revision>94</cp:revision>
  <dc:subject/>
  <dc:title>Слайд 1</dc:title>
</cp:coreProperties>
</file>