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E9E-E11C-4971-A64C-5EBCDD5D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836-269E-41F1-B846-D963FB39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8D9-063B-4290-8174-C6DD2D86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10B-510E-4862-B741-CD4E006B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A58-634D-4B7E-B478-606420B7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054-18C5-4E33-8756-59DDA55B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D40-63B0-421B-99C3-506F3FAE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5D1-4E0C-42C3-A45D-B84A79D2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501-9ABE-41E4-97DC-2E123E62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4E9-4758-4E51-8258-634F72E8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857-9BC1-49C3-9716-93C40C3B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164-67F5-4060-939A-FCE40848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BC0A-F308-46F2-BC57-1323B6A1AED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2640" y="5866920"/>
            <a:ext cx="417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3600"/>
            </a:b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87200" y="324000"/>
            <a:ext cx="666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37 города Тюмен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42800" y="3059280"/>
            <a:ext cx="59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авка под ручк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189000" y="8532720"/>
            <a:ext cx="66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юмень 2022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2708280" y="6012000"/>
            <a:ext cx="414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работал: ученик 7г класса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ошнев Мар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уководитель: учитель технолог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удов В.Н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260280" y="154080"/>
          <a:ext cx="6408720" cy="8821800"/>
        </p:xfrm>
        <a:graphic>
          <a:graphicData uri="http://schemas.openxmlformats.org/drawingml/2006/table">
            <a:tbl>
              <a:tblPr/>
              <a:tblGrid>
                <a:gridCol w="569880"/>
                <a:gridCol w="569880"/>
                <a:gridCol w="2633760"/>
                <a:gridCol w="2635200"/>
              </a:tblGrid>
              <a:tr h="1188000">
                <a:tc rowSpan="7"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сверливаем отверстие в середине осн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ерлильный стан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рабатываем дета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кур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леиваем детали куб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ей П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единяем все детали между соб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Соединяем все детали между соб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асим куби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рилка,ки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Текст 5"/>
          <p:cNvSpPr/>
          <p:nvPr/>
        </p:nvSpPr>
        <p:spPr>
          <a:xfrm>
            <a:off x="571680" y="857160"/>
            <a:ext cx="2643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расчерчиваем основани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Текст 3"/>
          <p:cNvSpPr/>
          <p:nvPr/>
        </p:nvSpPr>
        <p:spPr>
          <a:xfrm>
            <a:off x="4186080" y="5076720"/>
            <a:ext cx="25005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клеиваем детал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Picture 7" descr="C:\Users\14\Desktop\аргаргарыаргыва\IMG_20221109_120548.jpg"/>
          <p:cNvPicPr/>
          <p:nvPr/>
        </p:nvPicPr>
        <p:blipFill>
          <a:blip r:embed="rId1"/>
          <a:stretch/>
        </p:blipFill>
        <p:spPr>
          <a:xfrm>
            <a:off x="3645000" y="755640"/>
            <a:ext cx="2585880" cy="2952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:\Users\14\Desktop\аргаргарыаргыва\IMG_20221109_121727.jpg"/>
          <p:cNvPicPr/>
          <p:nvPr/>
        </p:nvPicPr>
        <p:blipFill>
          <a:blip r:embed="rId2"/>
          <a:stretch/>
        </p:blipFill>
        <p:spPr>
          <a:xfrm>
            <a:off x="476280" y="4500720"/>
            <a:ext cx="302400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Текст 3"/>
          <p:cNvSpPr/>
          <p:nvPr/>
        </p:nvSpPr>
        <p:spPr>
          <a:xfrm>
            <a:off x="428760" y="395280"/>
            <a:ext cx="27144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еиваем  две ча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Текст 3"/>
          <p:cNvSpPr/>
          <p:nvPr/>
        </p:nvSpPr>
        <p:spPr>
          <a:xfrm>
            <a:off x="4087800" y="5148360"/>
            <a:ext cx="274320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еиваем между собо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Picture 7" descr="C:\Users\14\Desktop\аргаргарыаргыва\IMG_20221109_122101.jpg"/>
          <p:cNvPicPr/>
          <p:nvPr/>
        </p:nvPicPr>
        <p:blipFill>
          <a:blip r:embed="rId1"/>
          <a:stretch/>
        </p:blipFill>
        <p:spPr>
          <a:xfrm>
            <a:off x="3284640" y="395280"/>
            <a:ext cx="2673360" cy="356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C:\Users\14\Desktop\аргаргарыаргыва\IMG_20221110_101342.jpg"/>
          <p:cNvPicPr/>
          <p:nvPr/>
        </p:nvPicPr>
        <p:blipFill>
          <a:blip r:embed="rId2"/>
          <a:stretch/>
        </p:blipFill>
        <p:spPr>
          <a:xfrm>
            <a:off x="333360" y="5219640"/>
            <a:ext cx="2735280" cy="36482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Текст 3"/>
          <p:cNvSpPr/>
          <p:nvPr/>
        </p:nvSpPr>
        <p:spPr>
          <a:xfrm>
            <a:off x="144360" y="777960"/>
            <a:ext cx="274320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верлильном станк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Текст 3"/>
          <p:cNvSpPr/>
          <p:nvPr/>
        </p:nvSpPr>
        <p:spPr>
          <a:xfrm>
            <a:off x="4114800" y="5292720"/>
            <a:ext cx="2743200" cy="29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6" descr="C:\Users\14\Desktop\аргаргарыаргыва\IMG_20221111_084431.jpg"/>
          <p:cNvPicPr/>
          <p:nvPr/>
        </p:nvPicPr>
        <p:blipFill>
          <a:blip r:embed="rId1"/>
          <a:stretch/>
        </p:blipFill>
        <p:spPr>
          <a:xfrm>
            <a:off x="3933720" y="250920"/>
            <a:ext cx="2671920" cy="3564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5"/>
          <p:cNvSpPr/>
          <p:nvPr/>
        </p:nvSpPr>
        <p:spPr>
          <a:xfrm>
            <a:off x="500040" y="357120"/>
            <a:ext cx="3143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м  кубик 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286080" y="4143240"/>
            <a:ext cx="33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готово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8" descr="C:\Users\14\Desktop\аргаргарыаргыва\IMG_20221111_113341.jpg"/>
          <p:cNvPicPr/>
          <p:nvPr/>
        </p:nvPicPr>
        <p:blipFill>
          <a:blip r:embed="rId3"/>
          <a:stretch/>
        </p:blipFill>
        <p:spPr>
          <a:xfrm>
            <a:off x="3645000" y="395280"/>
            <a:ext cx="2663640" cy="3552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Users\14\Desktop\аргаргарыаргыва\IMG_20221111_121458.jpg"/>
          <p:cNvPicPr/>
          <p:nvPr/>
        </p:nvPicPr>
        <p:blipFill>
          <a:blip r:embed="rId4"/>
          <a:stretch/>
        </p:blipFill>
        <p:spPr>
          <a:xfrm>
            <a:off x="260280" y="4859280"/>
            <a:ext cx="291636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Техника безопасности при изготовлении.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189000" y="1143000"/>
            <a:ext cx="6669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йте порядок на вашем рабочем мест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регайтесь поражения электрическим ток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вайте соответствующую рабочую одежду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жно закрепляйте дета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боте с электроинстсрументом сохраняйте устойчивое положение и не пытайтесь дотянуться  до предметов, находящихся в недосягаем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йте случайного включения инструмен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ть руки в правильном положен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9920" y="250560"/>
            <a:ext cx="6172200" cy="19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8. Экономическое обоснование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638280" y="1928880"/>
            <a:ext cx="57610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траты на материал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сновая доска 110 х1000 х 12мм –28 ру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Шлифовальная шкурка  –20ру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лей ПВА – 15 рубл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орилка - 10 ру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:  73 ру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л я на уроках , поэтому затраты труда не учитываю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траты на электроэнергию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минут работы с электро лобзиком – 0,1 кВ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электроэнергии: 0,7 кВт/ч – 1,9ру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: 1 • 1,9 = 1,9руб – затраты на электроэнерги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бестоимос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аты на материалы + затраты на электроэнергию 73+1.9руб = 74,90 руб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9. Анализ получен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88640" y="183492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делал подарок деду . На мой взгляд  подарок получился очень оригинальный и красивый. Также я научился многим вещам, которые помогут мне в жизн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тому же подарок выглядит необычно и думаю, что он понравится дедушк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ое обоснова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поделка изготовлена из древесины , она экологичная и при утилизации вреда природе не нанесе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280" y="32364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компания создаёт любые детские игрушки. По этому можете обращаться по номер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800 555 35 3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C:\Users\14\Desktop\аргаргарыаргыва\IMG_20221111_121458.jpg"/>
          <p:cNvPicPr/>
          <p:nvPr/>
        </p:nvPicPr>
        <p:blipFill>
          <a:blip r:embed="rId1"/>
          <a:stretch/>
        </p:blipFill>
        <p:spPr>
          <a:xfrm>
            <a:off x="1341360" y="2050920"/>
            <a:ext cx="4524480" cy="60343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Содержание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404640" y="1893960"/>
            <a:ext cx="61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и обоснование проек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ормулировка задачи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тие идеи прое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стория Подставка под ру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нформация об издел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атериально – техническое обеспеч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Технология изготовления проек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Экономическое обоснование проек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Анализ полученных результат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1. Выбор и обоснование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оего дедушки был День Рождения и я задумался о выборе подарка. Но как говориться : «Лучший подарок сделан своими руками.». Поэтому я стал искать идеи для подарка. Идея сама родилась в голове, когда я увидел как у дедушки лежат на столе все ручк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2. Формулировка зад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подставка под руч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должна быть простой в использовании и в тоже время безопас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3. Развитие идеи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643120" y="3995640"/>
            <a:ext cx="1428840" cy="1362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авк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уч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Oval 7"/>
          <p:cNvSpPr/>
          <p:nvPr/>
        </p:nvSpPr>
        <p:spPr>
          <a:xfrm>
            <a:off x="0" y="6357960"/>
            <a:ext cx="1724040" cy="11541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Эстетич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4132440" y="4764240"/>
            <a:ext cx="26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Oval 11"/>
          <p:cNvSpPr/>
          <p:nvPr/>
        </p:nvSpPr>
        <p:spPr>
          <a:xfrm>
            <a:off x="4400640" y="6203880"/>
            <a:ext cx="1674720" cy="134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зготовл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 безопас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071960" y="5357880"/>
            <a:ext cx="538200" cy="9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18"/>
          <p:cNvSpPr/>
          <p:nvPr/>
        </p:nvSpPr>
        <p:spPr>
          <a:xfrm>
            <a:off x="2401920" y="6012000"/>
            <a:ext cx="1782720" cy="1728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Необходимы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Материа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3321000" y="5435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21"/>
          <p:cNvSpPr/>
          <p:nvPr/>
        </p:nvSpPr>
        <p:spPr>
          <a:xfrm flipH="1">
            <a:off x="1701360" y="5435640"/>
            <a:ext cx="917640" cy="9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285840" y="4214880"/>
            <a:ext cx="171432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Экономич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Oval 23"/>
          <p:cNvSpPr/>
          <p:nvPr/>
        </p:nvSpPr>
        <p:spPr>
          <a:xfrm>
            <a:off x="1714680" y="2357280"/>
            <a:ext cx="3071520" cy="1249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ачество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добство в использован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Line 24"/>
          <p:cNvSpPr/>
          <p:nvPr/>
        </p:nvSpPr>
        <p:spPr>
          <a:xfrm flipV="1">
            <a:off x="3286080" y="3571560"/>
            <a:ext cx="7164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Oval 25"/>
          <p:cNvSpPr/>
          <p:nvPr/>
        </p:nvSpPr>
        <p:spPr>
          <a:xfrm>
            <a:off x="4357800" y="4429080"/>
            <a:ext cx="2500200" cy="1071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Наличие оборуд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Line 19"/>
          <p:cNvSpPr/>
          <p:nvPr/>
        </p:nvSpPr>
        <p:spPr>
          <a:xfrm flipH="1">
            <a:off x="2000160" y="4786200"/>
            <a:ext cx="64296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тория подстав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учки</a:t>
            </a:r>
            <a:br>
              <a:rPr sz="2400"/>
            </a:br>
            <a:r>
              <a:rPr b="1" lang="ru-RU" sz="24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42720" y="2133360"/>
            <a:ext cx="61722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арабском словосочетание «игральные кости» звучит как «зар», от него и произошло слово «азар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древние «шулерские» кости были обнаружены на территории Южной Америки… Вероятность выигрыша Игральные кости в качестве задач и примеров нередко используются в научной литературе и учебниках по теории вероятно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5. Информация об издел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авка под ручки состоит из основания – сос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редназначена для того чтобы вставлять ручки и карандаш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6. Материально-техническое обеспеч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404640" y="1979640"/>
            <a:ext cx="604872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готовления Подставка под ручки мне потребуетс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риалы: доска из сосны толщиной 12 м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трументы и оборудование; верстак,  токарный станок, электрический лобзик, сверлильный станок, отвертки, плоскогубцы, клей ПВА и краск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0640" y="-360"/>
            <a:ext cx="61722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7. Технология изготовления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" y="826920"/>
          <a:ext cx="6594480" cy="8088480"/>
        </p:xfrm>
        <a:graphic>
          <a:graphicData uri="http://schemas.openxmlformats.org/drawingml/2006/table">
            <a:tbl>
              <a:tblPr/>
              <a:tblGrid>
                <a:gridCol w="573120"/>
                <a:gridCol w="644400"/>
                <a:gridCol w="2724120"/>
                <a:gridCol w="2652840"/>
              </a:tblGrid>
              <a:tr h="1095480">
                <a:tc rowSpan="7"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№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Дет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№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Последовательность выполн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работ(операций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Инструмент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приспособ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рать заготовку с учетом припусков на обработку. Нанести чертеж изделия на заготов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рстак, линейка, карандаш, угольни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метить  на доске  основание  и  остальные дета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рстак, линейка, карандаш,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авить  в сверлильный станок  свер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ерлильный стан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ерлом высверлить отверст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ерлильный стан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лой  вырезать заготов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ла, верста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4</cp:lastModifiedBy>
  <cp:lastPrinted>2012-11-26T08:19:03Z</cp:lastPrinted>
  <dcterms:modified xsi:type="dcterms:W3CDTF">2022-11-11T08:55:05Z</dcterms:modified>
  <cp:revision>96</cp:revision>
  <dc:subject/>
  <dc:title>PowerPoint Presentation</dc:title>
</cp:coreProperties>
</file>