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8EA-D8AC-4651-B767-6F5A9C2B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3EA-B437-43E4-B687-DBC3EFCA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C4C-0BEE-4620-B181-02D4DB8E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3BC-3547-4D4E-A5E6-DC51486E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4C2-FE30-470C-A665-8D7CF6EE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757-3F97-4811-A271-6592A855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C27C-A0DD-4CA7-BA30-98C2D66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9469-41F2-452F-8AF7-863510F6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052-7DF4-4C7E-89D0-28A27BB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2C03-E2C9-45D7-9C0C-7D86B5A1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B680-7205-44E5-BCCE-EC21474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B52-7805-4087-91D9-56D1725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B20F-B67D-45EA-B8D5-536541C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55B-D302-4A0D-973B-23683BB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6C95-6CF9-431C-A3AC-F34B92A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B1A-E878-4EEC-BFB8-F8031A7C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9E0-CA72-45B1-AA14-5DB48AB1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AB8-0A2A-4CCB-9D21-5C3F90E2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D06-04CD-4E94-9300-FC9A5F6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307-A4BA-4AE8-969B-50354FAE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85D-992F-40AD-89DB-0C97BA0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314-DAAA-4D7F-A6D1-F01520D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70E-034A-42E1-A200-00596DB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D1D-CC40-4531-942F-F0A632B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4f4f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4f4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4f4f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4f4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4f4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4f4fff"/>
          </a:solidFill>
          <a:ln w="9360">
            <a:solidFill>
              <a:srgbClr val="4f4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4f4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1614-8B03-4931-9423-4A5192D3F7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4f4fff"/>
          </a:solidFill>
          <a:ln w="9360">
            <a:solidFill>
              <a:srgbClr val="4f4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4f4f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4f4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4f4f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4f4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4f4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61F0-C6AE-4AD5-B128-C85D6A07E1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68374" y="68374"/>
                </a:moveTo>
                <a:lnTo>
                  <a:pt x="68374" y="6789626"/>
                </a:lnTo>
                <a:lnTo>
                  <a:pt x="9075626" y="6789626"/>
                </a:lnTo>
                <a:lnTo>
                  <a:pt x="9075626" y="68374"/>
                </a:lnTo>
                <a:lnTo>
                  <a:pt x="68374" y="68374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https://www.roslit.ru/upload/iblock/153/15340d7ebd3122fbd27303ad0f45082f.jpg"/>
          <p:cNvPicPr/>
          <p:nvPr/>
        </p:nvPicPr>
        <p:blipFill>
          <a:blip r:embed="rId2"/>
          <a:stretch/>
        </p:blipFill>
        <p:spPr>
          <a:xfrm>
            <a:off x="5908680" y="3108240"/>
            <a:ext cx="2330280" cy="29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go3.imgsmail.ru/imgpreview?key=5133ed48729a1de3&amp;mb=imgdb_preview_1347"/>
          <p:cNvPicPr/>
          <p:nvPr/>
        </p:nvPicPr>
        <p:blipFill>
          <a:blip r:embed="rId3"/>
          <a:stretch/>
        </p:blipFill>
        <p:spPr>
          <a:xfrm>
            <a:off x="3095640" y="3141720"/>
            <a:ext cx="2346480" cy="2954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299880" y="1560600"/>
            <a:ext cx="1468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9"/>
          <p:cNvSpPr/>
          <p:nvPr/>
        </p:nvSpPr>
        <p:spPr>
          <a:xfrm rot="2625600">
            <a:off x="2195280" y="1368000"/>
            <a:ext cx="1100160" cy="1057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96360" y="1357200"/>
            <a:ext cx="1098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4"/>
          <a:stretch/>
        </p:blipFill>
        <p:spPr>
          <a:xfrm>
            <a:off x="3343320" y="1434960"/>
            <a:ext cx="6048360" cy="1739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266760" y="21420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 6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5929200" y="160200"/>
            <a:ext cx="331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езент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Г. Прянико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ой школ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кузнецк, 20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9551880" cy="43210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ая соединительная линия 6"/>
          <p:cNvSpPr/>
          <p:nvPr/>
        </p:nvSpPr>
        <p:spPr>
          <a:xfrm>
            <a:off x="1116000" y="2060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3132000" y="2421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26920" y="285264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ая соединительная линия 13"/>
          <p:cNvSpPr/>
          <p:nvPr/>
        </p:nvSpPr>
        <p:spPr>
          <a:xfrm>
            <a:off x="4668840" y="321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68374" y="68374"/>
                </a:moveTo>
                <a:lnTo>
                  <a:pt x="68374" y="6789626"/>
                </a:lnTo>
                <a:lnTo>
                  <a:pt x="9075626" y="6789626"/>
                </a:lnTo>
                <a:lnTo>
                  <a:pt x="9075626" y="68374"/>
                </a:lnTo>
                <a:lnTo>
                  <a:pt x="68374" y="68374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2195640" y="1295280"/>
            <a:ext cx="66243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м работали на уро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знали на уро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очень важное условие существует для каждого      предложе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547640" y="17928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personality-blog.ru/wp-content/uploads/2016/02/1424094449_mjvnlwctgw20d0b7d0b0d0b4d0b0d0bdd0b8d0b5.jpg"/>
          <p:cNvPicPr/>
          <p:nvPr/>
        </p:nvPicPr>
        <p:blipFill>
          <a:blip r:embed="rId2"/>
          <a:stretch/>
        </p:blipFill>
        <p:spPr>
          <a:xfrm>
            <a:off x="1187280" y="1268280"/>
            <a:ext cx="7721640" cy="535968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" descr=""/>
          <p:cNvPicPr/>
          <p:nvPr/>
        </p:nvPicPr>
        <p:blipFill>
          <a:blip r:embed="rId3"/>
          <a:stretch/>
        </p:blipFill>
        <p:spPr>
          <a:xfrm>
            <a:off x="3286080" y="2670120"/>
            <a:ext cx="551664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1" descr="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2143080" y="654120"/>
            <a:ext cx="514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Primo"/>
              </a:rPr>
              <a:t>В </a:t>
            </a:r>
            <a:r>
              <a:rPr b="1" lang="ru-RU" sz="3900" spc="-1" strike="noStrike">
                <a:solidFill>
                  <a:srgbClr val="000000"/>
                </a:solidFill>
                <a:latin typeface="Classica One"/>
              </a:rPr>
              <a:t>осьм</a:t>
            </a:r>
            <a:r>
              <a:rPr b="1" lang="ru-RU" sz="4300" spc="-1" strike="noStrike">
                <a:solidFill>
                  <a:srgbClr val="000000"/>
                </a:solidFill>
                <a:latin typeface="Classica One"/>
              </a:rPr>
              <a:t>ое октябр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637360" y="1308240"/>
            <a:ext cx="415836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lassica One"/>
              </a:rPr>
              <a:t>лассная работа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664000" y="1284120"/>
            <a:ext cx="63000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Primo"/>
              </a:rPr>
              <a:t>К</a:t>
            </a:r>
            <a:r>
              <a:rPr b="0" lang="ru-RU" sz="4700" spc="-1" strike="noStrike">
                <a:solidFill>
                  <a:srgbClr val="000000"/>
                </a:solidFill>
                <a:latin typeface="Primo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V="1">
            <a:off x="2978280" y="1022040"/>
            <a:ext cx="35388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847800" y="2284560"/>
            <a:ext cx="8323200" cy="1044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667320" y="345744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б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-181080" y="56577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ли эти слова назвать предложением? Что необходимо сделать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олучилось предложение?. Запишите предложе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 думаете, какой теме будет посвящён наш у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раздел русского языка изучает предложени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854640" y="34574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932480" y="3457440"/>
            <a:ext cx="18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ет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5716080" y="345744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я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0" descr=""/>
          <p:cNvPicPr/>
          <p:nvPr/>
        </p:nvPicPr>
        <p:blipFill>
          <a:blip r:embed="rId3"/>
          <a:stretch/>
        </p:blipFill>
        <p:spPr>
          <a:xfrm>
            <a:off x="1530360" y="4711680"/>
            <a:ext cx="53402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L 0.01128 0.08541 E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0.3599 0.08541 E">
                                      <p:cBhvr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0139 L 0.30781 0.0794 E">
                                      <p:cBhvr>
                                        <p:cTn id="1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2135 0.08541 E">
                                      <p:cBhvr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520" y="-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99"/>
                </a:solidFill>
                <a:latin typeface="Verdana"/>
              </a:rPr>
              <a:t>Работа по учебни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56" descr="в группе"/>
          <p:cNvPicPr/>
          <p:nvPr/>
        </p:nvPicPr>
        <p:blipFill>
          <a:blip r:embed="rId1"/>
          <a:stretch/>
        </p:blipFill>
        <p:spPr>
          <a:xfrm>
            <a:off x="6435720" y="4581360"/>
            <a:ext cx="2708280" cy="2022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57"/>
          <p:cNvSpPr/>
          <p:nvPr/>
        </p:nvSpPr>
        <p:spPr>
          <a:xfrm>
            <a:off x="95400" y="47952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ойте учебники на стр. 57, прочтите тему нашего уро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чем мы будем сегодня работать ?Что вы знаете о предложени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ком или о чём говорится в предложени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? Какая это часть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является в предложени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овите действие этого предмета. На какой вопрос отвеч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ая это часть речи? Чем является в предложени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овите основу предло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s://go3.imgsmail.ru/imgpreview?key=5133ed48729a1de3&amp;mb=imgdb_preview_1347"/>
          <p:cNvPicPr/>
          <p:nvPr/>
        </p:nvPicPr>
        <p:blipFill>
          <a:blip r:embed="rId2"/>
          <a:stretch/>
        </p:blipFill>
        <p:spPr>
          <a:xfrm>
            <a:off x="7020000" y="952560"/>
            <a:ext cx="1849320" cy="23270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-487440" y="3514680"/>
            <a:ext cx="82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rimo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ад  поляной  летают  бабочки.</a:t>
            </a:r>
            <a:r>
              <a:rPr b="1" lang="ru-RU" sz="4000" spc="-1" strike="noStrike">
                <a:solidFill>
                  <a:srgbClr val="000000"/>
                </a:solidFill>
                <a:latin typeface="Classica On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ая соединительная линия 161"/>
          <p:cNvSpPr/>
          <p:nvPr/>
        </p:nvSpPr>
        <p:spPr>
          <a:xfrm flipV="1">
            <a:off x="684360" y="3860640"/>
            <a:ext cx="2095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>
            <a:off x="5148360" y="414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ая соединительная линия 167"/>
          <p:cNvSpPr/>
          <p:nvPr/>
        </p:nvSpPr>
        <p:spPr>
          <a:xfrm>
            <a:off x="3348000" y="414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ая соединительная линия 168"/>
          <p:cNvSpPr/>
          <p:nvPr/>
        </p:nvSpPr>
        <p:spPr>
          <a:xfrm>
            <a:off x="3348000" y="434664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Левая круглая скобка 9"/>
          <p:cNvSpPr/>
          <p:nvPr/>
        </p:nvSpPr>
        <p:spPr>
          <a:xfrm rot="16200000">
            <a:off x="4949640" y="2584440"/>
            <a:ext cx="108000" cy="3708360"/>
          </a:xfrm>
          <a:custGeom>
            <a:avLst/>
            <a:gdLst>
              <a:gd name="textAreaLeft" fmla="*/ 31680 w 108000"/>
              <a:gd name="textAreaRight" fmla="*/ 108360 w 108000"/>
              <a:gd name="textAreaTop" fmla="*/ 4320 h 3708360"/>
              <a:gd name="textAreaBottom" fmla="*/ 370404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"/>
                  <a:pt x="0" y="52"/>
                </a:cubicBezTo>
                <a:lnTo>
                  <a:pt x="0" y="21548"/>
                </a:lnTo>
                <a:cubicBezTo>
                  <a:pt x="0" y="21574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-366840" y="692280"/>
            <a:ext cx="9541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190440" y="1773360"/>
            <a:ext cx="897264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intelkot.ru/upload/13247.jpg"/>
          <p:cNvPicPr/>
          <p:nvPr/>
        </p:nvPicPr>
        <p:blipFill>
          <a:blip r:embed="rId2"/>
          <a:stretch/>
        </p:blipFill>
        <p:spPr>
          <a:xfrm>
            <a:off x="7164360" y="4500720"/>
            <a:ext cx="16048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20520" y="189000"/>
            <a:ext cx="9118800" cy="360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s://intelkot.ru/upload/13247.jpg"/>
          <p:cNvPicPr/>
          <p:nvPr/>
        </p:nvPicPr>
        <p:blipFill>
          <a:blip r:embed="rId2"/>
          <a:stretch/>
        </p:blipFill>
        <p:spPr>
          <a:xfrm>
            <a:off x="7164360" y="4005360"/>
            <a:ext cx="16048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250920" y="620640"/>
            <a:ext cx="9099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150"/>
                </a:solidFill>
                <a:latin typeface="Times New Roman"/>
              </a:rPr>
              <a:t>Алгорит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1.Ответь на вопрос: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О 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ил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о чё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говори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в предложении? Найд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подлежащ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2.Проверь, отвечает ли слово (подлежащее)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вопросы: кто? или ч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3.Ответь на вопрос: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Что говор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подлежащем? Найд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сказуе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4.Проверь, отвечает ли слово (сказуемое)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,Bold"/>
              </a:rPr>
              <a:t>вопросы: </a:t>
            </a: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что делает? что сделал? что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,Bold"/>
              </a:rPr>
              <a:t>дела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https://intelkot.ru/upload/13247.jpg"/>
          <p:cNvPicPr/>
          <p:nvPr/>
        </p:nvPicPr>
        <p:blipFill>
          <a:blip r:embed="rId1"/>
          <a:stretch/>
        </p:blipFill>
        <p:spPr>
          <a:xfrm>
            <a:off x="7524720" y="5207040"/>
            <a:ext cx="125100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864640" cy="3311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4613760" y="112536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пиши основу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8"/>
          <p:cNvSpPr/>
          <p:nvPr/>
        </p:nvSpPr>
        <p:spPr>
          <a:xfrm>
            <a:off x="1187280" y="206064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13"/>
          <p:cNvSpPr/>
          <p:nvPr/>
        </p:nvSpPr>
        <p:spPr>
          <a:xfrm>
            <a:off x="2268360" y="4508640"/>
            <a:ext cx="15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285480" y="3935520"/>
            <a:ext cx="89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(кто?)</a:t>
            </a:r>
            <a:r>
              <a:rPr b="0" lang="ru-RU" sz="4800" spc="-1" strike="noStrike">
                <a:solidFill>
                  <a:srgbClr val="000000"/>
                </a:solidFill>
                <a:latin typeface="Primo"/>
              </a:rPr>
              <a:t>М </a:t>
            </a: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ама  (что сделала?) купил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 flipV="1">
            <a:off x="2700360" y="4338720"/>
            <a:ext cx="2160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8"/>
          <p:cNvSpPr/>
          <p:nvPr/>
        </p:nvSpPr>
        <p:spPr>
          <a:xfrm>
            <a:off x="1187280" y="2492280"/>
            <a:ext cx="32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1"/>
          <p:cNvSpPr/>
          <p:nvPr/>
        </p:nvSpPr>
        <p:spPr>
          <a:xfrm>
            <a:off x="7164360" y="4508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23"/>
          <p:cNvSpPr/>
          <p:nvPr/>
        </p:nvSpPr>
        <p:spPr>
          <a:xfrm>
            <a:off x="7164360" y="4581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5"/>
          <p:cNvSpPr/>
          <p:nvPr/>
        </p:nvSpPr>
        <p:spPr>
          <a:xfrm>
            <a:off x="-189360" y="4630680"/>
            <a:ext cx="97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(кто?)птицы  (что делают?) прощаютс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26"/>
          <p:cNvSpPr/>
          <p:nvPr/>
        </p:nvSpPr>
        <p:spPr>
          <a:xfrm>
            <a:off x="1876320" y="515772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27"/>
          <p:cNvSpPr/>
          <p:nvPr/>
        </p:nvSpPr>
        <p:spPr>
          <a:xfrm>
            <a:off x="6588000" y="5146560"/>
            <a:ext cx="208764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ая соединительная линия 29"/>
          <p:cNvSpPr/>
          <p:nvPr/>
        </p:nvSpPr>
        <p:spPr>
          <a:xfrm>
            <a:off x="6603840" y="5315040"/>
            <a:ext cx="208764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-146160" y="5373720"/>
            <a:ext cx="86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(кто?)</a:t>
            </a:r>
            <a:r>
              <a:rPr b="1" lang="ru-RU" sz="3600" spc="-1" strike="noStrike">
                <a:solidFill>
                  <a:srgbClr val="000000"/>
                </a:solidFill>
                <a:latin typeface="English Script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лёша  (что сделал?) принёс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31"/>
          <p:cNvSpPr/>
          <p:nvPr/>
        </p:nvSpPr>
        <p:spPr>
          <a:xfrm>
            <a:off x="1187280" y="285264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33"/>
          <p:cNvSpPr/>
          <p:nvPr/>
        </p:nvSpPr>
        <p:spPr>
          <a:xfrm>
            <a:off x="1876320" y="5877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34"/>
          <p:cNvSpPr/>
          <p:nvPr/>
        </p:nvSpPr>
        <p:spPr>
          <a:xfrm>
            <a:off x="6480000" y="58532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ая соединительная линия 35"/>
          <p:cNvSpPr/>
          <p:nvPr/>
        </p:nvSpPr>
        <p:spPr>
          <a:xfrm>
            <a:off x="6480000" y="601992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36"/>
          <p:cNvSpPr/>
          <p:nvPr/>
        </p:nvSpPr>
        <p:spPr>
          <a:xfrm>
            <a:off x="1235160" y="321300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-132120" y="6039000"/>
            <a:ext cx="88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(что?)тропинка  (что делает?)ведё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ая соединительная линия 38"/>
          <p:cNvSpPr/>
          <p:nvPr/>
        </p:nvSpPr>
        <p:spPr>
          <a:xfrm>
            <a:off x="1763640" y="6524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40"/>
          <p:cNvSpPr/>
          <p:nvPr/>
        </p:nvSpPr>
        <p:spPr>
          <a:xfrm>
            <a:off x="6773760" y="652464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ая соединительная линия 41"/>
          <p:cNvSpPr/>
          <p:nvPr/>
        </p:nvSpPr>
        <p:spPr>
          <a:xfrm>
            <a:off x="6773760" y="668484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42"/>
          <p:cNvSpPr/>
          <p:nvPr/>
        </p:nvSpPr>
        <p:spPr>
          <a:xfrm>
            <a:off x="1171440" y="3573360"/>
            <a:ext cx="239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трелка вниз 44"/>
          <p:cNvSpPr/>
          <p:nvPr/>
        </p:nvSpPr>
        <p:spPr>
          <a:xfrm>
            <a:off x="8820000" y="6308640"/>
            <a:ext cx="223920" cy="5493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a3b2c1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9"/>
          <p:cNvSpPr/>
          <p:nvPr/>
        </p:nvSpPr>
        <p:spPr>
          <a:xfrm>
            <a:off x="-360" y="333360"/>
            <a:ext cx="82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(кто?)</a:t>
            </a:r>
            <a:r>
              <a:rPr b="1" lang="ru-RU" sz="3600" spc="-1" strike="noStrike">
                <a:solidFill>
                  <a:srgbClr val="000000"/>
                </a:solidFill>
                <a:latin typeface="Primo"/>
              </a:rPr>
              <a:t>Д </a:t>
            </a:r>
            <a:r>
              <a:rPr b="1" lang="ru-RU" sz="3600" spc="-1" strike="noStrike">
                <a:solidFill>
                  <a:srgbClr val="000000"/>
                </a:solidFill>
                <a:latin typeface="Classica One"/>
              </a:rPr>
              <a:t>има  (что сделал?)реши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0"/>
          <p:cNvSpPr/>
          <p:nvPr/>
        </p:nvSpPr>
        <p:spPr>
          <a:xfrm flipV="1">
            <a:off x="2268360" y="579240"/>
            <a:ext cx="209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1"/>
          <p:cNvSpPr/>
          <p:nvPr/>
        </p:nvSpPr>
        <p:spPr>
          <a:xfrm>
            <a:off x="1979640" y="83664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13"/>
          <p:cNvSpPr/>
          <p:nvPr/>
        </p:nvSpPr>
        <p:spPr>
          <a:xfrm>
            <a:off x="6156360" y="809640"/>
            <a:ext cx="1584360" cy="2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5"/>
          <p:cNvSpPr/>
          <p:nvPr/>
        </p:nvSpPr>
        <p:spPr>
          <a:xfrm>
            <a:off x="6084720" y="97956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7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208720" cy="44989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8" descr=""/>
          <p:cNvPicPr/>
          <p:nvPr/>
        </p:nvPicPr>
        <p:blipFill>
          <a:blip r:embed="rId2"/>
          <a:stretch/>
        </p:blipFill>
        <p:spPr>
          <a:xfrm>
            <a:off x="2170080" y="1285920"/>
            <a:ext cx="54309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50:02Z</dcterms:created>
  <dc:creator/>
  <dc:description/>
  <dc:language>en-US</dc:language>
  <cp:lastModifiedBy>User</cp:lastModifiedBy>
  <dcterms:modified xsi:type="dcterms:W3CDTF">2022-11-19T03:30:48Z</dcterms:modified>
  <cp:revision>452</cp:revision>
  <dc:subject/>
  <dc:title>PowerPoint Presentation</dc:title>
</cp:coreProperties>
</file>