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png" ContentType="image/png"/>
  <Override PartName="/ppt/media/image16.gif" ContentType="image/gif"/>
  <Override PartName="/ppt/media/image2.png" ContentType="image/png"/>
  <Override PartName="/ppt/media/image15.jpeg" ContentType="image/jpeg"/>
  <Override PartName="/ppt/media/image14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wmf" ContentType="image/x-wmf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AB92-82A4-4E1B-8735-7511C8B66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8F00-4BBD-4E28-901E-77CFAF9E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B3D4-8896-4DCF-954D-42D6E3652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9552-E4F3-4DA1-9833-EA7029A6D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D413-C1B6-4780-B31F-F6AB401DE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6500-AA3F-4500-A237-A34D9761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B33D8-3677-44B5-9C8B-AF901C1D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E599-07B7-46A4-9A7D-6AD4B4CE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CB438-A279-4431-8C6C-7DB0167E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BDE4-0EDF-4DB6-8D78-299B938D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A87B-7E2C-4D19-96B9-632B2510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4E7B-0847-4AF8-A405-963B2CD3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C7F0-F844-4038-9EE4-12B2F960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5CBA-5CAC-4359-8324-11A9A016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97F2-E298-4DB7-AA5C-B413E856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B21C-549B-466F-A90B-1A61ABB4B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24A1-822C-49C7-A09E-FFEB62BAA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4107-6060-4A2D-AAA7-4DA0E0528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F029-0F16-4A00-89C3-B01D8C0D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8528-241D-4D89-A8AA-0A07BBCB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3A0F-5042-4A5E-A0BE-85551025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A084-C1DB-4986-906E-4DCBC7ED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1A01-A449-4667-A887-8B4C1118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820F-0597-4946-97C1-6B142DBF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E998-1282-4674-915F-9DDEF8B9E092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9973-8C33-4E8B-851C-6E0B362EEF7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14360" y="920880"/>
            <a:ext cx="8400960" cy="2498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85840" y="5500440"/>
            <a:ext cx="300024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полнил Бердников Паве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г класс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инушка тонкая (лат. Paxillus involutus) или просто Свинушка — гриб семейства свинушковых. До 1981 года этот гриб считался условно съедобным и относился к 4-й категории по пищевым качествам. В настоящее время отнесён к ядовитым, хотя многие грибники не согласны с этим утверждени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VAIO\Desktop\111.jpg"/>
          <p:cNvPicPr/>
          <p:nvPr/>
        </p:nvPicPr>
        <p:blipFill>
          <a:blip r:embed="rId2"/>
          <a:stretch/>
        </p:blipFill>
        <p:spPr>
          <a:xfrm>
            <a:off x="785880" y="114300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У молодых красных мухоморов шляпка шаровидной формы, со временем приобретающая форму плоского, а иногда вогнутого блюдца. Диаметр шляпки составляет от 8 до 20 см, редко достигает 25 см. Блестящая кожица обычно ярко-оранжевого или красного цвета разной степени интенсивности, часто бывает покрыта липким, слизистым секретом. В Северной Америке встречаются разновидности красного мухомора, имеющие белую или желтую шляпку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оверхность шляпки усыпана наслоениями бородавчатых чешуйчатых хлопьев белого цвета — остатками покрывала, защищающего плодовое тело молодых грибов. У старых мухоморов эти характерные наросты могут смываться дождем, у молодых нередко облетают. Также существует разновидность красного мухомора, у которой нет хлопьев 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C:\Users\VAIO\Desktop\ррррррррррррррррррррррррррррррррррррррррррррррррррррррррррррр.jpg"/>
          <p:cNvPicPr/>
          <p:nvPr/>
        </p:nvPicPr>
        <p:blipFill>
          <a:blip r:embed="rId2"/>
          <a:stretch/>
        </p:blipFill>
        <p:spPr>
          <a:xfrm>
            <a:off x="0" y="1928880"/>
            <a:ext cx="91440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2" descr="C:\Users\VAIO\Desktop\spasibo-za-vnimanie-animaciya.jpg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2" descr="C:\Users\VAIO\Desktop\эээ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пулярный и вкусный съедобный гриб (2-й категории) — особенно поздней осенью, когда сходят другие болетовые. Сине-голубая окраска белой мякоти исчезает при приготовлении. Используется разнообразно: свежим (в супах и жарком после отваривания 15 минут), соленым и маринованным, сушеным (обретает приятный светло-желтый цвет) и замороженны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9" name="Object 2" descr=""/>
          <p:cNvPicPr/>
          <p:nvPr/>
        </p:nvPicPr>
        <p:blipFill>
          <a:blip r:embed="rId2"/>
          <a:stretch/>
        </p:blipFill>
        <p:spPr>
          <a:xfrm>
            <a:off x="10215720" y="2928960"/>
            <a:ext cx="888840" cy="685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:\Users\VAIO\Desktop\ббб.jpg"/>
          <p:cNvPicPr/>
          <p:nvPr/>
        </p:nvPicPr>
        <p:blipFill>
          <a:blip r:embed="rId3"/>
          <a:stretch/>
        </p:blipFill>
        <p:spPr>
          <a:xfrm>
            <a:off x="0" y="1643040"/>
            <a:ext cx="91440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Шляпка конической формы, коричневая, маслянистая на ощупь из-за покрывающей её слизи. Внутренняя часть шляпки желтоватая, у ранних грибов покрыта светлой сеткой, которая со временем прорывается. Мякоть нежная и светлая, ближе к ножке имеет буроватый оттенок. Ножка тонкая, светло-желтая. Маслята обычно произрастают семействами. Их можно отыскать в сосновом бору с июля по сентябрь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точник: https://ferma.expert/griby/sedobnye-griby/ © Ферма.expe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VAIO\Desktop\ххх.jpg"/>
          <p:cNvPicPr/>
          <p:nvPr/>
        </p:nvPicPr>
        <p:blipFill>
          <a:blip r:embed="rId2"/>
          <a:stretch/>
        </p:blipFill>
        <p:spPr>
          <a:xfrm>
            <a:off x="928800" y="1554120"/>
            <a:ext cx="707220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личается выпуклой широкой шляпкой оранжево-красного цвета. Мякоть пористая, светлая, но при надломе становится темнее. Ножка плотная, зауженная сверху, покрыта тёмными чешуйками. Отыскать гриб можно в смешанном лесу, под осинами или возле сосен. Урожайность наблюдается в период с августа по сентябрь. 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VAIO\Desktop\дд.jpg"/>
          <p:cNvPicPr/>
          <p:nvPr/>
        </p:nvPicPr>
        <p:blipFill>
          <a:blip r:embed="rId2"/>
          <a:stretch/>
        </p:blipFill>
        <p:spPr>
          <a:xfrm>
            <a:off x="500040" y="1428840"/>
            <a:ext cx="81439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2" descr="C:\Users\VAIO\Desktop\ммм.jpg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29T06:37:09Z</dcterms:created>
  <dc:creator>VAIO</dc:creator>
  <dc:description/>
  <dc:language>en-US</dc:language>
  <cp:lastModifiedBy>VAIO</cp:lastModifiedBy>
  <dcterms:modified xsi:type="dcterms:W3CDTF">2019-04-29T07:23:52Z</dcterms:modified>
  <cp:revision>2</cp:revision>
  <dc:subject/>
  <dc:title>Съедобные и несъедобные грибы</dc:title>
</cp:coreProperties>
</file>