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42F-7F41-4DC5-9AD0-0F79E980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245-BA54-475B-B704-1427F89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906-BF4D-40F5-AC2A-343BE225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480-D376-4B4C-BF70-3FC8CF0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F99-04DF-42A1-98F4-E3ACC2B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A28-D358-4064-9DFD-097BD08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6CD-3F26-4E55-BE2B-1C46295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D69-D6A4-4471-A0CA-AEDC250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039-74E2-4AC9-9AEC-A4AF5504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736-AD6D-44FC-B2B1-0393E1B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A7D-AEF1-45A8-B787-44A4D1D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5BB-B823-4ABD-89FA-67C4EB20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06A-9FBD-47C7-916B-94D93E177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437000"/>
            <a:ext cx="5977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500" spc="-1" strike="noStrike">
                <a:solidFill>
                  <a:srgbClr val="262673"/>
                </a:solidFill>
                <a:latin typeface="Comic Sans MS"/>
              </a:rPr>
              <a:t>Step</a:t>
            </a:r>
            <a:r>
              <a:rPr b="0" lang="ru-RU" sz="11500" spc="-1" strike="noStrike">
                <a:solidFill>
                  <a:srgbClr val="262673"/>
                </a:solidFill>
                <a:latin typeface="Comic Sans MS"/>
              </a:rPr>
              <a:t> </a:t>
            </a:r>
            <a:r>
              <a:rPr b="0" lang="en-US" sz="11500" spc="-1" strike="noStrike">
                <a:solidFill>
                  <a:srgbClr val="262673"/>
                </a:solidFill>
                <a:latin typeface="Comic Sans MS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6960" y="1268280"/>
            <a:ext cx="8290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omic Sans MS"/>
              </a:rPr>
              <a:t>Посмотри вокруг и скажи, какого цвета предметы, которые ты можешь назвать по-англий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omic Sans MS"/>
              </a:rPr>
              <a:t>Скажи, какие цвета тебе нравятся больше всег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84400" y="3573360"/>
            <a:ext cx="30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like __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ull-color-watercolor-palette-with-paint-brush-vector-19396351"/>
          <p:cNvPicPr/>
          <p:nvPr/>
        </p:nvPicPr>
        <p:blipFill>
          <a:blip r:embed="rId1"/>
          <a:stretch/>
        </p:blipFill>
        <p:spPr>
          <a:xfrm>
            <a:off x="5197320" y="2565360"/>
            <a:ext cx="3551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кажи, какого цвета обычно бывают эти предметы и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2560" y="2349360"/>
            <a:ext cx="19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98040" y="4546440"/>
            <a:ext cx="174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020920" y="2492280"/>
            <a:ext cx="13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20720" y="4581360"/>
            <a:ext cx="27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Comic Sans MS"/>
              </a:rPr>
              <a:t>Что перепутал художник на этой картин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73"/>
                </a:solidFill>
                <a:latin typeface="Comic Sans MS"/>
              </a:rPr>
              <a:t>Учебник</a:t>
            </a:r>
            <a:br>
              <a:rPr sz="6000"/>
            </a:br>
            <a:r>
              <a:rPr b="0" lang="ru-RU" sz="6000" spc="-1" strike="noStrike">
                <a:solidFill>
                  <a:srgbClr val="262673"/>
                </a:solidFill>
                <a:latin typeface="Comic Sans MS"/>
              </a:rPr>
              <a:t>страница </a:t>
            </a:r>
            <a:r>
              <a:rPr b="0" lang="en-US" sz="6000" spc="-1" strike="noStrike">
                <a:solidFill>
                  <a:srgbClr val="262673"/>
                </a:solidFill>
                <a:latin typeface="Comic Sans MS"/>
              </a:rPr>
              <a:t>5</a:t>
            </a:r>
            <a:r>
              <a:rPr b="0" lang="ru-RU" sz="6000" spc="-1" strike="noStrike">
                <a:solidFill>
                  <a:srgbClr val="262673"/>
                </a:solidFill>
                <a:latin typeface="Comic Sans MS"/>
              </a:rPr>
              <a:t>6</a:t>
            </a:r>
            <a:br>
              <a:rPr sz="6000"/>
            </a:br>
            <a:r>
              <a:rPr b="0" lang="ru-RU" sz="6000" spc="-1" strike="noStrike">
                <a:solidFill>
                  <a:srgbClr val="262673"/>
                </a:solidFill>
                <a:latin typeface="Comic Sans MS"/>
              </a:rPr>
              <a:t>№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73"/>
                </a:solidFill>
                <a:latin typeface="Comic Sans MS"/>
              </a:rPr>
              <a:t>Учебник</a:t>
            </a:r>
            <a:br>
              <a:rPr sz="5400"/>
            </a:br>
            <a:r>
              <a:rPr b="0" lang="ru-RU" sz="5400" spc="-1" strike="noStrike">
                <a:solidFill>
                  <a:srgbClr val="262673"/>
                </a:solidFill>
                <a:latin typeface="Comic Sans MS"/>
              </a:rPr>
              <a:t>страница </a:t>
            </a:r>
            <a:r>
              <a:rPr b="0" lang="en-US" sz="5400" spc="-1" strike="noStrike">
                <a:solidFill>
                  <a:srgbClr val="262673"/>
                </a:solidFill>
                <a:latin typeface="Comic Sans MS"/>
              </a:rPr>
              <a:t>54</a:t>
            </a:r>
            <a:br>
              <a:rPr sz="5400"/>
            </a:br>
            <a:r>
              <a:rPr b="0" lang="ru-RU" sz="5400" spc="-1" strike="noStrike">
                <a:solidFill>
                  <a:srgbClr val="262673"/>
                </a:solidFill>
                <a:latin typeface="Comic Sans MS"/>
              </a:rPr>
              <a:t>№ </a:t>
            </a:r>
            <a:r>
              <a:rPr b="0" lang="en-US" sz="5400" spc="-1" strike="noStrike">
                <a:solidFill>
                  <a:srgbClr val="262673"/>
                </a:solidFill>
                <a:latin typeface="Comic Sans MS"/>
              </a:rPr>
              <a:t>1</a:t>
            </a:r>
            <a:br>
              <a:rPr sz="5400"/>
            </a:br>
            <a:r>
              <a:rPr b="0" lang="ru-RU" sz="5400" spc="-1" strike="noStrike">
                <a:solidFill>
                  <a:srgbClr val="262673"/>
                </a:solidFill>
                <a:latin typeface="Comic Sans MS"/>
              </a:rPr>
              <a:t>(аудирование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39640" y="4221000"/>
            <a:ext cx="7920000" cy="192276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648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ne and Mary are sisters. They have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use in a littl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ngl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wn. Their house is not very big. They hav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drooms. Jane an Mary lik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ir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They like to fee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parrow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You can see these little birds by their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9280" y="2012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mic Sans MS"/>
              </a:rPr>
              <a:t>Rea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29120" y="1338120"/>
            <a:ext cx="64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, fern, birch, girl, nurse,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95920" y="238284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lip, you, student, pupil, 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10040" y="343368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te, night, bike, fine, sky, fly,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55440" y="444168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cow, how, brown, town,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079720" y="531180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, slow, yellow, window, narrow, sparrow, rain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250920" y="1127160"/>
            <a:ext cx="144144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[ɜ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208080" y="2246400"/>
            <a:ext cx="1484280" cy="8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ju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222120" y="3284640"/>
            <a:ext cx="1484280" cy="8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ai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208080" y="4284720"/>
            <a:ext cx="1484280" cy="89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ʊ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208080" y="5311800"/>
            <a:ext cx="1484280" cy="8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əʊ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Rea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0640" y="1413000"/>
            <a:ext cx="271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een bi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rown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u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54040" y="2781360"/>
            <a:ext cx="304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ack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yellow l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d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772240" y="4797360"/>
            <a:ext cx="29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ink 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urple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urple tu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668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Rea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1197000"/>
            <a:ext cx="8496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have low windows in our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have narrow rooms in their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e has five little chic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can see the rainb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Назови цвета, которые ты зна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ull-color-watercolor-palette-with-paint-brush-vector-19396351"/>
          <p:cNvPicPr/>
          <p:nvPr/>
        </p:nvPicPr>
        <p:blipFill>
          <a:blip r:embed="rId1"/>
          <a:stretch/>
        </p:blipFill>
        <p:spPr>
          <a:xfrm>
            <a:off x="1547640" y="1484280"/>
            <a:ext cx="662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оотнеси цвета с их наз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1125360"/>
            <a:ext cx="8640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ck, red, yellow, br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, pink, blue,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469800" y="2638440"/>
            <a:ext cx="720720" cy="388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1614600" y="2638440"/>
            <a:ext cx="720720" cy="3887640"/>
          </a:xfrm>
          <a:prstGeom prst="rect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2782800" y="2638440"/>
            <a:ext cx="720720" cy="3887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3927600" y="2629080"/>
            <a:ext cx="720720" cy="38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5014800" y="2629080"/>
            <a:ext cx="719280" cy="3887640"/>
          </a:xfrm>
          <a:prstGeom prst="rect">
            <a:avLst/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6016680" y="2644920"/>
            <a:ext cx="720720" cy="3889080"/>
          </a:xfrm>
          <a:prstGeom prst="rect">
            <a:avLst/>
          </a:prstGeom>
          <a:solidFill>
            <a:srgbClr val="96001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7024680" y="2665440"/>
            <a:ext cx="720720" cy="3889440"/>
          </a:xfrm>
          <a:prstGeom prst="rect">
            <a:avLst/>
          </a:prstGeom>
          <a:solidFill>
            <a:srgbClr val="7030a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8099280" y="2665440"/>
            <a:ext cx="720720" cy="3889440"/>
          </a:xfrm>
          <a:prstGeom prst="rect">
            <a:avLst/>
          </a:prstGeom>
          <a:solidFill>
            <a:srgbClr val="00b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611280" y="615960"/>
            <a:ext cx="2160360" cy="1152360"/>
          </a:xfrm>
          <a:prstGeom prst="rect">
            <a:avLst/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433680" y="615960"/>
            <a:ext cx="216072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6300720" y="615960"/>
            <a:ext cx="2158920" cy="1152360"/>
          </a:xfrm>
          <a:prstGeom prst="rect">
            <a:avLst/>
          </a:prstGeom>
          <a:solidFill>
            <a:srgbClr val="2d2d8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611280" y="3645000"/>
            <a:ext cx="2160360" cy="115236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433680" y="3645000"/>
            <a:ext cx="2160720" cy="1152360"/>
          </a:xfrm>
          <a:prstGeom prst="rect">
            <a:avLst/>
          </a:prstGeom>
          <a:solidFill>
            <a:srgbClr val="502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6372360" y="3645000"/>
            <a:ext cx="2160360" cy="1152360"/>
          </a:xfrm>
          <a:prstGeom prst="rect">
            <a:avLst/>
          </a:prstGeom>
          <a:solidFill>
            <a:srgbClr val="4040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900000" y="193680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637080" y="192888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6120000" y="1936800"/>
            <a:ext cx="26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rk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360" y="4965840"/>
            <a:ext cx="306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rk 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3127320" y="493884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rk 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453000" y="493884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rk g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6000" y="189000"/>
          <a:ext cx="8712000" cy="6545160"/>
        </p:xfrm>
        <a:graphic>
          <a:graphicData uri="http://schemas.openxmlformats.org/drawingml/2006/table">
            <a:tbl>
              <a:tblPr/>
              <a:tblGrid>
                <a:gridCol w="2903400"/>
                <a:gridCol w="2905200"/>
                <a:gridCol w="2903400"/>
              </a:tblGrid>
              <a:tr h="68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нскрип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grei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wait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a:k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k blu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a:k blu: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но-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k gree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a:k gri:n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но-зелё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k brow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a:k br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ʊn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но-коричн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k gre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da:k grei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но-се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ɒrindʒ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8:50:57Z</dcterms:created>
  <dc:creator>Артюнина</dc:creator>
  <dc:description/>
  <dc:language>en-US</dc:language>
  <cp:lastModifiedBy>Антон</cp:lastModifiedBy>
  <dcterms:modified xsi:type="dcterms:W3CDTF">2022-11-19T20:09:54Z</dcterms:modified>
  <cp:revision>17</cp:revision>
  <dc:subject/>
  <dc:title>Слайд 1</dc:title>
</cp:coreProperties>
</file>