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015-B4E9-40DD-8BCF-95883902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43D-3EF8-4F2E-9182-4C98FA9C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3AD-BCE4-497D-94DE-49EFA345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D54-9934-4070-B9CC-109984CC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075-8903-4BE1-BEED-1134C82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21B-3025-4FB3-9CA8-83D5730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BFE-2CD2-4681-82C0-5B9C658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51F-392A-4BBE-9C74-2DA7652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2F5-489B-4308-84B6-CB7BD2D7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68B-3951-4E27-8011-B21753F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9BC-FA24-43D2-A1D9-7B17074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5C9-20DF-4B69-B02B-99D7422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3BB0-B805-4F14-9650-81497B23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1539720"/>
            <a:ext cx="82072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Школа Свето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зентация НОД в старшей группе компенсирующей направленности для детей с тяжелыми нарушениям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ДОУ «Центр развития ребенка -детский сад № 33 «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тникова В.Н., 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всюкевич Н. И.,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1439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Дорожный знак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Дорожный знак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На дороге живо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7578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Дорожный знак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Стоянка разреш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разрешающие дорожные знаки в картинках Картинки - онлайн"/>
          <p:cNvPicPr/>
          <p:nvPr/>
        </p:nvPicPr>
        <p:blipFill>
          <a:blip r:embed="rId1"/>
          <a:stretch/>
        </p:blipFill>
        <p:spPr>
          <a:xfrm>
            <a:off x="2484360" y="2276640"/>
            <a:ext cx="43182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Приглашаю всех в автогоро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1341360"/>
            <a:ext cx="26287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Письмо от Свето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равствуйте,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годня мой знакомый 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аша перебегал улицу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расный сигнал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 успешно обуча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моей школе и должны зн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какой сигнал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еходят у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торите правила дорож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у Вас в своей школ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8480" y="1484280"/>
            <a:ext cx="30448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Программное 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 Познакомить детей с историей возникновения светофора. Систематизировать знания о правилах дорожного движения и дорожных зна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чить находить правильный выход из проблем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 Активизировать в словаре названия различных дорожных знаков. Совершенствовать умение отвечать на вопрос полным предл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 Развивать логическое мышление, зрительную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 Воспитывать желание знать правила дорожного движения и соблюдать их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иветствую Вас в школе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Советы психолога Родители и дети как участники дорожного движения"/>
          <p:cNvPicPr/>
          <p:nvPr/>
        </p:nvPicPr>
        <p:blipFill>
          <a:blip r:embed="rId1"/>
          <a:stretch/>
        </p:blipFill>
        <p:spPr>
          <a:xfrm>
            <a:off x="2843280" y="1628640"/>
            <a:ext cx="287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Первый светофор в Лонд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82680" y="1600200"/>
            <a:ext cx="47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ервые светофор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24160" cy="431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3243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Кто нарушил правила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959280" cy="52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3962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Кто правильно обходит автоб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1200240"/>
            <a:ext cx="3973680" cy="28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314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Знак «Внимание, де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182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3T15:17:00Z</dcterms:created>
  <dc:creator>ВАЛЕНТИНА</dc:creator>
  <dc:description/>
  <dc:language>en-US</dc:language>
  <cp:lastModifiedBy>ВАЛЕНТИНА</cp:lastModifiedBy>
  <dcterms:modified xsi:type="dcterms:W3CDTF">2015-10-20T16:14:56Z</dcterms:modified>
  <cp:revision>26</cp:revision>
  <dc:subject/>
  <dc:title>Презентация интегрированного заня</dc:title>
</cp:coreProperties>
</file>