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9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804-748D-41BB-A8C3-75104B2E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751-DF0B-404C-83A2-438B4774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8385-A80D-442E-B1F5-2FEFBAB4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FFA-70AD-4992-9CE1-FDB1516B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DD4-3621-4865-BB90-2347ADF6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FAE-AFAB-4B7B-B6A5-F6520260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AD1-8E27-40F5-9285-69F04011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C36-95D3-4921-8C16-A6DEAC7E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A0D-0D2F-4A32-A333-F6D62D78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DE1-1787-42DB-ACA0-7F8A1C0A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BB1-0AA0-4221-88CD-689CDE18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725-06F8-4BEE-9B01-251E55B7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6972-D49D-42F5-B4D4-9A39C17E1A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19.xml"/><Relationship Id="rId10" Type="http://schemas.openxmlformats.org/officeDocument/2006/relationships/slide" Target="slide21.xml"/><Relationship Id="rId11" Type="http://schemas.openxmlformats.org/officeDocument/2006/relationships/slide" Target="slide23.xml"/><Relationship Id="rId12" Type="http://schemas.openxmlformats.org/officeDocument/2006/relationships/slide" Target="slide25.xml"/><Relationship Id="rId13" Type="http://schemas.openxmlformats.org/officeDocument/2006/relationships/slide" Target="slide27.xml"/><Relationship Id="rId14" Type="http://schemas.openxmlformats.org/officeDocument/2006/relationships/slide" Target="slide29.xml"/><Relationship Id="rId15" Type="http://schemas.openxmlformats.org/officeDocument/2006/relationships/slide" Target="slide31.xml"/><Relationship Id="rId16" Type="http://schemas.openxmlformats.org/officeDocument/2006/relationships/slide" Target="slide33.xml"/><Relationship Id="rId17" Type="http://schemas.openxmlformats.org/officeDocument/2006/relationships/slide" Target="slide35.xml"/><Relationship Id="rId18" Type="http://schemas.openxmlformats.org/officeDocument/2006/relationships/slide" Target="slide37.xml"/><Relationship Id="rId19" Type="http://schemas.openxmlformats.org/officeDocument/2006/relationships/slide" Target="slide39.xml"/><Relationship Id="rId20" Type="http://schemas.openxmlformats.org/officeDocument/2006/relationships/slide" Target="slide41.xml"/><Relationship Id="rId21" Type="http://schemas.openxmlformats.org/officeDocument/2006/relationships/slide" Target="slide43.xml"/><Relationship Id="rId22" Type="http://schemas.openxmlformats.org/officeDocument/2006/relationships/slide" Target="slide45.xml"/><Relationship Id="rId23" Type="http://schemas.openxmlformats.org/officeDocument/2006/relationships/slide" Target="slide47.xml"/><Relationship Id="rId24" Type="http://schemas.openxmlformats.org/officeDocument/2006/relationships/slide" Target="slide49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2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9680" y="3857400"/>
            <a:ext cx="8643960" cy="27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Литературная викторин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(урок повторения в 7 классе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74"/>
                </a:solidFill>
                <a:latin typeface="Times New Roman"/>
              </a:rPr>
              <a:t>Майорова Т.В.,</a:t>
            </a:r>
            <a:r>
              <a:rPr b="1" lang="en-US" sz="3200" spc="-1" strike="noStrike">
                <a:solidFill>
                  <a:srgbClr val="002e74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e74"/>
                </a:solidFill>
                <a:latin typeface="Times New Roman"/>
              </a:rPr>
              <a:t>учитель русского языка и литературы МБОУ «СОШ № 65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4" descr="si"/>
          <p:cNvPicPr/>
          <p:nvPr/>
        </p:nvPicPr>
        <p:blipFill>
          <a:blip r:embed="rId1"/>
          <a:stretch/>
        </p:blipFill>
        <p:spPr>
          <a:xfrm>
            <a:off x="642960" y="214200"/>
            <a:ext cx="4929120" cy="339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2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590400" y="8460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2552040" y="785880"/>
            <a:ext cx="368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dbf"/>
                </a:solidFill>
                <a:latin typeface="Times New Roman"/>
              </a:rPr>
              <a:t>ПРЕДАНИЯ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85" name="Picture 2" descr="https://im0-tub-ru.yandex.net/i?id=d39f017a41e8572580ae1842b613969f&amp;n=21"/>
          <p:cNvPicPr/>
          <p:nvPr/>
        </p:nvPicPr>
        <p:blipFill>
          <a:blip r:embed="rId3"/>
          <a:stretch/>
        </p:blipFill>
        <p:spPr>
          <a:xfrm>
            <a:off x="1571760" y="1782720"/>
            <a:ext cx="3714480" cy="47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Устное народное творчество 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857160" y="2685960"/>
            <a:ext cx="762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371600" y="1989000"/>
            <a:ext cx="64580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785880" y="171468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ак называется карело-финский эпос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2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160" y="800280"/>
            <a:ext cx="8172360" cy="16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Калевала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https://im3-tub-ru.yandex.net/i?id=7e2c48321a5962dff631e5bae22fa13a&amp;n=21"/>
          <p:cNvPicPr/>
          <p:nvPr/>
        </p:nvPicPr>
        <p:blipFill>
          <a:blip r:embed="rId3"/>
          <a:stretch/>
        </p:blipFill>
        <p:spPr>
          <a:xfrm>
            <a:off x="615960" y="2286000"/>
            <a:ext cx="2666880" cy="3571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s://im3-tub-ru.yandex.net/i?id=8453db7a2632a858e313386ef0f69b68&amp;n=21"/>
          <p:cNvPicPr/>
          <p:nvPr/>
        </p:nvPicPr>
        <p:blipFill>
          <a:blip r:embed="rId4"/>
          <a:stretch/>
        </p:blipFill>
        <p:spPr>
          <a:xfrm>
            <a:off x="3857760" y="2357280"/>
            <a:ext cx="502920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Древнерусская литература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00280" y="224784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666720" y="2509920"/>
            <a:ext cx="79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огда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 каком веке) появилась древнерусская литература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1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е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https://im1-tub-ru.yandex.net/i?id=677c5f2976c42d94b98f324563cb1d8a&amp;n=21"/>
          <p:cNvPicPr/>
          <p:nvPr/>
        </p:nvPicPr>
        <p:blipFill>
          <a:blip r:embed="rId3"/>
          <a:stretch/>
        </p:blipFill>
        <p:spPr>
          <a:xfrm>
            <a:off x="1571760" y="1963800"/>
            <a:ext cx="5715000" cy="42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Древнерусская литература 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19000" y="2286000"/>
            <a:ext cx="762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 какому жанру относится «Повесть временных лет»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78678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етописный сво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9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110" name="Picture 2" descr="https://im2-tub-ru.yandex.net/i?id=a14392b5963ec6958eb691ad0c20e21c&amp;n=21"/>
          <p:cNvPicPr/>
          <p:nvPr/>
        </p:nvPicPr>
        <p:blipFill>
          <a:blip r:embed="rId3"/>
          <a:stretch/>
        </p:blipFill>
        <p:spPr>
          <a:xfrm>
            <a:off x="714240" y="3263760"/>
            <a:ext cx="2357640" cy="3129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s://im1-tub-ru.yandex.net/i?id=aafac31b54c2c6f0ba91459edb0f7b6b&amp;n=21"/>
          <p:cNvPicPr/>
          <p:nvPr/>
        </p:nvPicPr>
        <p:blipFill>
          <a:blip r:embed="rId4"/>
          <a:stretch/>
        </p:blipFill>
        <p:spPr>
          <a:xfrm>
            <a:off x="4214880" y="3038400"/>
            <a:ext cx="4143240" cy="323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Древнерусская литература </a:t>
            </a:r>
            <a:br>
              <a:rPr sz="4000"/>
            </a:br>
            <a:r>
              <a:rPr b="1" lang="en-US" sz="4000" spc="-1" strike="noStrike">
                <a:solidFill>
                  <a:srgbClr val="005ce7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2960" y="1856880"/>
            <a:ext cx="8143920" cy="38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то является автором памятника древнерусской литературы «Поучение»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81200" y="457200"/>
            <a:ext cx="761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7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57160" y="713880"/>
            <a:ext cx="72151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ладимир Моном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https://im2-tub-ru.yandex.net/i?id=58c9514c316aae3df0002a1083777847&amp;n=21"/>
          <p:cNvPicPr/>
          <p:nvPr/>
        </p:nvPicPr>
        <p:blipFill>
          <a:blip r:embed="rId3"/>
          <a:stretch/>
        </p:blipFill>
        <p:spPr>
          <a:xfrm>
            <a:off x="1111320" y="2732040"/>
            <a:ext cx="5603760" cy="37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4294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ДРЕВНЕРУССКАЯ ЛИТЕРАТУРА 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137440" cy="47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3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 какой былины приведенные ниже строк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Садился на бел-горюч камен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И начал играть в гусельки яровчаты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57160" y="2500200"/>
            <a:ext cx="72248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Литературная виктор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14240" y="1143000"/>
          <a:ext cx="7772400" cy="4552920"/>
        </p:xfrm>
        <a:graphic>
          <a:graphicData uri="http://schemas.openxmlformats.org/drawingml/2006/table">
            <a:tbl>
              <a:tblPr/>
              <a:tblGrid>
                <a:gridCol w="2792520"/>
                <a:gridCol w="1031760"/>
                <a:gridCol w="995400"/>
                <a:gridCol w="997200"/>
                <a:gridCol w="995040"/>
                <a:gridCol w="960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5ad"/>
                          </a:solidFill>
                          <a:latin typeface="Times New Roman"/>
                        </a:rPr>
                        <a:t>Устное народное творчество</a:t>
                      </a: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5ad"/>
                          </a:solidFill>
                          <a:latin typeface="Times New Roman"/>
                        </a:rPr>
                        <a:t>Древнерусская литература</a:t>
                      </a: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5ad"/>
                          </a:solidFill>
                          <a:latin typeface="Times New Roman"/>
                        </a:rPr>
                        <a:t>Литература 19 века</a:t>
                      </a: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5ad"/>
                          </a:solidFill>
                          <a:latin typeface="Times New Roman"/>
                        </a:rPr>
                        <a:t>Литература 20 века</a:t>
                      </a: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5ad"/>
                          </a:solidFill>
                          <a:latin typeface="Times New Roman"/>
                        </a:rPr>
                        <a:t>Зарубежная литерат</a:t>
                      </a:r>
                      <a:r>
                        <a:rPr b="1" lang="ru-RU" sz="2400" spc="-1" strike="noStrike">
                          <a:solidFill>
                            <a:srgbClr val="004dbf"/>
                          </a:solidFill>
                          <a:latin typeface="Times New Roman"/>
                        </a:rPr>
                        <a:t>ура</a:t>
                      </a: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125"/>
          <p:cNvSpPr/>
          <p:nvPr/>
        </p:nvSpPr>
        <p:spPr>
          <a:xfrm>
            <a:off x="2999880" y="6278400"/>
            <a:ext cx="30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Times New Roman"/>
              </a:rPr>
              <a:t>ЗАВЕРШЕНИЕ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5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85520" y="1785960"/>
            <a:ext cx="43578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https://im0-tub-ru.yandex.net/i?id=4ba618afa67fdd65e1d211e094913059"/>
          <p:cNvPicPr/>
          <p:nvPr/>
        </p:nvPicPr>
        <p:blipFill>
          <a:blip r:embed="rId3"/>
          <a:stretch/>
        </p:blipFill>
        <p:spPr>
          <a:xfrm>
            <a:off x="714240" y="1992240"/>
            <a:ext cx="350064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7"/>
          <p:cNvSpPr/>
          <p:nvPr/>
        </p:nvSpPr>
        <p:spPr>
          <a:xfrm>
            <a:off x="2071800" y="714240"/>
            <a:ext cx="607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«Садко»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129" name="Picture 4" descr="http://nashiskazki.my1.ru/kartinki-byliny/Image9.1.jpg"/>
          <p:cNvPicPr/>
          <p:nvPr/>
        </p:nvPicPr>
        <p:blipFill>
          <a:blip r:embed="rId4"/>
          <a:stretch/>
        </p:blipFill>
        <p:spPr>
          <a:xfrm>
            <a:off x="5286240" y="1928880"/>
            <a:ext cx="278136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4880" y="266400"/>
            <a:ext cx="781056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Древнерусская литература 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23960" y="2209680"/>
            <a:ext cx="7638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Какие святые стали покровителями праздника семьи, любви и верности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4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868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тр и Феврония Муромск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https://im0-tub-ru.yandex.net/i?id=17764129452974f066f7143f4fefe849&amp;n=21"/>
          <p:cNvPicPr/>
          <p:nvPr/>
        </p:nvPicPr>
        <p:blipFill>
          <a:blip r:embed="rId3"/>
          <a:stretch/>
        </p:blipFill>
        <p:spPr>
          <a:xfrm>
            <a:off x="547560" y="264312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s://im1-tub-ru.yandex.net/i?id=28dde14ed29dbad8d3fb64e30bdd2ef5&amp;n=21"/>
          <p:cNvPicPr/>
          <p:nvPr/>
        </p:nvPicPr>
        <p:blipFill>
          <a:blip r:embed="rId4"/>
          <a:stretch/>
        </p:blipFill>
        <p:spPr>
          <a:xfrm>
            <a:off x="5343480" y="2025720"/>
            <a:ext cx="2800440" cy="411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Литература 19 век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50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 каком поэте идет реч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Родился в 1799 году в Москве. Источником духовного развития  будущего поэта стали рассказы бабушки и сказки няни Арины Родионовны.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726372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2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34800" y="1036800"/>
            <a:ext cx="845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e74"/>
                </a:solidFill>
                <a:latin typeface="Times New Roman"/>
              </a:rPr>
              <a:t>А.С.Пушкин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6760" y="3000240"/>
            <a:ext cx="178596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" descr="https://im3-tub-ru.yandex.net/i?id=417052e0f60d6093db7e1291f9d2f0dd&amp;n=21"/>
          <p:cNvPicPr/>
          <p:nvPr/>
        </p:nvPicPr>
        <p:blipFill>
          <a:blip r:embed="rId3"/>
          <a:stretch/>
        </p:blipFill>
        <p:spPr>
          <a:xfrm>
            <a:off x="1285920" y="2143080"/>
            <a:ext cx="32526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Литература 19 век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е историческое событие побудило А.Н.Некрасова написать поэму «Русские женщины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80880" y="2190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85880" y="50004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осстание декабристов 1825 г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153" name="Picture 2" descr="https://im2-tub-ru.yandex.net/i?id=1c98019f300027f797d32a73b7042d19&amp;n=21"/>
          <p:cNvPicPr/>
          <p:nvPr/>
        </p:nvPicPr>
        <p:blipFill>
          <a:blip r:embed="rId2"/>
          <a:stretch/>
        </p:blipFill>
        <p:spPr>
          <a:xfrm>
            <a:off x="428760" y="2357280"/>
            <a:ext cx="3749400" cy="2500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https://im0-tub-ru.yandex.net/i?id=f03ae59f3399f2a153b1a12e459f132c&amp;n=21"/>
          <p:cNvPicPr/>
          <p:nvPr/>
        </p:nvPicPr>
        <p:blipFill>
          <a:blip r:embed="rId3"/>
          <a:stretch/>
        </p:blipFill>
        <p:spPr>
          <a:xfrm>
            <a:off x="4775040" y="2571840"/>
            <a:ext cx="39625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Литература 19 век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42600" y="1642680"/>
            <a:ext cx="80010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Жили-были два генерала, и так как оба были легкомысленны, то в скором времени, по щучьему велению очутились на необитаемом острове…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зовите название произведения и автор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928800" y="25002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1" name="AutoShape 8"/>
          <p:cNvSpPr/>
          <p:nvPr/>
        </p:nvSpPr>
        <p:spPr>
          <a:xfrm flipH="1">
            <a:off x="2146320" y="2019240"/>
            <a:ext cx="596880" cy="355680"/>
          </a:xfrm>
          <a:prstGeom prst="wedgeEllipseCallout">
            <a:avLst>
              <a:gd name="adj1" fmla="val -47875"/>
              <a:gd name="adj2" fmla="val 535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1333440" y="2019240"/>
            <a:ext cx="914400" cy="609840"/>
          </a:xfrm>
          <a:prstGeom prst="wedgeEllipseCallout">
            <a:avLst>
              <a:gd name="adj1" fmla="val 183333"/>
              <a:gd name="adj2" fmla="val 513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3200400" y="245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2647800" y="1924200"/>
            <a:ext cx="857520" cy="47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2590920" y="4400640"/>
            <a:ext cx="685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6" name="Line 15"/>
          <p:cNvSpPr/>
          <p:nvPr/>
        </p:nvSpPr>
        <p:spPr>
          <a:xfrm flipH="1">
            <a:off x="6000840" y="2171880"/>
            <a:ext cx="914400" cy="514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7" name="Line 16"/>
          <p:cNvSpPr/>
          <p:nvPr/>
        </p:nvSpPr>
        <p:spPr>
          <a:xfrm flipH="1">
            <a:off x="4647960" y="4038480"/>
            <a:ext cx="93348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8" name="Line 17"/>
          <p:cNvSpPr/>
          <p:nvPr/>
        </p:nvSpPr>
        <p:spPr>
          <a:xfrm flipH="1">
            <a:off x="6648120" y="3543480"/>
            <a:ext cx="723960" cy="26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152880" y="19224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0" name="AutoShape 26"/>
          <p:cNvSpPr/>
          <p:nvPr/>
        </p:nvSpPr>
        <p:spPr>
          <a:xfrm>
            <a:off x="7867800" y="1390680"/>
            <a:ext cx="698400" cy="679320"/>
          </a:xfrm>
          <a:prstGeom prst="wedgeEllipseCallout">
            <a:avLst>
              <a:gd name="adj1" fmla="val -294546"/>
              <a:gd name="adj2" fmla="val 108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171" name="Picture 2" descr="https://im3-tub-ru.yandex.net/i?id=e17c678b7de3c8ebcf4b2f2eb39ed402&amp;n=21"/>
          <p:cNvPicPr/>
          <p:nvPr/>
        </p:nvPicPr>
        <p:blipFill>
          <a:blip r:embed="rId1"/>
          <a:stretch/>
        </p:blipFill>
        <p:spPr>
          <a:xfrm>
            <a:off x="500040" y="3071880"/>
            <a:ext cx="2871720" cy="2143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s://im2-tub-ru.yandex.net/i?id=79052dfcdd71d69c261a072399f7ef8d&amp;n=21"/>
          <p:cNvPicPr/>
          <p:nvPr/>
        </p:nvPicPr>
        <p:blipFill>
          <a:blip r:embed="rId2"/>
          <a:stretch/>
        </p:blipFill>
        <p:spPr>
          <a:xfrm>
            <a:off x="4714920" y="3000240"/>
            <a:ext cx="3929040" cy="294660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1"/>
          <p:cNvSpPr/>
          <p:nvPr/>
        </p:nvSpPr>
        <p:spPr>
          <a:xfrm>
            <a:off x="785880" y="71424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e74"/>
                </a:solidFill>
                <a:latin typeface="Times New Roman"/>
              </a:rPr>
              <a:t>М.Е.Салтыков-Щедрин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Литература 19 век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57160" y="2499840"/>
            <a:ext cx="7562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928800" y="1571760"/>
            <a:ext cx="7215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e74"/>
                </a:solidFill>
                <a:latin typeface="Times New Roman"/>
              </a:rPr>
              <a:t>Какое произведение Гоголя напоминает вам картина И.Е.Репина «Запорожцы пишут письмо турецкому султану»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Устное народное творчество </a:t>
            </a:r>
            <a:br>
              <a:rPr sz="4000"/>
            </a:br>
            <a:r>
              <a:rPr b="1" lang="ru-RU" sz="4400" spc="-1" strike="noStrike">
                <a:solidFill>
                  <a:srgbClr val="005ce7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704880" y="2266920"/>
            <a:ext cx="6229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48" name="Picture 9" descr="1159"/>
          <p:cNvPicPr/>
          <p:nvPr/>
        </p:nvPicPr>
        <p:blipFill>
          <a:blip r:embed="rId1"/>
          <a:stretch/>
        </p:blipFill>
        <p:spPr>
          <a:xfrm>
            <a:off x="7201080" y="3666960"/>
            <a:ext cx="1618920" cy="2905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428760" y="25002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 назывались исполнители былин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7115040" y="633888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80532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сть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рас Бульба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6" descr="C:\Documents and Settings\User\Рабочий стол\картинки к игре\imgpreviewCA08IWSW.jpg"/>
          <p:cNvPicPr/>
          <p:nvPr/>
        </p:nvPicPr>
        <p:blipFill>
          <a:blip r:embed="rId1"/>
          <a:stretch/>
        </p:blipFill>
        <p:spPr>
          <a:xfrm>
            <a:off x="428760" y="2714760"/>
            <a:ext cx="3786120" cy="244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C:\Documents and Settings\User\Рабочий стол\картинки к игре\imgpreviewCAWMYB77.jpg"/>
          <p:cNvPicPr/>
          <p:nvPr/>
        </p:nvPicPr>
        <p:blipFill>
          <a:blip r:embed="rId2"/>
          <a:stretch/>
        </p:blipFill>
        <p:spPr>
          <a:xfrm>
            <a:off x="4714920" y="2571840"/>
            <a:ext cx="378612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Литература 19 век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8760" y="198108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му герою Лермонтова посвящаются эти строк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Пройдёт стар человек – перекреститс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йдёт молодец – приосанитс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йдёт девица – пригорюни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 пройдут гусляры – споют песенку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209600" y="2000520"/>
            <a:ext cx="672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716280" y="2982960"/>
            <a:ext cx="4722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71840" y="214200"/>
            <a:ext cx="62006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упцу Калашникову из «Песни про купца Калашникова…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7" descr="C:\Documents and Settings\User\Рабочий стол\картинки к игре\imgpreviewCAWP1CWD.jpg"/>
          <p:cNvPicPr/>
          <p:nvPr/>
        </p:nvPicPr>
        <p:blipFill>
          <a:blip r:embed="rId1"/>
          <a:stretch/>
        </p:blipFill>
        <p:spPr>
          <a:xfrm>
            <a:off x="571680" y="357120"/>
            <a:ext cx="1873080" cy="2714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C:\Documents and Settings\User\Рабочий стол\картинки к игре\imgpreviewCAYY8Q04.jpg"/>
          <p:cNvPicPr/>
          <p:nvPr/>
        </p:nvPicPr>
        <p:blipFill>
          <a:blip r:embed="rId2"/>
          <a:stretch/>
        </p:blipFill>
        <p:spPr>
          <a:xfrm>
            <a:off x="2571840" y="2571840"/>
            <a:ext cx="2071440" cy="3211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C:\Documents and Settings\User\Рабочий стол\картинки к игре\imgpreview.jpg"/>
          <p:cNvPicPr/>
          <p:nvPr/>
        </p:nvPicPr>
        <p:blipFill>
          <a:blip r:embed="rId3"/>
          <a:stretch/>
        </p:blipFill>
        <p:spPr>
          <a:xfrm>
            <a:off x="4929120" y="3929040"/>
            <a:ext cx="2273400" cy="26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Литература 20 век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14240" y="1714680"/>
            <a:ext cx="750096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зовите автора трилогии «Детство», « В людях», «Мои университеты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628560" y="704880"/>
            <a:ext cx="762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71800" y="357120"/>
            <a:ext cx="5857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 Горьк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2" descr="https://im2-tub-ru.yandex.net/i?id=5255978be1fed8068bb42e86c9987bce&amp;n=21"/>
          <p:cNvPicPr/>
          <p:nvPr/>
        </p:nvPicPr>
        <p:blipFill>
          <a:blip r:embed="rId1"/>
          <a:stretch/>
        </p:blipFill>
        <p:spPr>
          <a:xfrm>
            <a:off x="1000080" y="1571760"/>
            <a:ext cx="3571920" cy="51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Литература 20 век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785520" y="1785960"/>
            <a:ext cx="74293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 какому литературному направлению относится творчество В.В.Маяковског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57120" y="3357720"/>
            <a:ext cx="83296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42880" y="3428640"/>
            <a:ext cx="4581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футуриз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" descr="https://im1-tub-ru.yandex.net/i?id=9163f915a3da72adeea7da6dc5f56f8e&amp;n=21"/>
          <p:cNvPicPr/>
          <p:nvPr/>
        </p:nvPicPr>
        <p:blipFill>
          <a:blip r:embed="rId1"/>
          <a:stretch/>
        </p:blipFill>
        <p:spPr>
          <a:xfrm>
            <a:off x="857160" y="1000080"/>
            <a:ext cx="3618000" cy="448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Литература 20 век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0040" y="1857240"/>
            <a:ext cx="80726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зовите автора цитаты «самая большая ценность народа- его язык, язык, на котором он пишет, говорит, думает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16574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35252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28800" y="450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лова принадлежат Д.Лихачёв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" descr="https://im0-tub-ru.yandex.net/i?id=929ef318218bcba17c46efc110461883&amp;n=21"/>
          <p:cNvPicPr/>
          <p:nvPr/>
        </p:nvPicPr>
        <p:blipFill>
          <a:blip r:embed="rId1"/>
          <a:stretch/>
        </p:blipFill>
        <p:spPr>
          <a:xfrm>
            <a:off x="1643040" y="285840"/>
            <a:ext cx="5143680" cy="40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ce7"/>
                </a:solidFill>
                <a:latin typeface="Times New Roman"/>
              </a:rPr>
              <a:t>Литература 20 век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85880" y="2143080"/>
            <a:ext cx="750096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акую национальную литературу представляет Р.Гамзатов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928800" y="2214720"/>
            <a:ext cx="7619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42960" y="571680"/>
            <a:ext cx="8086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7111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" name="Rectangle 6">
            <a:hlinkClick r:id="rId2" action="ppaction://hlinksldjump"/>
          </p:cNvPr>
          <p:cNvSpPr/>
          <p:nvPr/>
        </p:nvSpPr>
        <p:spPr>
          <a:xfrm>
            <a:off x="1467000" y="6400800"/>
            <a:ext cx="611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99920" y="1257120"/>
            <a:ext cx="535788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Гусляр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https://im1-tub-ru.yandex.net/i?id=490863f2a71a6ced7103fa461b59a43a&amp;n=21"/>
          <p:cNvPicPr/>
          <p:nvPr/>
        </p:nvPicPr>
        <p:blipFill>
          <a:blip r:embed="rId3"/>
          <a:stretch/>
        </p:blipFill>
        <p:spPr>
          <a:xfrm>
            <a:off x="785880" y="2517840"/>
            <a:ext cx="4929120" cy="36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465120" y="487440"/>
            <a:ext cx="8291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928960" y="642960"/>
            <a:ext cx="57722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агестанску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" descr="https://im2-tub-ru.yandex.net/i?id=3cd36c1c80edb2dadcdd5e9a8c922314&amp;n=21"/>
          <p:cNvPicPr/>
          <p:nvPr/>
        </p:nvPicPr>
        <p:blipFill>
          <a:blip r:embed="rId1"/>
          <a:stretch/>
        </p:blipFill>
        <p:spPr>
          <a:xfrm>
            <a:off x="1214280" y="2112840"/>
            <a:ext cx="5643720" cy="40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Литература  20 век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57120" y="2143080"/>
            <a:ext cx="807264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чем смысл сопоставления маков с клумбы и судьбы погибшего летчика («Живое пламя» Е.Носова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838080" y="1752480"/>
            <a:ext cx="762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82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 цветок, и Алексей  прожили короткую, но наполненную жизн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ки- символ памят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2" descr="https://im0-tub-ru.yandex.net/i?id=dc880169f1f8d3506f1c7a7160360108&amp;n=21"/>
          <p:cNvPicPr/>
          <p:nvPr/>
        </p:nvPicPr>
        <p:blipFill>
          <a:blip r:embed="rId1"/>
          <a:stretch/>
        </p:blipFill>
        <p:spPr>
          <a:xfrm>
            <a:off x="642960" y="3286080"/>
            <a:ext cx="2428920" cy="3252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https://im1-tub-ru.yandex.net/i?id=55b716f7a5a77e6ee8c02d2a3ceb739a&amp;n=21"/>
          <p:cNvPicPr/>
          <p:nvPr/>
        </p:nvPicPr>
        <p:blipFill>
          <a:blip r:embed="rId2"/>
          <a:stretch/>
        </p:blipFill>
        <p:spPr>
          <a:xfrm>
            <a:off x="6500880" y="2786040"/>
            <a:ext cx="221436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Зарубежная литератур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акую литературу представляет Р.Брэдбери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914400" y="209556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7929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мериканску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2" descr="https://im0-tub-ru.yandex.net/i?id=bb10d53dfbb704f6e4e46fbac2febfda&amp;n=21"/>
          <p:cNvPicPr/>
          <p:nvPr/>
        </p:nvPicPr>
        <p:blipFill>
          <a:blip r:embed="rId1"/>
          <a:stretch/>
        </p:blipFill>
        <p:spPr>
          <a:xfrm>
            <a:off x="571680" y="1714680"/>
            <a:ext cx="5905440" cy="402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Зарубежная литератур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81200" y="2133360"/>
            <a:ext cx="77724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 подарил Делле Джим (рассказ О.Генри «Дары волхвов»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5800" y="628560"/>
            <a:ext cx="762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9680" y="856800"/>
            <a:ext cx="771516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ребень из слоновой к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2" descr="https://im0-tub-ru.yandex.net/i?id=9cf503b97b7eebc7e169114768943b11&amp;n=21"/>
          <p:cNvPicPr/>
          <p:nvPr/>
        </p:nvPicPr>
        <p:blipFill>
          <a:blip r:embed="rId1"/>
          <a:stretch/>
        </p:blipFill>
        <p:spPr>
          <a:xfrm>
            <a:off x="500040" y="2500200"/>
            <a:ext cx="2760840" cy="3422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s://im0-tub-ru.yandex.net/i?id=56328ab52c50423aa4ab33a1c38e35fa&amp;n=21"/>
          <p:cNvPicPr/>
          <p:nvPr/>
        </p:nvPicPr>
        <p:blipFill>
          <a:blip r:embed="rId2"/>
          <a:stretch/>
        </p:blipFill>
        <p:spPr>
          <a:xfrm>
            <a:off x="4286160" y="2357280"/>
            <a:ext cx="4381560" cy="328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Зарубежная литератур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42600" y="1928520"/>
            <a:ext cx="771516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азовите жанр произведения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Праздник Нового года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Но печален я,вспомин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Долгий вечер осенн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928800" y="500040"/>
            <a:ext cx="761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352520" y="186696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1" name="AutoShape 10"/>
          <p:cNvSpPr/>
          <p:nvPr/>
        </p:nvSpPr>
        <p:spPr>
          <a:xfrm>
            <a:off x="590400" y="266760"/>
            <a:ext cx="3181680" cy="799920"/>
          </a:xfrm>
          <a:prstGeom prst="wedgeEllipseCallout">
            <a:avLst>
              <a:gd name="adj1" fmla="val -18263"/>
              <a:gd name="adj2" fmla="val 4128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2" name="AutoShape 12"/>
          <p:cNvSpPr/>
          <p:nvPr/>
        </p:nvSpPr>
        <p:spPr>
          <a:xfrm>
            <a:off x="609480" y="514440"/>
            <a:ext cx="3175200" cy="755640"/>
          </a:xfrm>
          <a:prstGeom prst="wedgeRoundRectCallout">
            <a:avLst>
              <a:gd name="adj1" fmla="val 5398"/>
              <a:gd name="adj2" fmla="val 50105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429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окку –жанр японской поэз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2" descr="https://im1-tub-ru.yandex.net/i?id=5cbc4c790c3952616b09513e56e78217&amp;n=21"/>
          <p:cNvPicPr/>
          <p:nvPr/>
        </p:nvPicPr>
        <p:blipFill>
          <a:blip r:embed="rId1"/>
          <a:stretch/>
        </p:blipFill>
        <p:spPr>
          <a:xfrm>
            <a:off x="500040" y="2500200"/>
            <a:ext cx="3524400" cy="2643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https://im0-tub-ru.yandex.net/i?id=fda1ceae63d9fb4c18c0d1e3f5a6bc90&amp;n=21"/>
          <p:cNvPicPr/>
          <p:nvPr/>
        </p:nvPicPr>
        <p:blipFill>
          <a:blip r:embed="rId2"/>
          <a:stretch/>
        </p:blipFill>
        <p:spPr>
          <a:xfrm>
            <a:off x="4970520" y="2214720"/>
            <a:ext cx="295920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Зарубежная литератур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40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400" y="1942920"/>
            <a:ext cx="85914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то является основным героем лирики Р.Бёрнса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imes New Roman"/>
              </a:rPr>
              <a:t>                                   </a:t>
            </a: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23960" y="1542960"/>
            <a:ext cx="762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4659480" y="6156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Устное народное творчество 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571680" y="2428920"/>
            <a:ext cx="807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зовите известных вам героев былин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2152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едняки, простые люд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2" descr="https://im2-tub-ru.yandex.net/i?id=5ef7c3c1b1a763a6d788175c8f72c6e0&amp;n=21"/>
          <p:cNvPicPr/>
          <p:nvPr/>
        </p:nvPicPr>
        <p:blipFill>
          <a:blip r:embed="rId1"/>
          <a:stretch/>
        </p:blipFill>
        <p:spPr>
          <a:xfrm>
            <a:off x="285840" y="1428840"/>
            <a:ext cx="4548240" cy="3411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https://im3-tub-ru.yandex.net/i?id=00cafc997167806afe7810c8536664b6&amp;n=21"/>
          <p:cNvPicPr/>
          <p:nvPr/>
        </p:nvPicPr>
        <p:blipFill>
          <a:blip r:embed="rId2"/>
          <a:stretch/>
        </p:blipFill>
        <p:spPr>
          <a:xfrm>
            <a:off x="5214960" y="1643040"/>
            <a:ext cx="3486240" cy="43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Зарубежная литератур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ого А.С.Пушкин  назвал гением, «властителем дум», воспел его в своих стихотворениях, сравнивая мятежную душу поэта с могучей стихией моря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285840" y="2019240"/>
            <a:ext cx="8629560" cy="31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3"/>
          <p:cNvSpPr/>
          <p:nvPr/>
        </p:nvSpPr>
        <p:spPr>
          <a:xfrm>
            <a:off x="710064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0" y="496728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ж.Г.Байрон –английский поэт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283" name="Picture 2" descr="https://im0-tub-ru.yandex.net/i?id=e528cd4db25c0e1fe27dc1b9b092c3f9&amp;n=21"/>
          <p:cNvPicPr/>
          <p:nvPr/>
        </p:nvPicPr>
        <p:blipFill>
          <a:blip r:embed="rId1"/>
          <a:stretch/>
        </p:blipFill>
        <p:spPr>
          <a:xfrm>
            <a:off x="785880" y="214200"/>
            <a:ext cx="392904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7111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8" name="Rectangle 9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9" name="Text Box 1036"/>
          <p:cNvSpPr/>
          <p:nvPr/>
        </p:nvSpPr>
        <p:spPr>
          <a:xfrm>
            <a:off x="0" y="5634000"/>
            <a:ext cx="14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1007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Илья Муромец, Добрыня Никитич, Алеша Попови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61"/>
          <p:cNvSpPr/>
          <p:nvPr/>
        </p:nvSpPr>
        <p:spPr>
          <a:xfrm>
            <a:off x="4479840" y="30178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62" name="Picture 2" descr="https://im0-tub-ru.yandex.net/i?id=2f8cb04b721df0b7906305a3abfea8a9&amp;n=21"/>
          <p:cNvPicPr/>
          <p:nvPr/>
        </p:nvPicPr>
        <p:blipFill>
          <a:blip r:embed="rId3"/>
          <a:stretch/>
        </p:blipFill>
        <p:spPr>
          <a:xfrm>
            <a:off x="500040" y="3071880"/>
            <a:ext cx="3857760" cy="2967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s://im2-tub-ru.yandex.net/i?id=64973f7c9d18f1da3ed49e4a403fd972&amp;n=21"/>
          <p:cNvPicPr/>
          <p:nvPr/>
        </p:nvPicPr>
        <p:blipFill>
          <a:blip r:embed="rId4"/>
          <a:stretch/>
        </p:blipFill>
        <p:spPr>
          <a:xfrm>
            <a:off x="4929120" y="2714760"/>
            <a:ext cx="250056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2600" y="-360"/>
            <a:ext cx="78152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Устное народное творчество 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300</a:t>
            </a:r>
            <a:r>
              <a:rPr b="1" lang="ru-RU" sz="5400" spc="-1" strike="noStrike">
                <a:solidFill>
                  <a:srgbClr val="005ce7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9680" y="1928520"/>
            <a:ext cx="80010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 каком историческом деятеле, герое преданий идет реч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Когда царем в Москве был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о на Русской земле расплодилось всякой нечисти…тогда царь отдал приказ собрать всех ведьм и сжечь..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000080" y="235728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4dbf"/>
                </a:solidFill>
                <a:latin typeface="Times New Roman"/>
              </a:rPr>
              <a:t>Иван Грозный предание «Сороки-ведьмы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https://im1-tub-ru.yandex.net/i?id=56861c45745c46b67745b49cdd78e2d4&amp;n=21"/>
          <p:cNvPicPr/>
          <p:nvPr/>
        </p:nvPicPr>
        <p:blipFill>
          <a:blip r:embed="rId3"/>
          <a:stretch/>
        </p:blipFill>
        <p:spPr>
          <a:xfrm>
            <a:off x="571680" y="2163600"/>
            <a:ext cx="2928600" cy="3922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s://im3-tub-ru.yandex.net/i?id=53887744fd9fe6e2d1db27a158b801e1&amp;n=21"/>
          <p:cNvPicPr/>
          <p:nvPr/>
        </p:nvPicPr>
        <p:blipFill>
          <a:blip r:embed="rId4"/>
          <a:stretch/>
        </p:blipFill>
        <p:spPr>
          <a:xfrm>
            <a:off x="4500720" y="2041560"/>
            <a:ext cx="314316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Устное народное творчество </a:t>
            </a:r>
            <a:br>
              <a:rPr sz="4000"/>
            </a:br>
            <a:r>
              <a:rPr b="1" lang="en-US" sz="4000" spc="-1" strike="noStrike">
                <a:solidFill>
                  <a:srgbClr val="005ce7"/>
                </a:solidFill>
                <a:latin typeface="Times New Roman"/>
              </a:rPr>
              <a:t>4</a:t>
            </a: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00</a:t>
            </a:r>
            <a:r>
              <a:rPr b="1" lang="ru-RU" sz="5400" spc="-1" strike="noStrike">
                <a:solidFill>
                  <a:srgbClr val="005ce7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85800" y="295272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666720" y="2670120"/>
            <a:ext cx="7905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928800" y="1857240"/>
            <a:ext cx="7643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 каком жанре фольклора идет речь?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…поэтическая автобиография народа. Устный рассказ, который содержит сведения об исторических лицах, событиях.»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79" name="Picture 4" descr="C:\Documents and Settings\User\Рабочий стол\новая игра\пп.jpg"/>
          <p:cNvPicPr/>
          <p:nvPr/>
        </p:nvPicPr>
        <p:blipFill>
          <a:blip r:embed="rId1"/>
          <a:stretch/>
        </p:blipFill>
        <p:spPr>
          <a:xfrm>
            <a:off x="1357200" y="4500720"/>
            <a:ext cx="3214800" cy="200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7:12:29Z</dcterms:created>
  <dc:creator>Пользователь</dc:creator>
  <dc:description/>
  <dc:language>en-US</dc:language>
  <cp:lastModifiedBy>Admin</cp:lastModifiedBy>
  <dcterms:modified xsi:type="dcterms:W3CDTF">2015-06-13T19:19:12Z</dcterms:modified>
  <cp:revision>622</cp:revision>
  <dc:subject/>
  <dc:title>Презентация PowerPoint</dc:title>
</cp:coreProperties>
</file>