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172-6D54-41B9-91E8-C882C702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613-E09A-45E5-9E5E-60C9BF4A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F94-9D0B-486E-BB46-404A95C5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920-72A1-4B01-9590-AAD1053B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42819-1777-42F1-8BF8-CDE8DCDE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F706A-9F76-4564-9645-EF95361A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8B26D-1CBF-45E4-BE48-3DD72278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04ABA-C383-4C7D-9593-CB8B25AF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06384-0E2E-4B84-809D-BD7A13F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7A967-07C8-4102-9372-08076218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0062C-0ADD-4472-A719-AD6F84E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7A7-3B66-483A-9235-7060867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E14CA-D4DD-4A62-95DD-0FD78E49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54124-3760-4A66-A51C-3FD4E51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E2659-B8EC-478B-A887-E4E68CCC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BB448-B35E-4119-BF5B-8304911C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E9960-1C37-4F28-A2B0-69E0FADD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904-9E79-4C49-B3FF-2C1765BF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2F6-B80C-4978-B6D1-D89E2621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BCB-41DB-49C3-BDF2-2D4BE86E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5A7-6378-4982-99AE-1E4D5217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D8E-F95E-483E-8137-0C91D67A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93E-1433-4B6F-AC3F-877BD09D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E1F-F33C-4A6B-A2DF-12D6F256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ED0C-3C87-4C49-B1EF-84BDAE602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66D6-3E04-4EA8-B217-9BDB631E59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952720" cy="4032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995280" y="549360"/>
            <a:ext cx="4824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Tahoma"/>
              </a:rPr>
              <a:t>Родной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Tahoma"/>
              </a:rPr>
              <a:t>Улан-Удэ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635280" y="0"/>
            <a:ext cx="5508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cc"/>
                </a:solidFill>
                <a:latin typeface="Tahoma"/>
              </a:rPr>
              <a:t>История нашего города началась с  зимовья, который в 1666 году основал отряд русских казаков на высоком скалистом берегу реки У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cc"/>
                </a:solidFill>
                <a:latin typeface="Tahoma"/>
              </a:rPr>
              <a:t>Место зимовья было выбрано так удачно, что там был построен военный Удинский остр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52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00720" y="0"/>
            <a:ext cx="464328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ff"/>
                </a:solidFill>
                <a:latin typeface="Tahoma"/>
              </a:rPr>
              <a:t>Позднее острогу был присвоен статус города и он стал называться  – Верхнеудинск. Город быстро превратился в важнейший торговый центр на востоке Российской Импери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-252360" y="0"/>
            <a:ext cx="501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Tahoma"/>
              </a:rPr>
              <a:t>Улан-Удэ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 1934 году Верхнеудинск был переименован в Улан-Удэ. В переводе с бурятского языка — «Красная Уда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ш город -  столица Республики Буряти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Tahoma"/>
              </a:rPr>
              <a:t>Достопримечательности Улан-Удэ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5076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ff00"/>
                </a:solidFill>
                <a:latin typeface="Tahoma"/>
              </a:rPr>
              <a:t>На площади Советов находится самый большой бюст в мире – памятник Ленину, основателю СССР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851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5950080"/>
            <a:ext cx="4932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Одигитриевский соб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00720" y="404280"/>
            <a:ext cx="4643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00"/>
                </a:solidFill>
                <a:latin typeface="Tahoma"/>
              </a:rPr>
              <a:t>Этнографический муз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6720" y="-360"/>
            <a:ext cx="40672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Tahoma"/>
              </a:rPr>
              <a:t>Театр оперы и бал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468360" y="5589360"/>
            <a:ext cx="5184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Tahoma"/>
              </a:rPr>
              <a:t>Русский драматический теа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51520" cy="5734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5007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ff"/>
                </a:solidFill>
                <a:latin typeface="Tahoma"/>
              </a:rPr>
              <a:t>Спасибо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ff"/>
                </a:solidFill>
                <a:latin typeface="Tahoma"/>
              </a:rPr>
              <a:t>             </a:t>
            </a:r>
            <a:r>
              <a:rPr b="0" lang="ru-RU" sz="8000" spc="-1" strike="noStrike">
                <a:solidFill>
                  <a:srgbClr val="ff00ff"/>
                </a:solidFill>
                <a:latin typeface="Tahoma"/>
              </a:rPr>
              <a:t>за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ff"/>
                </a:solidFill>
                <a:latin typeface="Tahoma"/>
              </a:rPr>
              <a:t>         </a:t>
            </a:r>
            <a:r>
              <a:rPr b="0" lang="ru-RU" sz="8000" spc="-1" strike="noStrike">
                <a:solidFill>
                  <a:srgbClr val="ff00ff"/>
                </a:solidFill>
                <a:latin typeface="Tahoma"/>
              </a:rPr>
              <a:t>внимание!</a:t>
            </a: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02:33:27Z</dcterms:created>
  <dc:creator>Мама</dc:creator>
  <dc:description/>
  <dc:language>en-US</dc:language>
  <cp:lastModifiedBy>школа48</cp:lastModifiedBy>
  <dcterms:modified xsi:type="dcterms:W3CDTF">2022-11-19T06:29:49Z</dcterms:modified>
  <cp:revision>17</cp:revision>
  <dc:subject/>
  <dc:title>Слайд 1</dc:title>
</cp:coreProperties>
</file>