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15C-2A3F-483A-AF4E-FF14E66E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8E0-72A2-4CFB-AE5C-6DC73A7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B94-D6F2-4686-A1BF-355DEC3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E85-7F91-4B54-8827-CAD75AE2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07B-8CD9-49E4-A21D-0FA4908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81B-3A34-440D-8E2F-103D108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313-ECD3-43E8-BE6E-C222AAC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46D-4AF8-416A-95E0-C06FAFE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13A-4369-43E2-AE62-F670664D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A1E-5C31-449D-9AC1-2022631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225-0E5D-48D5-8D66-DE01F76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03D-8EC9-46BA-813A-115B42D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E81-1430-4EFC-9F21-A9D702AC0C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a3770-001"/>
          <p:cNvPicPr/>
          <p:nvPr/>
        </p:nvPicPr>
        <p:blipFill>
          <a:blip r:embed="rId1"/>
          <a:srcRect l="40563" t="0" r="0" b="18690"/>
          <a:stretch/>
        </p:blipFill>
        <p:spPr>
          <a:xfrm>
            <a:off x="5187960" y="990720"/>
            <a:ext cx="373212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7e7ff"/>
                </a:solidFill>
                <a:latin typeface="Comic Sans MS"/>
              </a:rPr>
              <a:t>Праздник весн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4038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здник пт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fda70cdb164ddcfe3c76378044e6b4e3_full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23c56d2166281a991b24246f0187c718_full"/>
          <p:cNvPicPr/>
          <p:nvPr/>
        </p:nvPicPr>
        <p:blipFill>
          <a:blip r:embed="rId1"/>
          <a:stretch/>
        </p:blipFill>
        <p:spPr>
          <a:xfrm>
            <a:off x="609480" y="12708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2fb079667f87c21c666f2207ed34abdb_full"/>
          <p:cNvPicPr/>
          <p:nvPr/>
        </p:nvPicPr>
        <p:blipFill>
          <a:blip r:embed="rId1"/>
          <a:stretch/>
        </p:blipFill>
        <p:spPr>
          <a:xfrm>
            <a:off x="685800" y="763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490335-001"/>
          <p:cNvPicPr/>
          <p:nvPr/>
        </p:nvPicPr>
        <p:blipFill>
          <a:blip r:embed="rId1"/>
          <a:srcRect l="0" t="12258" r="8375" b="0"/>
          <a:stretch/>
        </p:blipFill>
        <p:spPr>
          <a:xfrm>
            <a:off x="-12600" y="380880"/>
            <a:ext cx="915660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ba1599-001"/>
          <p:cNvPicPr/>
          <p:nvPr/>
        </p:nvPicPr>
        <p:blipFill>
          <a:blip r:embed="rId1"/>
          <a:srcRect l="0" t="0" r="6733" b="0"/>
          <a:stretch/>
        </p:blipFill>
        <p:spPr>
          <a:xfrm>
            <a:off x="609480" y="184320"/>
            <a:ext cx="7925040" cy="565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311c4a73fab0b4a38495e2e44c7cb042_full"/>
          <p:cNvPicPr/>
          <p:nvPr/>
        </p:nvPicPr>
        <p:blipFill>
          <a:blip r:embed="rId1"/>
          <a:srcRect l="5087" t="0" r="0" b="0"/>
          <a:stretch/>
        </p:blipFill>
        <p:spPr>
          <a:xfrm>
            <a:off x="533520" y="20520"/>
            <a:ext cx="8001000" cy="632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o1152-001"/>
          <p:cNvPicPr/>
          <p:nvPr/>
        </p:nvPicPr>
        <p:blipFill>
          <a:blip r:embed="rId1"/>
          <a:srcRect l="17764" t="40713" r="0" b="12790"/>
          <a:stretch/>
        </p:blipFill>
        <p:spPr>
          <a:xfrm>
            <a:off x="838080" y="0"/>
            <a:ext cx="7548840" cy="6405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Untitled-Scanned-49"/>
          <p:cNvPicPr/>
          <p:nvPr/>
        </p:nvPicPr>
        <p:blipFill>
          <a:blip r:embed="rId1"/>
          <a:stretch/>
        </p:blipFill>
        <p:spPr>
          <a:xfrm>
            <a:off x="2895480" y="-17640"/>
            <a:ext cx="6104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228600" y="259092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и ты сейчас сделаешь свою птиц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тебе понадобятся цветная бумага, ножницы, к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64720" cy="490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АВИЛА ТЕХНИКИ БЕЗОПАСНОСТИ С НОЖНИЦАМИ</a:t>
            </a:r>
            <a:endParaRPr b="0" lang="en-US" sz="2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Picture 4" descr="ножницы "/>
          <p:cNvPicPr/>
          <p:nvPr/>
        </p:nvPicPr>
        <p:blipFill>
          <a:blip r:embed="rId1"/>
          <a:stretch/>
        </p:blipFill>
        <p:spPr>
          <a:xfrm>
            <a:off x="5364000" y="990720"/>
            <a:ext cx="3108600" cy="5111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4248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a4"/>
            </a:solidFill>
            <a:miter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. НОЖНИЦЫ НЕЛЬЗ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ОСТАВЛЯТЬ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ОТКРЫТОМ ВИ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. НОЖНИЦЫ НЕЛЬЗ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БЛИЗКО ПОДНОС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. НОЖНИЦЫ НУ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ПЕРЕДАВАТЬ Д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ДРУГУ КОЛЬЦ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ВПЕРЕ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Untitled-Scanned-50"/>
          <p:cNvPicPr/>
          <p:nvPr/>
        </p:nvPicPr>
        <p:blipFill>
          <a:blip r:embed="rId1"/>
          <a:stretch/>
        </p:blipFill>
        <p:spPr>
          <a:xfrm>
            <a:off x="1219320" y="14400"/>
            <a:ext cx="6781680" cy="68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bae2a5d5f16bbbe98fe04a655fc7e6f1_full"/>
          <p:cNvPicPr/>
          <p:nvPr/>
        </p:nvPicPr>
        <p:blipFill>
          <a:blip r:embed="rId1"/>
          <a:srcRect l="8398" t="7337" r="16403" b="9464"/>
          <a:stretch/>
        </p:blipFill>
        <p:spPr>
          <a:xfrm>
            <a:off x="1600200" y="223920"/>
            <a:ext cx="5867280" cy="4868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447920" y="54100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 окружают самые разные живые существа. И в городе, и в деревне мы видим и слышим пти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 разных по размеру, по оперению, по голоса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bb2079-008"/>
          <p:cNvPicPr/>
          <p:nvPr/>
        </p:nvPicPr>
        <p:blipFill>
          <a:blip r:embed="rId1"/>
          <a:srcRect l="34324" t="9750" r="36575" b="32793"/>
          <a:stretch/>
        </p:blipFill>
        <p:spPr>
          <a:xfrm>
            <a:off x="380880" y="914400"/>
            <a:ext cx="3962520" cy="525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451947-001"/>
          <p:cNvPicPr/>
          <p:nvPr/>
        </p:nvPicPr>
        <p:blipFill>
          <a:blip r:embed="rId2"/>
          <a:srcRect l="0" t="0" r="7892" b="7704"/>
          <a:stretch/>
        </p:blipFill>
        <p:spPr>
          <a:xfrm>
            <a:off x="4689360" y="152280"/>
            <a:ext cx="4351320" cy="6477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80880" y="152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мотри, какое чудесное украшение на головах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90331-001"/>
          <p:cNvPicPr/>
          <p:nvPr/>
        </p:nvPicPr>
        <p:blipFill>
          <a:blip r:embed="rId1"/>
          <a:stretch/>
        </p:blipFill>
        <p:spPr>
          <a:xfrm>
            <a:off x="4562640" y="76320"/>
            <a:ext cx="4454280" cy="665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90307-001"/>
          <p:cNvPicPr/>
          <p:nvPr/>
        </p:nvPicPr>
        <p:blipFill>
          <a:blip r:embed="rId2"/>
          <a:srcRect l="18325" t="6657" r="0" b="0"/>
          <a:stretch/>
        </p:blipFill>
        <p:spPr>
          <a:xfrm>
            <a:off x="88920" y="76320"/>
            <a:ext cx="3875040" cy="6640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e4343b32209d7b729361edaaf06f4815_full"/>
          <p:cNvPicPr/>
          <p:nvPr/>
        </p:nvPicPr>
        <p:blipFill>
          <a:blip r:embed="rId1"/>
          <a:srcRect l="0" t="0" r="12004" b="0"/>
          <a:stretch/>
        </p:blipFill>
        <p:spPr>
          <a:xfrm>
            <a:off x="1143000" y="457200"/>
            <a:ext cx="688500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676520" y="457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ие разные клювы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ar7423-001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3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ba3324-001"/>
          <p:cNvPicPr/>
          <p:nvPr/>
        </p:nvPicPr>
        <p:blipFill>
          <a:blip r:embed="rId1"/>
          <a:srcRect l="0" t="0" r="4484" b="0"/>
          <a:stretch/>
        </p:blipFill>
        <p:spPr>
          <a:xfrm>
            <a:off x="304920" y="76320"/>
            <a:ext cx="8610480" cy="596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2952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ылья птиц не дают покоя изобретателям до сих пор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n8779-001"/>
          <p:cNvPicPr/>
          <p:nvPr/>
        </p:nvPicPr>
        <p:blipFill>
          <a:blip r:embed="rId1"/>
          <a:srcRect l="10149" t="33917" r="0" b="8667"/>
          <a:stretch/>
        </p:blipFill>
        <p:spPr>
          <a:xfrm>
            <a:off x="990720" y="0"/>
            <a:ext cx="716256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f334193f05ca99802f4dcd9829962a71_full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838080" y="228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ы очень разны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на</dc:creator>
  <dc:description/>
  <dc:language>en-US</dc:language>
  <cp:lastModifiedBy>Галина Николаевна Шульга</cp:lastModifiedBy>
  <dcterms:modified xsi:type="dcterms:W3CDTF">2022-04-09T10:46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