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3F9A-A6EE-4F22-BE2B-3030B21DB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традях учащи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ают примеры, составляют и решают урав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C8A-A2EC-4E78-A991-8A483F74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7B8-54EF-4501-B970-CBC262AA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21A-98C1-4E9F-8AAD-955E1F5D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481-E39A-4193-A30B-9E5E42EA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854-AC16-4FA8-907F-26B1580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A67-DDA3-4E4D-A4B3-BC69EA2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1B0-794A-4E5F-B98F-138DC9BD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EA3-0EBA-4404-B646-006EF1EC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E86-07E4-492E-9DAD-7FB84F10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EE1-73FB-4A73-89AE-C878404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63D-FCF7-4EF4-9A12-D8ABBBE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5A3-38E1-45A8-B2E7-6239EF9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E4A-1430-4CCF-92E3-FC3B4164E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0890200">
            <a:off x="178920" y="765000"/>
            <a:ext cx="796140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142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еление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142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50000">
                      <a:srgbClr val="0000ff"/>
                    </a:gs>
                    <a:gs pos="100000">
                      <a:srgbClr val="00ffff"/>
                    </a:gs>
                  </a:gsLst>
                  <a:lin ang="1420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обыкновенных дробей.</a:t>
            </a:r>
            <a:endParaRPr b="1" i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50000">
                    <a:srgbClr val="0000ff"/>
                  </a:gs>
                  <a:gs pos="100000">
                    <a:srgbClr val="00ffff"/>
                  </a:gs>
                </a:gsLst>
                <a:lin ang="1420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1673280" cy="169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1100160" cy="191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436572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414828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43700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70720" y="2637000"/>
            <a:ext cx="1673280" cy="16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902720" y="4365720"/>
            <a:ext cx="1100160" cy="191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2360" y="4365720"/>
            <a:ext cx="165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26" descr=""/>
          <p:cNvPicPr/>
          <p:nvPr/>
        </p:nvPicPr>
        <p:blipFill>
          <a:blip r:embed="rId1"/>
          <a:stretch/>
        </p:blipFill>
        <p:spPr>
          <a:xfrm>
            <a:off x="2655720" y="544680"/>
            <a:ext cx="2872080" cy="1226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324000" y="1989000"/>
            <a:ext cx="79200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Чтобы разделить одну дробь на другую, на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1) делимое (первую дробь) оставить без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2) делитель (вторую дробь) заменить  на обрат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Bookman Old Style"/>
              </a:rPr>
              <a:t>3) Выполнить умножение 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410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забуд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7120" y="3959280"/>
            <a:ext cx="510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есть возможность – сок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нужно – выдели целую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1"/>
          <p:cNvSpPr/>
          <p:nvPr/>
        </p:nvSpPr>
        <p:spPr>
          <a:xfrm>
            <a:off x="2071800" y="2238480"/>
            <a:ext cx="114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>
            <a:off x="2422440" y="2771640"/>
            <a:ext cx="443160" cy="18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071800" y="2725560"/>
            <a:ext cx="114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2786040" y="2455920"/>
            <a:ext cx="500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200400" y="2238480"/>
            <a:ext cx="44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>
            <a:off x="3200400" y="2771640"/>
            <a:ext cx="442800" cy="18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3192480" y="2725560"/>
            <a:ext cx="45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5143680" y="248616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9"/>
          <p:cNvSpPr/>
          <p:nvPr/>
        </p:nvSpPr>
        <p:spPr>
          <a:xfrm>
            <a:off x="5649840" y="2214720"/>
            <a:ext cx="779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0"/>
          <p:cNvSpPr/>
          <p:nvPr/>
        </p:nvSpPr>
        <p:spPr>
          <a:xfrm>
            <a:off x="5700600" y="2747880"/>
            <a:ext cx="728640" cy="18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1"/>
          <p:cNvSpPr/>
          <p:nvPr/>
        </p:nvSpPr>
        <p:spPr>
          <a:xfrm>
            <a:off x="5724360" y="2781360"/>
            <a:ext cx="779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2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3500280" y="2500200"/>
            <a:ext cx="714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3714840" y="2214720"/>
            <a:ext cx="114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4065480" y="2747880"/>
            <a:ext cx="443160" cy="18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6"/>
          <p:cNvSpPr/>
          <p:nvPr/>
        </p:nvSpPr>
        <p:spPr>
          <a:xfrm>
            <a:off x="3714840" y="2701800"/>
            <a:ext cx="114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4429080" y="2432160"/>
            <a:ext cx="500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4843440" y="2214720"/>
            <a:ext cx="44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843440" y="2747880"/>
            <a:ext cx="442800" cy="180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4835520" y="2701800"/>
            <a:ext cx="45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Bookman Old Style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1"/>
          <p:cNvSpPr/>
          <p:nvPr/>
        </p:nvSpPr>
        <p:spPr>
          <a:xfrm>
            <a:off x="0" y="620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Bookman Old Style"/>
              </a:rPr>
              <a:t>ЧТОБЫ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ookman Old Style"/>
              </a:rPr>
              <a:t>РАЗДЕЛИТЬ ОДНУ ДРОБЬ НА ДРУГУЮ</a:t>
            </a:r>
            <a:r>
              <a:rPr b="0" lang="en-US" sz="2800" spc="-1" strike="noStrike">
                <a:solidFill>
                  <a:srgbClr val="008000"/>
                </a:solidFill>
                <a:latin typeface="Bookman Old Style"/>
              </a:rPr>
              <a:t>, НАДО ДЕЛИМОЕ УМНОЖИТЬ НА ЧИСЛО, ОБРАТНОЕ ДЕЛИ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350028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ментар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слова, которые вы должны сказать, когда начинаете дел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делить пять седьмых на три четвертых – это то же самое, что пять седьмы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множи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етыре треть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меняю деление умн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 умн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льзя ли сократ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ужно ли выделить целую часть?(если дробь получилась неправи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2151000" y="338040"/>
            <a:ext cx="48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полните 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1398600" y="1033560"/>
            <a:ext cx="1530360" cy="12189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9" descr=""/>
          <p:cNvPicPr/>
          <p:nvPr/>
        </p:nvPicPr>
        <p:blipFill>
          <a:blip r:embed="rId2"/>
          <a:stretch/>
        </p:blipFill>
        <p:spPr>
          <a:xfrm>
            <a:off x="4138560" y="1041480"/>
            <a:ext cx="153036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3" descr=""/>
          <p:cNvPicPr/>
          <p:nvPr/>
        </p:nvPicPr>
        <p:blipFill>
          <a:blip r:embed="rId3"/>
          <a:stretch/>
        </p:blipFill>
        <p:spPr>
          <a:xfrm>
            <a:off x="500040" y="3357720"/>
            <a:ext cx="1255680" cy="1218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16960" y="24591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7" descr=""/>
          <p:cNvPicPr/>
          <p:nvPr/>
        </p:nvPicPr>
        <p:blipFill>
          <a:blip r:embed="rId4"/>
          <a:stretch/>
        </p:blipFill>
        <p:spPr>
          <a:xfrm>
            <a:off x="1663560" y="3357720"/>
            <a:ext cx="1292400" cy="1226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4" descr=""/>
          <p:cNvPicPr/>
          <p:nvPr/>
        </p:nvPicPr>
        <p:blipFill>
          <a:blip r:embed="rId5"/>
          <a:stretch/>
        </p:blipFill>
        <p:spPr>
          <a:xfrm>
            <a:off x="2762280" y="3357720"/>
            <a:ext cx="1590480" cy="1234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6" descr=""/>
          <p:cNvPicPr/>
          <p:nvPr/>
        </p:nvPicPr>
        <p:blipFill>
          <a:blip r:embed="rId6"/>
          <a:stretch/>
        </p:blipFill>
        <p:spPr>
          <a:xfrm>
            <a:off x="5748480" y="3340080"/>
            <a:ext cx="476280" cy="1227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7"/>
          <p:cNvSpPr/>
          <p:nvPr/>
        </p:nvSpPr>
        <p:spPr>
          <a:xfrm>
            <a:off x="6150960" y="36781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1"/>
          <p:cNvSpPr/>
          <p:nvPr/>
        </p:nvSpPr>
        <p:spPr>
          <a:xfrm>
            <a:off x="5724360" y="3384720"/>
            <a:ext cx="2019600" cy="1169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32" descr=""/>
          <p:cNvPicPr/>
          <p:nvPr/>
        </p:nvPicPr>
        <p:blipFill>
          <a:blip r:embed="rId7"/>
          <a:stretch/>
        </p:blipFill>
        <p:spPr>
          <a:xfrm>
            <a:off x="500040" y="4802040"/>
            <a:ext cx="125568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37" descr=""/>
          <p:cNvPicPr/>
          <p:nvPr/>
        </p:nvPicPr>
        <p:blipFill>
          <a:blip r:embed="rId8"/>
          <a:stretch/>
        </p:blipFill>
        <p:spPr>
          <a:xfrm>
            <a:off x="1646280" y="4819680"/>
            <a:ext cx="1292040" cy="12272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40" descr=""/>
          <p:cNvPicPr/>
          <p:nvPr/>
        </p:nvPicPr>
        <p:blipFill>
          <a:blip r:embed="rId9"/>
          <a:stretch/>
        </p:blipFill>
        <p:spPr>
          <a:xfrm>
            <a:off x="2773440" y="4819680"/>
            <a:ext cx="1590480" cy="12272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1" descr=""/>
          <p:cNvPicPr/>
          <p:nvPr/>
        </p:nvPicPr>
        <p:blipFill>
          <a:blip r:embed="rId10"/>
          <a:stretch/>
        </p:blipFill>
        <p:spPr>
          <a:xfrm>
            <a:off x="5688000" y="4802040"/>
            <a:ext cx="480960" cy="1229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2"/>
          <p:cNvSpPr/>
          <p:nvPr/>
        </p:nvSpPr>
        <p:spPr>
          <a:xfrm>
            <a:off x="6131880" y="516096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3" descr=""/>
          <p:cNvPicPr/>
          <p:nvPr/>
        </p:nvPicPr>
        <p:blipFill>
          <a:blip r:embed="rId11"/>
          <a:stretch/>
        </p:blipFill>
        <p:spPr>
          <a:xfrm>
            <a:off x="7345440" y="4795920"/>
            <a:ext cx="482400" cy="12189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4"/>
          <p:cNvSpPr/>
          <p:nvPr/>
        </p:nvSpPr>
        <p:spPr>
          <a:xfrm>
            <a:off x="5695920" y="4863960"/>
            <a:ext cx="2122560" cy="12067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1" descr=""/>
          <p:cNvPicPr/>
          <p:nvPr/>
        </p:nvPicPr>
        <p:blipFill>
          <a:blip r:embed="rId12"/>
          <a:stretch/>
        </p:blipFill>
        <p:spPr>
          <a:xfrm>
            <a:off x="7272360" y="3325680"/>
            <a:ext cx="47628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22"/>
          <p:cNvSpPr/>
          <p:nvPr/>
        </p:nvSpPr>
        <p:spPr>
          <a:xfrm flipV="1">
            <a:off x="3276720" y="4941360"/>
            <a:ext cx="379440" cy="29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 flipV="1">
            <a:off x="2843280" y="5660640"/>
            <a:ext cx="37944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30" descr=""/>
          <p:cNvPicPr/>
          <p:nvPr/>
        </p:nvPicPr>
        <p:blipFill>
          <a:blip r:embed="rId13"/>
          <a:stretch/>
        </p:blipFill>
        <p:spPr>
          <a:xfrm>
            <a:off x="3486240" y="4576680"/>
            <a:ext cx="37944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34" descr=""/>
          <p:cNvPicPr/>
          <p:nvPr/>
        </p:nvPicPr>
        <p:blipFill>
          <a:blip r:embed="rId14"/>
          <a:stretch/>
        </p:blipFill>
        <p:spPr>
          <a:xfrm>
            <a:off x="2687760" y="5853240"/>
            <a:ext cx="37944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260280"/>
            <a:ext cx="6985080" cy="647640"/>
          </a:xfrm>
          <a:prstGeom prst="wedgeRoundRectCallout">
            <a:avLst>
              <a:gd name="adj1" fmla="val -59069"/>
              <a:gd name="adj2" fmla="val 14975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Решите 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59280" y="1268280"/>
            <a:ext cx="2158560" cy="861840"/>
            <a:chOff x="3059280" y="1268280"/>
            <a:chExt cx="2158560" cy="861840"/>
          </a:xfrm>
        </p:grpSpPr>
        <p:sp>
          <p:nvSpPr>
            <p:cNvPr id="108" name=""/>
            <p:cNvSpPr txBox="1"/>
            <p:nvPr/>
          </p:nvSpPr>
          <p:spPr>
            <a:xfrm>
              <a:off x="3203640" y="1268280"/>
              <a:ext cx="2869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201840" y="1794960"/>
              <a:ext cx="28872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556360" y="1651680"/>
              <a:ext cx="502920" cy="47160"/>
            </a:xfrm>
            <a:prstGeom prst="rect">
              <a:avLst/>
            </a:prstGeom>
          </p:spPr>
          <p:txBody>
            <a:bodyPr wrap="none" lIns="90000" rIns="90000" tIns="720" bIns="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211640" y="1268280"/>
              <a:ext cx="2869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209840" y="1794960"/>
              <a:ext cx="28872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564720" y="1651680"/>
              <a:ext cx="502560" cy="47160"/>
            </a:xfrm>
            <a:prstGeom prst="rect">
              <a:avLst/>
            </a:prstGeom>
          </p:spPr>
          <p:txBody>
            <a:bodyPr wrap="none" lIns="90000" rIns="90000" tIns="720" bIns="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786200" y="1699560"/>
              <a:ext cx="431640" cy="9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3562200" y="1555920"/>
              <a:ext cx="50292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87640" y="2349360"/>
            <a:ext cx="2230560" cy="861840"/>
            <a:chOff x="2987640" y="2349360"/>
            <a:chExt cx="2230560" cy="861840"/>
          </a:xfrm>
        </p:grpSpPr>
        <p:sp>
          <p:nvSpPr>
            <p:cNvPr id="117" name=""/>
            <p:cNvSpPr txBox="1"/>
            <p:nvPr/>
          </p:nvSpPr>
          <p:spPr>
            <a:xfrm>
              <a:off x="3203640" y="2349360"/>
              <a:ext cx="287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987640" y="2875680"/>
              <a:ext cx="57636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556360" y="2732040"/>
              <a:ext cx="50292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4211640" y="2349360"/>
              <a:ext cx="287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210200" y="2875680"/>
              <a:ext cx="28872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564000" y="2732040"/>
              <a:ext cx="503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786200" y="2780640"/>
              <a:ext cx="432000" cy="9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562200" y="2636640"/>
              <a:ext cx="50328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87640" y="3429000"/>
            <a:ext cx="2230560" cy="861480"/>
            <a:chOff x="2987640" y="3429000"/>
            <a:chExt cx="2230560" cy="861480"/>
          </a:xfrm>
        </p:grpSpPr>
        <p:sp>
          <p:nvSpPr>
            <p:cNvPr id="126" name=""/>
            <p:cNvSpPr txBox="1"/>
            <p:nvPr/>
          </p:nvSpPr>
          <p:spPr>
            <a:xfrm>
              <a:off x="3203640" y="3429000"/>
              <a:ext cx="287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987640" y="3954960"/>
              <a:ext cx="57636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556360" y="3811320"/>
              <a:ext cx="50292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4211640" y="3429000"/>
              <a:ext cx="287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210200" y="3954960"/>
              <a:ext cx="28872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564000" y="3811320"/>
              <a:ext cx="503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786200" y="3859920"/>
              <a:ext cx="432000" cy="9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3562200" y="3716280"/>
              <a:ext cx="503280" cy="33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59280" y="4508640"/>
            <a:ext cx="2158560" cy="861480"/>
            <a:chOff x="3059280" y="4508640"/>
            <a:chExt cx="2158560" cy="861480"/>
          </a:xfrm>
        </p:grpSpPr>
        <p:sp>
          <p:nvSpPr>
            <p:cNvPr id="135" name=""/>
            <p:cNvSpPr txBox="1"/>
            <p:nvPr/>
          </p:nvSpPr>
          <p:spPr>
            <a:xfrm>
              <a:off x="3203640" y="4508640"/>
              <a:ext cx="2869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201840" y="5034960"/>
              <a:ext cx="28872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556360" y="4892040"/>
              <a:ext cx="502920" cy="47160"/>
            </a:xfrm>
            <a:prstGeom prst="rect">
              <a:avLst/>
            </a:prstGeom>
          </p:spPr>
          <p:txBody>
            <a:bodyPr wrap="none" lIns="90000" rIns="90000" tIns="720" bIns="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211640" y="4508640"/>
              <a:ext cx="2869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209840" y="5034960"/>
              <a:ext cx="28872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564720" y="4892040"/>
              <a:ext cx="502560" cy="47160"/>
            </a:xfrm>
            <a:prstGeom prst="rect">
              <a:avLst/>
            </a:prstGeom>
          </p:spPr>
          <p:txBody>
            <a:bodyPr wrap="none" lIns="90000" rIns="90000" tIns="720" bIns="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786200" y="4939920"/>
              <a:ext cx="431640" cy="9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562200" y="4795920"/>
              <a:ext cx="50292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24000" y="5661000"/>
            <a:ext cx="3095640" cy="862200"/>
            <a:chOff x="2124000" y="5661000"/>
            <a:chExt cx="3095640" cy="862200"/>
          </a:xfrm>
        </p:grpSpPr>
        <p:sp>
          <p:nvSpPr>
            <p:cNvPr id="144" name=""/>
            <p:cNvSpPr txBox="1"/>
            <p:nvPr/>
          </p:nvSpPr>
          <p:spPr>
            <a:xfrm>
              <a:off x="2268360" y="5661000"/>
              <a:ext cx="287640" cy="36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266920" y="6188040"/>
              <a:ext cx="28908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1620720" y="6045480"/>
              <a:ext cx="503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276720" y="5661000"/>
              <a:ext cx="287280" cy="36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274920" y="6188040"/>
              <a:ext cx="28908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28720" y="6045480"/>
              <a:ext cx="503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788000" y="6093000"/>
              <a:ext cx="431640" cy="9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843280" y="6093000"/>
              <a:ext cx="71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635280" y="5950080"/>
              <a:ext cx="503280" cy="33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284720" y="5661000"/>
              <a:ext cx="287280" cy="36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282920" y="6188040"/>
              <a:ext cx="28908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637440" y="6045480"/>
              <a:ext cx="50292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435640" y="1268280"/>
            <a:ext cx="576000" cy="955440"/>
            <a:chOff x="5435640" y="1268280"/>
            <a:chExt cx="576000" cy="955440"/>
          </a:xfrm>
        </p:grpSpPr>
        <p:sp>
          <p:nvSpPr>
            <p:cNvPr id="157" name=""/>
            <p:cNvSpPr txBox="1"/>
            <p:nvPr/>
          </p:nvSpPr>
          <p:spPr>
            <a:xfrm>
              <a:off x="5435640" y="1268280"/>
              <a:ext cx="57600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7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5435640" y="1832400"/>
              <a:ext cx="576000" cy="39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2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435640" y="1706760"/>
              <a:ext cx="57600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435640" y="2349360"/>
            <a:ext cx="576000" cy="955440"/>
            <a:chOff x="5435640" y="2349360"/>
            <a:chExt cx="576000" cy="955440"/>
          </a:xfrm>
        </p:grpSpPr>
        <p:sp>
          <p:nvSpPr>
            <p:cNvPr id="161" name=""/>
            <p:cNvSpPr txBox="1"/>
            <p:nvPr/>
          </p:nvSpPr>
          <p:spPr>
            <a:xfrm>
              <a:off x="5435640" y="2349360"/>
              <a:ext cx="57600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5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435640" y="2913480"/>
              <a:ext cx="576000" cy="39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6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5640" y="2787840"/>
              <a:ext cx="57600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35640" y="3429000"/>
            <a:ext cx="576360" cy="955800"/>
            <a:chOff x="5435640" y="3429000"/>
            <a:chExt cx="576360" cy="955800"/>
          </a:xfrm>
        </p:grpSpPr>
        <p:sp>
          <p:nvSpPr>
            <p:cNvPr id="165" name=""/>
            <p:cNvSpPr txBox="1"/>
            <p:nvPr/>
          </p:nvSpPr>
          <p:spPr>
            <a:xfrm>
              <a:off x="5580000" y="3429000"/>
              <a:ext cx="28728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5435640" y="3992400"/>
              <a:ext cx="576360" cy="39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3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435640" y="3867120"/>
              <a:ext cx="57636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35640" y="4508640"/>
            <a:ext cx="576000" cy="955080"/>
            <a:chOff x="5435640" y="4508640"/>
            <a:chExt cx="576000" cy="955080"/>
          </a:xfrm>
        </p:grpSpPr>
        <p:sp>
          <p:nvSpPr>
            <p:cNvPr id="169" name=""/>
            <p:cNvSpPr txBox="1"/>
            <p:nvPr/>
          </p:nvSpPr>
          <p:spPr>
            <a:xfrm>
              <a:off x="5435640" y="4508640"/>
              <a:ext cx="57600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1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435640" y="5072400"/>
              <a:ext cx="576000" cy="39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0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435640" y="4946760"/>
              <a:ext cx="57600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435640" y="5661000"/>
            <a:ext cx="576000" cy="955440"/>
            <a:chOff x="5435640" y="5661000"/>
            <a:chExt cx="576000" cy="955440"/>
          </a:xfrm>
        </p:grpSpPr>
        <p:sp>
          <p:nvSpPr>
            <p:cNvPr id="173" name=""/>
            <p:cNvSpPr txBox="1"/>
            <p:nvPr/>
          </p:nvSpPr>
          <p:spPr>
            <a:xfrm>
              <a:off x="5435640" y="5661000"/>
              <a:ext cx="576000" cy="3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4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435640" y="6225120"/>
              <a:ext cx="576000" cy="39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1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435640" y="6099480"/>
              <a:ext cx="57600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435640" y="5661000"/>
            <a:ext cx="576360" cy="955800"/>
            <a:chOff x="5435640" y="5661000"/>
            <a:chExt cx="576360" cy="955800"/>
          </a:xfrm>
        </p:grpSpPr>
        <p:sp>
          <p:nvSpPr>
            <p:cNvPr id="177" name=""/>
            <p:cNvSpPr txBox="1"/>
            <p:nvPr/>
          </p:nvSpPr>
          <p:spPr>
            <a:xfrm>
              <a:off x="5580000" y="5661000"/>
              <a:ext cx="2876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435640" y="6224760"/>
              <a:ext cx="57636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7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435640" y="6099120"/>
              <a:ext cx="57636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efefe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24000" y="260280"/>
            <a:ext cx="6769080" cy="1584360"/>
          </a:xfrm>
          <a:prstGeom prst="wedgeRoundRectCallout">
            <a:avLst>
              <a:gd name="adj1" fmla="val -64870"/>
              <a:gd name="adj2" fmla="val 22046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Заполните табли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затем проверь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68360" y="1989000"/>
          <a:ext cx="6583320" cy="4679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</a:tblGrid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 * 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 : 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4643280" y="2133720"/>
            <a:ext cx="358920" cy="969480"/>
            <a:chOff x="4643280" y="2133720"/>
            <a:chExt cx="358920" cy="969480"/>
          </a:xfrm>
        </p:grpSpPr>
        <p:sp>
          <p:nvSpPr>
            <p:cNvPr id="184" name=""/>
            <p:cNvSpPr txBox="1"/>
            <p:nvPr/>
          </p:nvSpPr>
          <p:spPr>
            <a:xfrm>
              <a:off x="4697640" y="2133720"/>
              <a:ext cx="218880" cy="34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697640" y="2697120"/>
              <a:ext cx="21780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284360" y="2508480"/>
              <a:ext cx="358920" cy="62280"/>
            </a:xfrm>
            <a:prstGeom prst="rect">
              <a:avLst/>
            </a:prstGeom>
          </p:spPr>
          <p:txBody>
            <a:bodyPr wrap="none" lIns="90000" rIns="90000" tIns="15840" bIns="15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300720" y="2133720"/>
            <a:ext cx="358920" cy="969480"/>
            <a:chOff x="6300720" y="2133720"/>
            <a:chExt cx="358920" cy="969480"/>
          </a:xfrm>
        </p:grpSpPr>
        <p:sp>
          <p:nvSpPr>
            <p:cNvPr id="188" name=""/>
            <p:cNvSpPr txBox="1"/>
            <p:nvPr/>
          </p:nvSpPr>
          <p:spPr>
            <a:xfrm>
              <a:off x="6355080" y="2133720"/>
              <a:ext cx="218880" cy="34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355080" y="2697120"/>
              <a:ext cx="21780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941800" y="2508480"/>
              <a:ext cx="358920" cy="62280"/>
            </a:xfrm>
            <a:prstGeom prst="rect">
              <a:avLst/>
            </a:prstGeom>
          </p:spPr>
          <p:txBody>
            <a:bodyPr wrap="none" lIns="90000" rIns="90000" tIns="15840" bIns="15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3284640"/>
            <a:ext cx="358920" cy="969480"/>
            <a:chOff x="4643280" y="3284640"/>
            <a:chExt cx="358920" cy="969480"/>
          </a:xfrm>
        </p:grpSpPr>
        <p:sp>
          <p:nvSpPr>
            <p:cNvPr id="192" name=""/>
            <p:cNvSpPr txBox="1"/>
            <p:nvPr/>
          </p:nvSpPr>
          <p:spPr>
            <a:xfrm>
              <a:off x="4697640" y="3284640"/>
              <a:ext cx="218880" cy="34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4697640" y="3848040"/>
              <a:ext cx="21780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4284360" y="3659400"/>
              <a:ext cx="358920" cy="62280"/>
            </a:xfrm>
            <a:prstGeom prst="rect">
              <a:avLst/>
            </a:prstGeom>
          </p:spPr>
          <p:txBody>
            <a:bodyPr wrap="none" lIns="90000" rIns="90000" tIns="15840" bIns="15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885080" y="5589720"/>
            <a:ext cx="358920" cy="969480"/>
            <a:chOff x="7885080" y="5589720"/>
            <a:chExt cx="358920" cy="969480"/>
          </a:xfrm>
        </p:grpSpPr>
        <p:sp>
          <p:nvSpPr>
            <p:cNvPr id="196" name=""/>
            <p:cNvSpPr txBox="1"/>
            <p:nvPr/>
          </p:nvSpPr>
          <p:spPr>
            <a:xfrm>
              <a:off x="7939440" y="5589720"/>
              <a:ext cx="218880" cy="34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7939440" y="6153120"/>
              <a:ext cx="21780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526160" y="5964480"/>
              <a:ext cx="358920" cy="62280"/>
            </a:xfrm>
            <a:prstGeom prst="rect">
              <a:avLst/>
            </a:prstGeom>
          </p:spPr>
          <p:txBody>
            <a:bodyPr wrap="none" lIns="90000" rIns="90000" tIns="15840" bIns="15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156360" y="4437000"/>
            <a:ext cx="647280" cy="969840"/>
            <a:chOff x="6156360" y="4437000"/>
            <a:chExt cx="647280" cy="969840"/>
          </a:xfrm>
        </p:grpSpPr>
        <p:sp>
          <p:nvSpPr>
            <p:cNvPr id="200" name=""/>
            <p:cNvSpPr txBox="1"/>
            <p:nvPr/>
          </p:nvSpPr>
          <p:spPr>
            <a:xfrm>
              <a:off x="6254280" y="4437000"/>
              <a:ext cx="394920" cy="34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</a:t>
              </a:r>
              <a:endPara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6254280" y="5000760"/>
              <a:ext cx="39312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1</a:t>
              </a:r>
              <a:endPara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509080" y="4811760"/>
              <a:ext cx="647280" cy="62280"/>
            </a:xfrm>
            <a:prstGeom prst="rect">
              <a:avLst/>
            </a:prstGeom>
          </p:spPr>
          <p:txBody>
            <a:bodyPr wrap="none" lIns="90000" rIns="90000" tIns="15840" bIns="15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812000" y="3284640"/>
            <a:ext cx="431640" cy="969840"/>
            <a:chOff x="7812000" y="3284640"/>
            <a:chExt cx="431640" cy="969840"/>
          </a:xfrm>
        </p:grpSpPr>
        <p:sp>
          <p:nvSpPr>
            <p:cNvPr id="204" name=""/>
            <p:cNvSpPr txBox="1"/>
            <p:nvPr/>
          </p:nvSpPr>
          <p:spPr>
            <a:xfrm>
              <a:off x="7937280" y="3284640"/>
              <a:ext cx="219240" cy="3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7812000" y="3848040"/>
              <a:ext cx="431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7381800" y="3645000"/>
              <a:ext cx="430200" cy="6984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72000" y="4437000"/>
            <a:ext cx="431640" cy="969840"/>
            <a:chOff x="4572000" y="4437000"/>
            <a:chExt cx="431640" cy="969840"/>
          </a:xfrm>
        </p:grpSpPr>
        <p:sp>
          <p:nvSpPr>
            <p:cNvPr id="208" name=""/>
            <p:cNvSpPr txBox="1"/>
            <p:nvPr/>
          </p:nvSpPr>
          <p:spPr>
            <a:xfrm>
              <a:off x="4697280" y="4437000"/>
              <a:ext cx="219240" cy="3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4572000" y="5000400"/>
              <a:ext cx="431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141800" y="4797360"/>
              <a:ext cx="430200" cy="6984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643280" y="5589720"/>
            <a:ext cx="358920" cy="969480"/>
            <a:chOff x="4643280" y="5589720"/>
            <a:chExt cx="358920" cy="969480"/>
          </a:xfrm>
        </p:grpSpPr>
        <p:sp>
          <p:nvSpPr>
            <p:cNvPr id="212" name=""/>
            <p:cNvSpPr txBox="1"/>
            <p:nvPr/>
          </p:nvSpPr>
          <p:spPr>
            <a:xfrm>
              <a:off x="4697640" y="5589720"/>
              <a:ext cx="218880" cy="34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4697640" y="6153120"/>
              <a:ext cx="21780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284360" y="5964480"/>
              <a:ext cx="358920" cy="62280"/>
            </a:xfrm>
            <a:prstGeom prst="rect">
              <a:avLst/>
            </a:prstGeom>
          </p:spPr>
          <p:txBody>
            <a:bodyPr wrap="none" lIns="90000" rIns="90000" tIns="15840" bIns="15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812000" y="2133720"/>
            <a:ext cx="431640" cy="969840"/>
            <a:chOff x="7812000" y="2133720"/>
            <a:chExt cx="431640" cy="969840"/>
          </a:xfrm>
        </p:grpSpPr>
        <p:sp>
          <p:nvSpPr>
            <p:cNvPr id="216" name=""/>
            <p:cNvSpPr txBox="1"/>
            <p:nvPr/>
          </p:nvSpPr>
          <p:spPr>
            <a:xfrm>
              <a:off x="7937280" y="2133720"/>
              <a:ext cx="219240" cy="3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7812000" y="2697120"/>
              <a:ext cx="431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</a:t>
              </a:r>
              <a:endParaRPr b="1" lang="en-US" sz="32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381800" y="2494080"/>
              <a:ext cx="430200" cy="6984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84720" y="3284640"/>
            <a:ext cx="574920" cy="969480"/>
            <a:chOff x="6084720" y="3284640"/>
            <a:chExt cx="574920" cy="969480"/>
          </a:xfrm>
        </p:grpSpPr>
        <p:sp>
          <p:nvSpPr>
            <p:cNvPr id="220" name=""/>
            <p:cNvSpPr txBox="1"/>
            <p:nvPr/>
          </p:nvSpPr>
          <p:spPr>
            <a:xfrm>
              <a:off x="6354720" y="3284640"/>
              <a:ext cx="218880" cy="3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6354720" y="3848040"/>
              <a:ext cx="217440" cy="40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5941800" y="3660120"/>
              <a:ext cx="358920" cy="61560"/>
            </a:xfrm>
            <a:prstGeom prst="rect">
              <a:avLst/>
            </a:prstGeom>
          </p:spPr>
          <p:txBody>
            <a:bodyPr wrap="none" lIns="90000" rIns="90000" tIns="15120" bIns="151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6084720" y="3571560"/>
              <a:ext cx="219240" cy="3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27640" y="5589720"/>
            <a:ext cx="431640" cy="969840"/>
            <a:chOff x="6227640" y="5589720"/>
            <a:chExt cx="431640" cy="969840"/>
          </a:xfrm>
        </p:grpSpPr>
        <p:sp>
          <p:nvSpPr>
            <p:cNvPr id="225" name=""/>
            <p:cNvSpPr txBox="1"/>
            <p:nvPr/>
          </p:nvSpPr>
          <p:spPr>
            <a:xfrm>
              <a:off x="6352920" y="5589720"/>
              <a:ext cx="219240" cy="3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6227640" y="6153120"/>
              <a:ext cx="431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5797440" y="5950080"/>
              <a:ext cx="430200" cy="6984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740720" y="4437000"/>
            <a:ext cx="647640" cy="970200"/>
            <a:chOff x="7740720" y="4437000"/>
            <a:chExt cx="647640" cy="970200"/>
          </a:xfrm>
        </p:grpSpPr>
        <p:sp>
          <p:nvSpPr>
            <p:cNvPr id="229" name=""/>
            <p:cNvSpPr txBox="1"/>
            <p:nvPr/>
          </p:nvSpPr>
          <p:spPr>
            <a:xfrm>
              <a:off x="7839000" y="4437000"/>
              <a:ext cx="39528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9</a:t>
              </a:r>
              <a:endParaRPr b="1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7740720" y="5000760"/>
              <a:ext cx="647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</a:t>
              </a:r>
              <a:endParaRPr b="1" lang="en-US" sz="32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7093080" y="4813200"/>
              <a:ext cx="647640" cy="61920"/>
            </a:xfrm>
            <a:prstGeom prst="rect">
              <a:avLst/>
            </a:prstGeom>
          </p:spPr>
          <p:txBody>
            <a:bodyPr wrap="none" lIns="90000" rIns="90000" tIns="15480" bIns="15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0:29:13Z</dcterms:created>
  <dc:creator>MAMA</dc:creator>
  <dc:description/>
  <dc:language>en-US</dc:language>
  <cp:lastModifiedBy>Математика</cp:lastModifiedBy>
  <dcterms:modified xsi:type="dcterms:W3CDTF">2020-03-25T07:56:47Z</dcterms:modified>
  <cp:revision>16</cp:revision>
  <dc:subject/>
  <dc:title>Слайд 1</dc:title>
</cp:coreProperties>
</file>