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AF9-9D5F-45A1-821F-E5102209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097-BEEE-470C-B92D-2B5A2ED7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D54D-514A-42B6-8FC1-C5414B5F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55F-0AA1-4046-896C-443CEED9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D089-0541-470E-BD5F-E2E74D6E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B8EC-AA42-4B8B-A750-021EC491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2310-746C-4CB8-A069-D69A7E16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05F1-23E3-463D-B5E3-F98C8DAE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7908-3435-4C55-B772-4BEB48D9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3A61-0022-4202-ADD6-89D5F52A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8167-1C24-4056-8AC0-296D6C93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82D-8C9B-48FE-BA4D-2C9717DA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5044-9414-4AE3-9A14-A98A747B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EAE4-0AD1-4AB0-9F11-38882DB6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3B36-946E-48BB-8A34-6D1CD4FE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1E89-D763-458A-B8D2-F255EDD8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065B-CF0C-4D5E-BB57-00A8A829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5D6-7C51-4FD4-BAC6-247955B8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02D-CBAB-4C2D-9F2D-5BF1737F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3095-E7E8-49C8-B30D-8C8A044A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B83-008E-4F69-96B7-9FC72339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129-E851-438D-B38E-81D43679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485-2E15-4BA3-A815-073D06D7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92E0-C0FA-47E3-B297-43ABAB37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70b42962396a.png"/>
          <p:cNvPicPr/>
          <p:nvPr/>
        </p:nvPicPr>
        <p:blipFill>
          <a:blip r:embed="rId3"/>
          <a:stretch/>
        </p:blipFill>
        <p:spPr>
          <a:xfrm>
            <a:off x="7701120" y="5391000"/>
            <a:ext cx="1442880" cy="146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A6C9-1A96-4DB7-ADC0-FB7E9B91BB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70b42962396a.png"/>
          <p:cNvPicPr/>
          <p:nvPr/>
        </p:nvPicPr>
        <p:blipFill>
          <a:blip r:embed="rId3"/>
          <a:stretch/>
        </p:blipFill>
        <p:spPr>
          <a:xfrm>
            <a:off x="7701120" y="5391000"/>
            <a:ext cx="1442880" cy="1467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4aacc0cbe69a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0D41-E9AD-4309-A4B6-571AE0C187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Родительское собрание на тем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13880" y="1500120"/>
            <a:ext cx="8001000" cy="23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03152"/>
                </a:solidFill>
                <a:latin typeface="Monotype Corsiva"/>
              </a:rPr>
              <a:t>«Правила дорожные знать каждому   положено!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" descr="C:\Users\user\Desktop\index.jpg"/>
          <p:cNvPicPr/>
          <p:nvPr/>
        </p:nvPicPr>
        <p:blipFill>
          <a:blip r:embed="rId1"/>
          <a:stretch/>
        </p:blipFill>
        <p:spPr>
          <a:xfrm rot="20690400">
            <a:off x="506520" y="3908520"/>
            <a:ext cx="2295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1640" y="475920"/>
            <a:ext cx="432108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ЛИКЕРЫ</a:t>
            </a:r>
            <a:br>
              <a:rPr sz="2900"/>
            </a:br>
            <a:r>
              <a:rPr b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кропризматические световозвращател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3384720" cy="5329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3776760" cy="37767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6"/>
          <p:cNvSpPr/>
          <p:nvPr/>
        </p:nvSpPr>
        <p:spPr>
          <a:xfrm>
            <a:off x="1763640" y="602136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тань заметне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71960" y="785520"/>
            <a:ext cx="3857760" cy="38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3152"/>
                </a:solidFill>
                <a:latin typeface="Monotype Corsiva"/>
              </a:rPr>
              <a:t>Спасибо </a:t>
            </a:r>
            <a:br>
              <a:rPr sz="6000"/>
            </a:br>
            <a:r>
              <a:rPr b="1" lang="ru-RU" sz="6000" spc="-1" strike="noStrike">
                <a:solidFill>
                  <a:srgbClr val="403152"/>
                </a:solidFill>
                <a:latin typeface="Monotype Corsiva"/>
              </a:rPr>
              <a:t>за </a:t>
            </a:r>
            <a:br>
              <a:rPr sz="6000"/>
            </a:br>
            <a:r>
              <a:rPr b="1" lang="ru-RU" sz="6000" spc="-1" strike="noStrike">
                <a:solidFill>
                  <a:srgbClr val="403152"/>
                </a:solidFill>
                <a:latin typeface="Monotype Corsiva"/>
              </a:rPr>
              <a:t>внимание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irc_mi" descr="http://www.nd.ru/images/packages/100067/100067_box_350.jpg"/>
          <p:cNvPicPr/>
          <p:nvPr/>
        </p:nvPicPr>
        <p:blipFill>
          <a:blip r:embed="rId1"/>
          <a:stretch/>
        </p:blipFill>
        <p:spPr>
          <a:xfrm>
            <a:off x="642960" y="1357200"/>
            <a:ext cx="33577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434600"/>
            <a:ext cx="3780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тите ли вы, не хотите л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дело, товарищи, в то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прежде всего – вы родител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се остальное – потом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учитель\Desktop\дети и мама. фото Юрия Махалова .jpg"/>
          <p:cNvPicPr/>
          <p:nvPr/>
        </p:nvPicPr>
        <p:blipFill>
          <a:blip r:embed="rId1"/>
          <a:stretch/>
        </p:blipFill>
        <p:spPr>
          <a:xfrm>
            <a:off x="3898800" y="692280"/>
            <a:ext cx="49942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Размин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rc_mi" descr="http://www.alla4u.ru/wp-content/uploads/2010/08/%D0%BF%D0%B4%D0%B4-%D1%81%D1%82%D0%B5%D0%BD%D0%B4.jpg"/>
          <p:cNvPicPr/>
          <p:nvPr/>
        </p:nvPicPr>
        <p:blipFill>
          <a:blip r:embed="rId1"/>
          <a:stretch/>
        </p:blipFill>
        <p:spPr>
          <a:xfrm>
            <a:off x="285840" y="1285920"/>
            <a:ext cx="77864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Почему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http://nsportal.ru/sites/default/files/2013/07/25/izobrazhenie_2.jpg"/>
          <p:cNvPicPr/>
          <p:nvPr/>
        </p:nvPicPr>
        <p:blipFill>
          <a:blip r:embed="rId1"/>
          <a:stretch/>
        </p:blipFill>
        <p:spPr>
          <a:xfrm>
            <a:off x="714240" y="1357200"/>
            <a:ext cx="7858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Знаконар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3" descr="Стихи о дорожных знаках. Дорожный знак. Пешеходный переход."/>
          <p:cNvPicPr/>
          <p:nvPr/>
        </p:nvPicPr>
        <p:blipFill>
          <a:blip r:embed="rId1"/>
          <a:stretch/>
        </p:blipFill>
        <p:spPr>
          <a:xfrm>
            <a:off x="642960" y="857160"/>
            <a:ext cx="1285920" cy="12146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Стихи о дорожных знаках. Дорожный знак. Движение без остановки запрещено."/>
          <p:cNvPicPr/>
          <p:nvPr/>
        </p:nvPicPr>
        <p:blipFill>
          <a:blip r:embed="rId2"/>
          <a:stretch/>
        </p:blipFill>
        <p:spPr>
          <a:xfrm>
            <a:off x="4286160" y="2500200"/>
            <a:ext cx="1071720" cy="10000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Стихи о дорожных знаках. Дорожный знак. Движение пешеходов запрещено."/>
          <p:cNvPicPr/>
          <p:nvPr/>
        </p:nvPicPr>
        <p:blipFill>
          <a:blip r:embed="rId3"/>
          <a:stretch/>
        </p:blipFill>
        <p:spPr>
          <a:xfrm>
            <a:off x="1428840" y="3071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Стихи о дорожных знаках. Дорожный знак. Место стоянки."/>
          <p:cNvPicPr/>
          <p:nvPr/>
        </p:nvPicPr>
        <p:blipFill>
          <a:blip r:embed="rId4"/>
          <a:stretch/>
        </p:blipFill>
        <p:spPr>
          <a:xfrm>
            <a:off x="7000920" y="928800"/>
            <a:ext cx="107136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Стихи о дорожных знаках. Дорожный знак. Главная дорога."/>
          <p:cNvPicPr/>
          <p:nvPr/>
        </p:nvPicPr>
        <p:blipFill>
          <a:blip r:embed="rId5"/>
          <a:stretch/>
        </p:blipFill>
        <p:spPr>
          <a:xfrm>
            <a:off x="6643800" y="2928960"/>
            <a:ext cx="1233360" cy="1214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Стихи о дорожных знаках. Дорожный знак. Подземный пешеходный переход."/>
          <p:cNvPicPr/>
          <p:nvPr/>
        </p:nvPicPr>
        <p:blipFill>
          <a:blip r:embed="rId6"/>
          <a:stretch/>
        </p:blipFill>
        <p:spPr>
          <a:xfrm>
            <a:off x="2714760" y="4857840"/>
            <a:ext cx="1071360" cy="1071360"/>
          </a:xfrm>
          <a:prstGeom prst="rect">
            <a:avLst/>
          </a:prstGeom>
          <a:ln w="0">
            <a:noFill/>
          </a:ln>
        </p:spPr>
      </p:pic>
      <p:pic>
        <p:nvPicPr>
          <p:cNvPr id="101" name="irc_mi" descr="http://assets.its-spc.ru/waymark/road+signs/3.27.gif"/>
          <p:cNvPicPr/>
          <p:nvPr/>
        </p:nvPicPr>
        <p:blipFill>
          <a:blip r:embed="rId7"/>
          <a:stretch/>
        </p:blipFill>
        <p:spPr>
          <a:xfrm>
            <a:off x="5214960" y="4714920"/>
            <a:ext cx="1114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В пробк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5" descr="http://www.uidru.cdutt.ru/images/p62_krossvordmashinkanaglobuse.jpg"/>
          <p:cNvPicPr/>
          <p:nvPr/>
        </p:nvPicPr>
        <p:blipFill>
          <a:blip r:embed="rId1"/>
          <a:stretch/>
        </p:blipFill>
        <p:spPr>
          <a:xfrm>
            <a:off x="1152360" y="1600200"/>
            <a:ext cx="683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должен знать ребенок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1. Основные термины и понятия правил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2. Обязанности пешеход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3. Обязанности пассажир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4. Регулирование дорожного движе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5. Сигналы светофор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6. Предупредительные сигнал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7. Движение через железнодорожные пут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8. Движение в жилых зонах и перевозка людей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9. Особенности движения на велосипед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учитель\Desktop\светофор.jpg"/>
          <p:cNvPicPr/>
          <p:nvPr/>
        </p:nvPicPr>
        <p:blipFill>
          <a:blip r:embed="rId1"/>
          <a:stretch/>
        </p:blipFill>
        <p:spPr>
          <a:xfrm>
            <a:off x="7343640" y="620640"/>
            <a:ext cx="1800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АМЯТКА: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ОМНИТЬ! ЗНАТЬ! СОБЛЮДАТЬ!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21436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Ходи по тротуару, придерживаясь его правой сторо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ереходи улицу только по пешеходному перех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ереходя дорогу, посмотри, нет ли близко маш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ереходи улицу только на зеленый сигнал светоф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 перебегай проезжую часть перед близко идущим транспор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 обходи стоящий автомобиль – это опасно. Подожди, когда он отъед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За городом нужно идти по обочине дороги навстречу движущемуся транспор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ыучи безопасный маршрут в школу и ходи только по нему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учитель\Desktop\veselyj-svetofor-0810-eb5c13.jpg"/>
          <p:cNvPicPr/>
          <p:nvPr/>
        </p:nvPicPr>
        <p:blipFill>
          <a:blip r:embed="rId1"/>
          <a:stretch/>
        </p:blipFill>
        <p:spPr>
          <a:xfrm>
            <a:off x="0" y="0"/>
            <a:ext cx="164160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Советы Бывалог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4200" y="857160"/>
            <a:ext cx="8715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амятка для родителей    по правилам дорожного дви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обходимо учить детей не только соблюдать Правила движения, но и с самого раннего возраста учить их наблюдать и ориентироваться. Нужно учитывать, что основной способ формирования навыков поведения - наблюдение, подражание взрослым, прежде всего родителям. Многие родители, не понимая этого, личным примером обучают детей неправильному поведени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. Находясь с ребенком на проезжей части, не спешите, переходите дорогу размеренным шагом. Иначе вы научите спешить там, где надо наблюдать и обеспечить безопаснос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. Не посылайте ребенка переходить или перебегать дорогу впереди вас - этим вы обучаете его идти через дорогу, не глядя по сторонам. Маленького ребенка надо крепко держать за руку, быть готовым удержать при попытке вырваться - это типичная причина несчастных случае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. Учите ребенка смотреть. У ребенка должен быть выработан твердый навык: прежде чем сделать первый шаг с тротуара, он поворачивает голову и осматривает дорогу во всех направлениях. Это должно быть доведено до автоматиз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5. Учите ребенка замечать машину. Иногда ребенок не замечает машину или мотоцикл издалека. Научите его всматриваться вдал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6. Учите ребенка оценивать скорость и направление будущего движения машины. Научите ребенка определять, какая едет прямо, а какая готовится к поворот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7. Твердо усвойте сами и научите ребенка, что входить в любой вид транспорта и выходить из него можно только тогда, когда он стоит. Объясните ребенку, почему нельзя прыгать на ход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5:27:25Z</dcterms:created>
  <dc:creator>Helen</dc:creator>
  <dc:description/>
  <dc:language>en-US</dc:language>
  <cp:lastModifiedBy>Admin</cp:lastModifiedBy>
  <dcterms:modified xsi:type="dcterms:W3CDTF">2018-09-20T14:47:58Z</dcterms:modified>
  <cp:revision>15</cp:revision>
  <dc:subject/>
  <dc:title>Слайд 1</dc:title>
</cp:coreProperties>
</file>