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45B7-F250-4166-B340-F7A29A9B6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3D54-4958-4B6E-85F7-C2B99B81C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18BB-6C0A-42AD-AA68-581134842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0C07-B437-4FE5-8461-ACD2AC932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37785-1A3A-4FDD-B9AC-04FA3107F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32C8E-8266-42BD-80D0-D22504152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10671-E8C4-4817-AC19-59C36014E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4AB15-BFC1-4090-BF17-5066AB20B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EAB32-7408-4246-B226-413CADDEB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28F39-DF07-4649-B90D-9CE0E3FB6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F02EB-7A5A-4047-B767-9A4539F33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06CF-8553-4FA0-BBC5-F1E34CE69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FD111-BCB1-45C8-8BCD-0E632D136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23442-9719-4BF8-87F9-EA6EF52BC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6B0D1-B950-44C8-A250-D5CAC27DC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35763-CB84-4D4E-B0A7-63EBB0D17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3C65B-AF0B-42C7-91D7-64BE461BC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FDB1-55B5-401C-B61F-73D0B52EE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A6B9-287F-471B-99DF-F59223A06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C9E8-FDFB-4254-855B-14AD7189E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E371-6573-41E4-9D4B-04A2E3CCA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A5F5-2E06-4C70-9106-4D3239890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002F-8E0E-4686-A056-DDBADEEDC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237E-2BB7-472B-AEDF-B09CBA4A3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BBCC9-5E90-45C8-93AD-CFE429135D6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48764-86F6-45F2-96F1-96EECDD5B3B6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Что такое энергия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рок окружающего мир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лайчиди О.В 3 клас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За счёт чего работает фонарик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и двигается машинка?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611280" y="1916280"/>
            <a:ext cx="3384360" cy="1584000"/>
          </a:xfrm>
          <a:prstGeom prst="rect">
            <a:avLst/>
          </a:prstGeom>
          <a:ln w="0">
            <a:noFill/>
          </a:ln>
        </p:spPr>
      </p:pic>
      <p:sp>
        <p:nvSpPr>
          <p:cNvPr id="388" name=""/>
          <p:cNvSpPr/>
          <p:nvPr/>
        </p:nvSpPr>
        <p:spPr>
          <a:xfrm>
            <a:off x="4197960" y="2273400"/>
            <a:ext cx="161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Фонари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2"/>
          <a:stretch/>
        </p:blipFill>
        <p:spPr>
          <a:xfrm>
            <a:off x="5724360" y="1916280"/>
            <a:ext cx="2519640" cy="172872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/>
          <p:cNvPicPr/>
          <p:nvPr/>
        </p:nvPicPr>
        <p:blipFill>
          <a:blip r:embed="rId3"/>
          <a:stretch/>
        </p:blipFill>
        <p:spPr>
          <a:xfrm>
            <a:off x="611280" y="4221000"/>
            <a:ext cx="2808360" cy="193212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/>
          <p:cNvPicPr/>
          <p:nvPr/>
        </p:nvPicPr>
        <p:blipFill>
          <a:blip r:embed="rId4"/>
          <a:stretch/>
        </p:blipFill>
        <p:spPr>
          <a:xfrm>
            <a:off x="5796000" y="4292640"/>
            <a:ext cx="2448000" cy="1728720"/>
          </a:xfrm>
          <a:prstGeom prst="rect">
            <a:avLst/>
          </a:prstGeom>
          <a:ln w="0">
            <a:noFill/>
          </a:ln>
        </p:spPr>
      </p:pic>
      <p:sp>
        <p:nvSpPr>
          <p:cNvPr id="392" name=""/>
          <p:cNvSpPr/>
          <p:nvPr/>
        </p:nvSpPr>
        <p:spPr>
          <a:xfrm>
            <a:off x="4042080" y="472140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машин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Энерги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акова тема нашего сегодняшнего урока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Чем мы будем заниматься на уроке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ткройте учебник на с.17, ответьте на вопрос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Как вы понимаете слово «энергия»?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ahoma"/>
              </a:rPr>
              <a:t>Энергия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0" i="1" lang="en-US" sz="3600" spc="-1" strike="noStrike">
                <a:solidFill>
                  <a:srgbClr val="ffffff"/>
                </a:solidFill>
                <a:latin typeface="Tahoma"/>
              </a:rPr>
              <a:t>это способность совершать работу, источник движения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1" dur="500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Какие могут быть источники энергии?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Пищ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Бензин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Электричество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Правила пользования домашними электроприборами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электрическую розетку </a:t>
            </a:r>
            <a:r>
              <a:rPr b="1" i="1" lang="en-US" sz="3600" spc="-1" strike="noStrike">
                <a:solidFill>
                  <a:srgbClr val="ffffff"/>
                </a:solidFill>
                <a:latin typeface="Tahoma"/>
              </a:rPr>
              <a:t>нельзя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засовывать посторонние предмет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Электрические приборы </a:t>
            </a:r>
            <a:r>
              <a:rPr b="1" i="1" lang="en-US" sz="3600" spc="-1" strike="noStrike">
                <a:solidFill>
                  <a:srgbClr val="ffffff"/>
                </a:solidFill>
                <a:latin typeface="Tahoma"/>
              </a:rPr>
              <a:t>можно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трогать только сухими рукам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ключённую газовую плиту </a:t>
            </a:r>
            <a:r>
              <a:rPr b="1" i="1" lang="en-US" sz="3600" spc="-1" strike="noStrike">
                <a:solidFill>
                  <a:srgbClr val="ffffff"/>
                </a:solidFill>
                <a:latin typeface="Tahoma"/>
              </a:rPr>
              <a:t>нельзя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ставлять без присмотр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Если газ не горит, все краны плиты должны быть </a:t>
            </a:r>
            <a:r>
              <a:rPr b="1" i="1" lang="en-US" sz="3600" spc="-1" strike="noStrike">
                <a:solidFill>
                  <a:srgbClr val="ffffff"/>
                </a:solidFill>
                <a:latin typeface="Tahoma"/>
              </a:rPr>
              <a:t>выключены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289080" y="765000"/>
            <a:ext cx="8494920" cy="5270400"/>
            <a:chOff x="289080" y="765000"/>
            <a:chExt cx="8494920" cy="5270400"/>
          </a:xfrm>
        </p:grpSpPr>
        <p:cxnSp>
          <p:nvCxnSpPr>
            <p:cNvPr id="403" name="_s12299"/>
            <p:cNvCxnSpPr>
              <a:stCxn id="404" idx="0"/>
              <a:endCxn id="405" idx="2"/>
            </p:cNvCxnSpPr>
            <p:nvPr/>
          </p:nvCxnSpPr>
          <p:spPr>
            <a:xfrm flipV="1" rot="16200000">
              <a:off x="5152320" y="2255760"/>
              <a:ext cx="1054800" cy="2288160"/>
            </a:xfrm>
            <a:prstGeom prst="bentConnector3">
              <a:avLst>
                <a:gd name="adj1" fmla="val 12803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406" name="_s12298"/>
            <p:cNvCxnSpPr>
              <a:stCxn id="407" idx="0"/>
              <a:endCxn id="405" idx="2"/>
            </p:cNvCxnSpPr>
            <p:nvPr/>
          </p:nvCxnSpPr>
          <p:spPr>
            <a:xfrm flipH="1" flipV="1" rot="5400000">
              <a:off x="2864880" y="2256480"/>
              <a:ext cx="1054800" cy="2287080"/>
            </a:xfrm>
            <a:prstGeom prst="bentConnector3">
              <a:avLst>
                <a:gd name="adj1" fmla="val 12803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405" name="_s12294"/>
            <p:cNvSpPr/>
            <p:nvPr/>
          </p:nvSpPr>
          <p:spPr>
            <a:xfrm>
              <a:off x="2575440" y="765000"/>
              <a:ext cx="3920760" cy="2108160"/>
            </a:xfrm>
            <a:prstGeom prst="roundRect">
              <a:avLst>
                <a:gd name="adj" fmla="val 16667"/>
              </a:avLst>
            </a:prstGeom>
            <a:solidFill>
              <a:srgbClr val="99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ffffff"/>
                  </a:solidFill>
                  <a:latin typeface="Tahoma"/>
                </a:rPr>
                <a:t>Энергия</a:t>
              </a:r>
              <a:endParaRPr b="0" lang="en-US" sz="3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_s12295"/>
            <p:cNvSpPr/>
            <p:nvPr/>
          </p:nvSpPr>
          <p:spPr>
            <a:xfrm>
              <a:off x="289080" y="3927240"/>
              <a:ext cx="3920760" cy="2108160"/>
            </a:xfrm>
            <a:prstGeom prst="roundRect">
              <a:avLst>
                <a:gd name="adj" fmla="val 16667"/>
              </a:avLst>
            </a:prstGeom>
            <a:solidFill>
              <a:srgbClr val="99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ffffff"/>
                  </a:solidFill>
                  <a:latin typeface="Tahoma"/>
                </a:rPr>
                <a:t>свободная</a:t>
              </a:r>
              <a:endParaRPr b="0" lang="en-US" sz="3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_s12296"/>
            <p:cNvSpPr/>
            <p:nvPr/>
          </p:nvSpPr>
          <p:spPr>
            <a:xfrm>
              <a:off x="4863240" y="3927240"/>
              <a:ext cx="3920760" cy="2108160"/>
            </a:xfrm>
            <a:prstGeom prst="roundRect">
              <a:avLst>
                <a:gd name="adj" fmla="val 16667"/>
              </a:avLst>
            </a:prstGeom>
            <a:solidFill>
              <a:srgbClr val="99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ffffff"/>
                  </a:solidFill>
                  <a:latin typeface="Tahoma"/>
                </a:rPr>
                <a:t>запасённая</a:t>
              </a:r>
              <a:endParaRPr b="0" lang="en-US" sz="3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0T15:07:40Z</dcterms:created>
  <dc:creator>Дмитрий</dc:creator>
  <dc:description/>
  <dc:language>en-US</dc:language>
  <cp:lastModifiedBy>Дмитрий</cp:lastModifiedBy>
  <dcterms:modified xsi:type="dcterms:W3CDTF">2012-06-20T16:00:51Z</dcterms:modified>
  <cp:revision>2</cp:revision>
  <dc:subject/>
  <dc:title>Что такое энергия</dc:title>
</cp:coreProperties>
</file>