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4.gif" ContentType="image/gif"/>
  <Override PartName="/ppt/media/image9.gif" ContentType="image/gif"/>
  <Override PartName="/ppt/media/image1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5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2.gif" ContentType="image/gif"/>
  <Override PartName="/ppt/media/image8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B09-C0F2-4942-A60D-5BC19F50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034-EC53-49BA-8D41-948A845B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7D429-1632-46D6-84EE-9DDC34F3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E4DEA-92B5-4180-A5D2-455214FE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B73DD-98EC-4E23-A2ED-166B7334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51BBD-B421-4DD9-87C7-CB9FE54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BA07C-0DD8-43CC-A9D7-CFA2959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1AF39-FA2E-4E4F-AE34-9C329E9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358EB-C163-4A6F-B84E-4321CF60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75BB2-51DC-46B7-A0D4-5216B4EC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B8CC0-48F0-4169-A44E-FBDE87C1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EAE-D8EA-482D-A638-A921BF89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C20-E7FC-4D03-9603-2C0F8BEA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6ECB-D488-4D9A-982E-BFC9C93E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CCF6-E744-48F2-96A3-40E38B8A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7E6A-AD10-4E32-9F8C-9DF018AA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292A-D210-4560-8544-175C977C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86EA-60BD-4A09-A767-AE1013A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390C-8FC7-49B6-AF7E-9493B3A1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E18E-60A6-4E0D-8485-E96EFFA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93E-E75A-407A-A486-B37BFF65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4082-2A61-4EE6-88C7-975B90A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4038-62F2-4AC1-9660-3002005A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2693-7EDF-4B55-817A-7F4FC75D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5363-A203-4861-A189-44F12927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6DE7-9FC8-4843-8E22-ADE0FC01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269E-8DD2-4102-A522-3EFE75DA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FEF5F-E834-4564-918E-29D5CBA6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391D-6343-4A64-BCC6-C802EE8B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86BB-A879-40D8-A594-572A4BD4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17A7-648B-4F4C-83A7-1F226C56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4A4-218A-4260-BD16-44B38D62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EFD4-646A-4AF0-AD0C-B1786E5D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C646-CA6C-43D4-8A70-AC39817B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97C3-9141-4452-BDC9-1E28F271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27C0-FEDF-4844-BAA0-0ECB4013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AC95-D0BE-4F35-9892-1DAC5716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E6AF-3E1F-4BD6-A450-A7C084FF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6C58-26AD-4065-BCDA-DB11A3A2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EAAD8-8760-4A35-B42D-32C10DCB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F7D6-B1D9-4579-B3BF-31004DC3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1E61-21AD-4A52-AB7A-DB8C0D75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9E2-3E47-4C8D-ACED-2D4638D7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FFAC-F70E-4CAF-B7E6-B861A311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D756-EB4F-4852-83E3-BE7074FB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00994-544E-4F5D-9DBB-2D083031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24E5-CDF5-45AA-8DB9-D3A74F6A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487D7-1E24-424C-A14A-3015D1C9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86915-DF7E-4E73-980F-DC256492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44DCA-0D06-4B83-9A93-90C43576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FA27D-4418-4753-B8B4-833C4A11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586E-8702-4214-B8AE-3C3CF51F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AED4B-D79E-4902-B19F-0ACC8E46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FB7-D65C-4031-96FD-80224DE9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E8724-2F88-451F-AFAC-6B3D4C23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FF7F-C1DF-49D4-9959-46C0686C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95BE8-A047-4F99-8FBC-82ECC3AD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1719-D0B9-4871-8A3C-267EDB33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9B212-CC59-4043-B32C-7ADC7EE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0DC4-D54F-425C-9FA7-8352A41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1791D-8236-48E8-85FF-0138718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EFC86-74B4-4CE0-BED8-D40430D6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A7623-0884-4A06-B226-364C4C87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4CD43-9077-48F5-995A-5C014AE2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DA5-16DF-46AF-BBFE-08E158D8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BCB25-0A87-47C5-A239-6B0EBF8D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DFCF-0E8D-448E-A8C3-32FA9542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8D8D-7829-4763-8D52-72C251E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D9B21-5466-403A-ABCA-527AA3AA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BCAE-06AE-4D66-ADEB-DAB77B66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15F4-C01D-4375-BC5C-D3843EC5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942BF-E440-4C60-8132-CB634955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2A206-6CF9-4ABB-8B39-3AAF022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95048-0A80-4A6C-8E69-AE89F62A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1F1F8-F622-4DDF-89C8-4F764CD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B50-8178-4377-90C2-23EFED47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0A2AC-9E8D-485D-8AB1-01AF4417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25197-AE33-45D1-BFB6-F345DA78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ADD7D-B891-417E-8102-F5C0139E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F99B8-B107-4F29-8D6A-28FE86E7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C06C6-88BD-43D5-A00C-D4C8EB3F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2A166-FED2-4438-B444-80FC35AC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05224-1C98-4F9A-A36C-029370FF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00935-ABBA-462E-AF72-07B10C60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313E-9CD1-4BD6-80C9-5246BFFC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2689-5A36-4B8F-A9E6-DAA9AFC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9B1-799E-40BF-8CF6-79B1098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0C788-55B9-4D3F-A879-E17695B7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89834-F364-46E9-8744-A50377C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626BF-FE0C-4215-90DB-0AB27731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34C8-D009-4378-BAEF-22525ECF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BD5B-FFC6-4696-865F-2D7B4D8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6A6DA-6573-462F-942E-B35046F8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E2AA1-7794-48F8-BCD0-2B1DD9C7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4069A-EE58-4FD4-ACB6-7F719320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0AC20-3DE0-42DD-96C1-2E98B79B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B2F02-E869-40C7-B11A-7A72B463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E0D-EEEF-43AD-A244-169E3CA8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FA4BB-9211-4D33-ACE7-3EB245D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927C4-9088-4EAF-8D33-D319D998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FD7C-7B3D-49E9-9B27-ABA3BDB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26208-BDB3-4BF7-B49A-E1D2CB6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81448-2749-4C34-999E-771D1432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5AA2-E8E9-491E-A2FD-3186586C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B619B-3E4E-4F31-BCBA-CAF7513E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6FF5C-7EE6-4CF6-ACB3-F4F2C516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72089-EA44-4475-9D35-C314C3C5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2C700-547C-494A-9911-40EFAC4A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103-24B0-4CAD-A99C-8E2DD3F51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A38C-93AF-4785-9FC9-9A6C1D6FC09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D080-1D78-4E61-A507-0A1D825BA4A4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9B80-093A-4B06-A81F-7BC485569EDF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0AF3-472B-4F0D-B499-D84B4FCB8393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E4D2-0F52-472B-9A06-1285AB755E61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CA5E-5CBE-4B83-BDBE-6989992FA70C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A2BC-9678-4EE4-A141-A744608F977F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98" name="Прямая соединительная линия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02" name="Прямая соединительная линия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406" name="Прямая соединительная линия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DAF4-75A8-47C7-8B94-1EE6B068D1E1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pricol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51" name="WordArt 6"/>
          <p:cNvSpPr txBox="1"/>
          <p:nvPr/>
        </p:nvSpPr>
        <p:spPr>
          <a:xfrm>
            <a:off x="457200" y="205740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КОСМОНАВТИКИ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2746440" cy="2695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368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2" descr="звезды"/>
          <p:cNvPicPr/>
          <p:nvPr/>
        </p:nvPicPr>
        <p:blipFill>
          <a:blip r:embed="rId1"/>
          <a:stretch/>
        </p:blipFill>
        <p:spPr>
          <a:xfrm>
            <a:off x="1692360" y="18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звезды"/>
          <p:cNvPicPr/>
          <p:nvPr/>
        </p:nvPicPr>
        <p:blipFill>
          <a:blip r:embed="rId2"/>
          <a:stretch/>
        </p:blipFill>
        <p:spPr>
          <a:xfrm>
            <a:off x="53964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" descr="звезды"/>
          <p:cNvPicPr/>
          <p:nvPr/>
        </p:nvPicPr>
        <p:blipFill>
          <a:blip r:embed="rId3"/>
          <a:stretch/>
        </p:blipFill>
        <p:spPr>
          <a:xfrm>
            <a:off x="61128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5" descr="звезды"/>
          <p:cNvPicPr/>
          <p:nvPr/>
        </p:nvPicPr>
        <p:blipFill>
          <a:blip r:embed="rId4"/>
          <a:stretch/>
        </p:blipFill>
        <p:spPr>
          <a:xfrm>
            <a:off x="2340000" y="2997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6" descr="звезды"/>
          <p:cNvPicPr/>
          <p:nvPr/>
        </p:nvPicPr>
        <p:blipFill>
          <a:blip r:embed="rId5"/>
          <a:stretch/>
        </p:blipFill>
        <p:spPr>
          <a:xfrm>
            <a:off x="4643280" y="476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7" descr="звезды"/>
          <p:cNvPicPr/>
          <p:nvPr/>
        </p:nvPicPr>
        <p:blipFill>
          <a:blip r:embed="rId6"/>
          <a:stretch/>
        </p:blipFill>
        <p:spPr>
          <a:xfrm>
            <a:off x="428472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8" descr="звезды"/>
          <p:cNvPicPr/>
          <p:nvPr/>
        </p:nvPicPr>
        <p:blipFill>
          <a:blip r:embed="rId7"/>
          <a:stretch/>
        </p:blipFill>
        <p:spPr>
          <a:xfrm>
            <a:off x="5508720" y="33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9" descr="звезды"/>
          <p:cNvPicPr/>
          <p:nvPr/>
        </p:nvPicPr>
        <p:blipFill>
          <a:blip r:embed="rId8"/>
          <a:stretch/>
        </p:blipFill>
        <p:spPr>
          <a:xfrm>
            <a:off x="766764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0" descr="звезды"/>
          <p:cNvPicPr/>
          <p:nvPr/>
        </p:nvPicPr>
        <p:blipFill>
          <a:blip r:embed="rId9"/>
          <a:stretch/>
        </p:blipFill>
        <p:spPr>
          <a:xfrm>
            <a:off x="471636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1" descr="звезды"/>
          <p:cNvPicPr/>
          <p:nvPr/>
        </p:nvPicPr>
        <p:blipFill>
          <a:blip r:embed="rId10"/>
          <a:stretch/>
        </p:blipFill>
        <p:spPr>
          <a:xfrm>
            <a:off x="7885080" y="1989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2" descr="звезды"/>
          <p:cNvPicPr/>
          <p:nvPr/>
        </p:nvPicPr>
        <p:blipFill>
          <a:blip r:embed="rId11"/>
          <a:stretch/>
        </p:blipFill>
        <p:spPr>
          <a:xfrm>
            <a:off x="6659640" y="5805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3" descr="звезды"/>
          <p:cNvPicPr/>
          <p:nvPr/>
        </p:nvPicPr>
        <p:blipFill>
          <a:blip r:embed="rId12"/>
          <a:stretch/>
        </p:blipFill>
        <p:spPr>
          <a:xfrm>
            <a:off x="609480" y="5867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5" descr="114"/>
          <p:cNvPicPr/>
          <p:nvPr/>
        </p:nvPicPr>
        <p:blipFill>
          <a:blip r:embed="rId13"/>
          <a:stretch/>
        </p:blipFill>
        <p:spPr>
          <a:xfrm>
            <a:off x="3352680" y="2286000"/>
            <a:ext cx="2667240" cy="2133720"/>
          </a:xfrm>
          <a:prstGeom prst="rect">
            <a:avLst/>
          </a:prstGeom>
          <a:ln w="0">
            <a:noFill/>
          </a:ln>
        </p:spPr>
      </p:pic>
      <p:sp>
        <p:nvSpPr>
          <p:cNvPr id="495" name="TextBox 14"/>
          <p:cNvSpPr/>
          <p:nvPr/>
        </p:nvSpPr>
        <p:spPr>
          <a:xfrm>
            <a:off x="533520" y="106668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работу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за вниман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5" descr="name0008"/>
          <p:cNvPicPr/>
          <p:nvPr/>
        </p:nvPicPr>
        <p:blipFill>
          <a:blip r:embed="rId1"/>
          <a:stretch/>
        </p:blipFill>
        <p:spPr>
          <a:xfrm>
            <a:off x="2133720" y="76212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6033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мным                         здоров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ильным             необщительн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добрым                     находчив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рассеянным           тренированным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3"/>
          <p:cNvSpPr/>
          <p:nvPr/>
        </p:nvSpPr>
        <p:spPr>
          <a:xfrm>
            <a:off x="4859280" y="380880"/>
            <a:ext cx="42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осмонавты постоянно работают на орбите. Они изучают нашу планету и огромное космическое пространство вокруг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4" descr="dic0045"/>
          <p:cNvPicPr/>
          <p:nvPr/>
        </p:nvPicPr>
        <p:blipFill>
          <a:blip r:embed="rId1"/>
          <a:stretch/>
        </p:blipFill>
        <p:spPr>
          <a:xfrm>
            <a:off x="0" y="0"/>
            <a:ext cx="4675320" cy="35053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dic0049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58128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6"/>
          <p:cNvSpPr/>
          <p:nvPr/>
        </p:nvSpPr>
        <p:spPr>
          <a:xfrm>
            <a:off x="380880" y="403848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Благодаря этому и мы можем любоваться снимками с изображениями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533680" cy="2819520"/>
          </a:xfrm>
          <a:prstGeom prst="rect">
            <a:avLst/>
          </a:prstGeom>
          <a:ln w="0">
            <a:noFill/>
          </a:ln>
        </p:spPr>
      </p:pic>
      <p:sp>
        <p:nvSpPr>
          <p:cNvPr id="459" name="WordArt 6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смонавты - нашей страны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0" name="Picture 11" descr="http://38pu.ru/images/2015/mart/pervyj_v_kosmose.jpg"/>
          <p:cNvPicPr/>
          <p:nvPr/>
        </p:nvPicPr>
        <p:blipFill>
          <a:blip r:embed="rId2"/>
          <a:stretch/>
        </p:blipFill>
        <p:spPr>
          <a:xfrm>
            <a:off x="3276720" y="1828800"/>
            <a:ext cx="2260440" cy="2819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http://st03.kakprosto.ru/tumb/680/images/article/2014/8/6/1_53f61f0b6d68953f61f0b6d6c7.jpg"/>
          <p:cNvPicPr/>
          <p:nvPr/>
        </p:nvPicPr>
        <p:blipFill>
          <a:blip r:embed="rId3"/>
          <a:stretch/>
        </p:blipFill>
        <p:spPr>
          <a:xfrm>
            <a:off x="5867280" y="1752480"/>
            <a:ext cx="2962440" cy="2819520"/>
          </a:xfrm>
          <a:prstGeom prst="rect">
            <a:avLst/>
          </a:prstGeom>
          <a:ln w="0">
            <a:noFill/>
          </a:ln>
        </p:spPr>
      </p:pic>
      <p:sp>
        <p:nvSpPr>
          <p:cNvPr id="462" name="TextBox 13"/>
          <p:cNvSpPr/>
          <p:nvPr/>
        </p:nvSpPr>
        <p:spPr>
          <a:xfrm>
            <a:off x="457200" y="4952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ентина Тереш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14"/>
          <p:cNvSpPr/>
          <p:nvPr/>
        </p:nvSpPr>
        <p:spPr>
          <a:xfrm>
            <a:off x="3352680" y="50292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кс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15"/>
          <p:cNvSpPr/>
          <p:nvPr/>
        </p:nvSpPr>
        <p:spPr>
          <a:xfrm>
            <a:off x="6172200" y="50292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лана Савиц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ОСМИЧЕСКАЯ ЗАРЯД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466" name="Picture 6" descr="star15"/>
          <p:cNvPicPr/>
          <p:nvPr/>
        </p:nvPicPr>
        <p:blipFill>
          <a:blip r:embed="rId1"/>
          <a:stretch/>
        </p:blipFill>
        <p:spPr>
          <a:xfrm>
            <a:off x="3886200" y="48006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star15"/>
          <p:cNvPicPr/>
          <p:nvPr/>
        </p:nvPicPr>
        <p:blipFill>
          <a:blip r:embed="rId2"/>
          <a:stretch/>
        </p:blipFill>
        <p:spPr>
          <a:xfrm>
            <a:off x="2819520" y="5867280"/>
            <a:ext cx="799920" cy="9907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star15"/>
          <p:cNvPicPr/>
          <p:nvPr/>
        </p:nvPicPr>
        <p:blipFill>
          <a:blip r:embed="rId3"/>
          <a:stretch/>
        </p:blipFill>
        <p:spPr>
          <a:xfrm>
            <a:off x="7238880" y="3429000"/>
            <a:ext cx="1181160" cy="819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star15"/>
          <p:cNvPicPr/>
          <p:nvPr/>
        </p:nvPicPr>
        <p:blipFill>
          <a:blip r:embed="rId4"/>
          <a:stretch/>
        </p:blipFill>
        <p:spPr>
          <a:xfrm>
            <a:off x="6858000" y="4952880"/>
            <a:ext cx="1828800" cy="1047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star15"/>
          <p:cNvPicPr/>
          <p:nvPr/>
        </p:nvPicPr>
        <p:blipFill>
          <a:blip r:embed="rId5"/>
          <a:stretch/>
        </p:blipFill>
        <p:spPr>
          <a:xfrm>
            <a:off x="8077320" y="1676520"/>
            <a:ext cx="838080" cy="7412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1" descr="star15"/>
          <p:cNvPicPr/>
          <p:nvPr/>
        </p:nvPicPr>
        <p:blipFill>
          <a:blip r:embed="rId6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2" descr="star15"/>
          <p:cNvPicPr/>
          <p:nvPr/>
        </p:nvPicPr>
        <p:blipFill>
          <a:blip r:embed="rId7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3" descr="star15"/>
          <p:cNvPicPr/>
          <p:nvPr/>
        </p:nvPicPr>
        <p:blipFill>
          <a:blip r:embed="rId8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4" descr="star15"/>
          <p:cNvPicPr/>
          <p:nvPr/>
        </p:nvPicPr>
        <p:blipFill>
          <a:blip r:embed="rId9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5" descr="star15"/>
          <p:cNvPicPr/>
          <p:nvPr/>
        </p:nvPicPr>
        <p:blipFill>
          <a:blip r:embed="rId10"/>
          <a:stretch/>
        </p:blipFill>
        <p:spPr>
          <a:xfrm>
            <a:off x="533520" y="2185920"/>
            <a:ext cx="952560" cy="843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6" descr="star15"/>
          <p:cNvPicPr/>
          <p:nvPr/>
        </p:nvPicPr>
        <p:blipFill>
          <a:blip r:embed="rId11"/>
          <a:stretch/>
        </p:blipFill>
        <p:spPr>
          <a:xfrm>
            <a:off x="5257800" y="243828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5"/>
          <p:cNvSpPr/>
          <p:nvPr/>
        </p:nvSpPr>
        <p:spPr>
          <a:xfrm>
            <a:off x="762120" y="184248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 космос нам слетать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кими нам надо стать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монавтов превратимся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 планетам устремимс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3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34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7" descr="2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001</dc:creator>
  <dc:description/>
  <dc:language>en-US</dc:language>
  <cp:lastModifiedBy>001</cp:lastModifiedBy>
  <dcterms:modified xsi:type="dcterms:W3CDTF">2016-04-10T20:14:3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