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18.jpeg" ContentType="image/jpeg"/>
  <Override PartName="/ppt/media/image7.png" ContentType="image/png"/>
  <Override PartName="/ppt/media/image1.jpeg" ContentType="image/jpeg"/>
  <Override PartName="/ppt/media/image11.gif" ContentType="image/gif"/>
  <Override PartName="/ppt/media/image6.gif" ContentType="image/gif"/>
  <Override PartName="/ppt/media/image5.jpeg" ContentType="image/jpeg"/>
  <Override PartName="/ppt/media/image21.jpeg" ContentType="image/jpeg"/>
  <Override PartName="/ppt/media/image4.png" ContentType="image/png"/>
  <Override PartName="/ppt/media/image24.gif" ContentType="image/gif"/>
  <Override PartName="/ppt/media/image20.gif" ContentType="image/gif"/>
  <Override PartName="/ppt/media/image19.gif" ContentType="image/gif"/>
  <Override PartName="/ppt/media/image15.jpeg" ContentType="image/jpeg"/>
  <Override PartName="/ppt/media/image14.gif" ContentType="image/gif"/>
  <Override PartName="/ppt/media/image25.jpeg" ContentType="image/jpeg"/>
  <Override PartName="/ppt/media/image22.gif" ContentType="image/gif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3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7665-DE90-4E9E-869E-DF41CE9E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582-EC95-4974-A5CE-D10EAF26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934-9806-4EE1-9523-56A4120E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C6D-DC9B-47C7-89BD-71EA5C41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8399-9946-494D-9ED7-042F8AA6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05F0-B3D5-44BC-B87D-D82BF5F7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0990-99EC-4AFF-8B9D-0146B4BF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2487-A11E-4229-8E83-7132F9A1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F6EA-A76F-48EE-8727-8B49C720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76E9-E7AB-4796-9097-95A37DCE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1B78-71BE-42FB-941F-18C6FE00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AA44-814B-4E43-B1F2-C948E429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E0A6-93F3-4849-9755-57AB9FD8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1325-7EF4-48D4-BC96-680249A8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4101-619E-4601-B99A-448DA714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92A4-F02B-429B-9EE8-2BECE76D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6153-664A-4092-9DB0-5055D2DD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A7D6A-5E31-43A3-9D7A-22DB8699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6E022-5360-4A84-AD55-23B98829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9639E-89A1-4F7E-B146-FECD6383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FF9D1-5FAC-4783-8C57-BA0CC561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8C09C-E0BA-4BD3-83F4-67EAB439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6BE-AC2A-472B-88D1-902EA450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DB6DA-0395-4D29-81F9-E6FBF6CB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B28AB-C2A0-41F7-B136-B4681178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C4B7C-EE67-49F1-A294-5DDCDE6A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4952C-7A11-4975-AC3F-ECB620B2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6885D-923D-4985-ADA6-10EDA6A5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8429D-DDC9-4BA8-95AC-8FB66452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1A1D6-CC31-4378-909F-6E1AD178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AA464-23B4-4623-A21E-456D82C2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D5B62-D47A-40C1-9693-4DA7E10F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AF9A4-B0B0-44BC-AE53-6FF353FE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A133-8060-45E3-B507-D353AFAF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58C91-EB25-4561-B93A-595A9D29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AD815-1051-4E2E-BC24-CAD0A6C0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78411-924E-49D3-9B90-C389475E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ADED6-936F-4ABB-8113-C031BF0E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2EF9F-6CAF-4A2F-A419-003AB222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EC2DE-DB19-41B8-81C3-4FD174C2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EC176-E8AD-4897-A687-A08E3462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EB0C0-6D16-4304-A7BB-765B1BDC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E331C-5358-49BB-95B9-18FFA0D6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7AEA8-AB65-47FA-9526-2D4E6D5A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B79-A217-48E4-B249-F7DE2265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D5FB6-15BA-4971-8817-3C146D5E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DE9B0-551D-4DBD-AC2F-B48C9E8F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C9F13-ED4E-49AA-8C50-5588F5A5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DE8C0-B8AE-4EF0-93C9-4DD8871D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DF422-527B-476C-A981-CDC50C7A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500FD-4A93-4C0B-8AF2-51680EEB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96EA0-F20E-46C0-B230-4A2C9733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2374C-375B-45B2-A350-10446409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EE6C9-99E6-4E2E-8FC9-20CF09D7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EC463-62FA-464C-A422-4AF12CB2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D302-6A1D-472F-9852-04D2DDA8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1BCFF-8B83-4236-9125-2AA2C88C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EB3A96-6F9F-40E3-A945-99D0B58A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A14C67-9606-4863-AA96-302AAD1F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549784-CFF1-45C2-A87D-A284E034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5F7C1F-137B-440F-9359-46B34671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7DA352-7AE5-48CC-B3BC-DA4B78D2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446C50-F9DB-424E-B258-882EB740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A36FB9-695D-4C24-96FE-A13C8212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BD1ED4-26E2-4289-AC4F-1197E6D0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E11246-E88B-430D-B168-8DA316D6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43E-29DD-4A99-899E-0852857C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C840DB-B90C-4D70-826C-66B63838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A1471C-A128-438D-A402-6FD6D055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74A756-5796-42C2-8DD9-6459F014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296F8-443D-4B93-A9DD-08B86F5D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3B27E-A3FE-4069-8953-E72BBC7C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DD658-73B3-494B-B58A-97EF8006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05BB5-0BDE-4D35-B486-8EB35D8F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5F04E-5FB4-4377-BE19-AC79C284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B2E79-65E4-4086-A747-802896EB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9F944-DB7B-4B85-B263-E4E03559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125-7CE0-4570-B8BA-91A80F38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B7574-BD64-400B-B5C6-82DC52CA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3CBB1-F26D-4652-ADD6-4D027010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FD2DF-7A29-467E-B7AF-70A9CA68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CE876-EFDE-41E3-B2B2-841A73E4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05CD9-2B44-4DA9-8E1C-6CA7BF5E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928-4126-4408-B77C-9845D5B5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0A21-08C2-4C04-BF52-D26D54B9D97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9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3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5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0727-2155-42CA-B551-3449D02ABF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4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7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FFD0-6D8D-4D59-A4D8-D2A931E229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B2A8-0F2E-481B-8BED-B47625B9F5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6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6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9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076D-8435-4EE2-A3FE-079A7873167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4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4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4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5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4F40-9570-4BE4-AEEE-C7AE892AE9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0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DF6F-D163-42F6-8559-46EA374FE29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jpeg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2" descr="010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3124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27432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7 клас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7" descr="BD13730_"/>
          <p:cNvPicPr/>
          <p:nvPr/>
        </p:nvPicPr>
        <p:blipFill>
          <a:blip r:embed="rId2"/>
          <a:stretch/>
        </p:blipFill>
        <p:spPr>
          <a:xfrm>
            <a:off x="228600" y="3790800"/>
            <a:ext cx="2514600" cy="3067200"/>
          </a:xfrm>
          <a:prstGeom prst="rect">
            <a:avLst/>
          </a:prstGeom>
          <a:ln w="0">
            <a:noFill/>
          </a:ln>
        </p:spPr>
      </p:pic>
      <p:sp>
        <p:nvSpPr>
          <p:cNvPr id="484" name="WordArt 8"/>
          <p:cNvSpPr txBox="1"/>
          <p:nvPr/>
        </p:nvSpPr>
        <p:spPr>
          <a:xfrm>
            <a:off x="0" y="762120"/>
            <a:ext cx="4876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НЕРГ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24b94"/>
                </a:solidFill>
                <a:latin typeface="Arial"/>
              </a:rPr>
              <a:t>д/з.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24b94"/>
                </a:solidFill>
                <a:latin typeface="Verdana"/>
              </a:rPr>
              <a:t>§62;§63;§64.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Энерг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599840"/>
            <a:ext cx="8229600" cy="21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00ffff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Энергия – скалярная физическая величина, характеризующая способность тел совершать работу. Энергия измеряется в джоулях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1687680" y="274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168768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0" y="272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1" name="Group 8"/>
          <p:cNvGrpSpPr/>
          <p:nvPr/>
        </p:nvGrpSpPr>
        <p:grpSpPr>
          <a:xfrm>
            <a:off x="228600" y="2666880"/>
            <a:ext cx="9144000" cy="1387440"/>
            <a:chOff x="228600" y="2666880"/>
            <a:chExt cx="9144000" cy="1387440"/>
          </a:xfrm>
        </p:grpSpPr>
        <p:sp>
          <p:nvSpPr>
            <p:cNvPr id="492" name="Rectangle 9"/>
            <p:cNvSpPr/>
            <p:nvPr/>
          </p:nvSpPr>
          <p:spPr>
            <a:xfrm>
              <a:off x="228600" y="2666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Rectangle 10"/>
            <p:cNvSpPr/>
            <p:nvPr/>
          </p:nvSpPr>
          <p:spPr>
            <a:xfrm>
              <a:off x="228600" y="2666880"/>
              <a:ext cx="914400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ru-RU" sz="85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Line 13"/>
          <p:cNvSpPr/>
          <p:nvPr/>
        </p:nvSpPr>
        <p:spPr>
          <a:xfrm>
            <a:off x="4191120" y="18288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Oval 16"/>
          <p:cNvSpPr/>
          <p:nvPr/>
        </p:nvSpPr>
        <p:spPr>
          <a:xfrm>
            <a:off x="2286000" y="0"/>
            <a:ext cx="4724280" cy="3886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3352680" y="30492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НЕРГ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>
            <a:off x="4724280" y="1828800"/>
            <a:ext cx="0" cy="2057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2438280" y="2057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хан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1"/>
          <p:cNvSpPr/>
          <p:nvPr/>
        </p:nvSpPr>
        <p:spPr>
          <a:xfrm>
            <a:off x="4876920" y="20574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утрення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22"/>
          <p:cNvSpPr/>
          <p:nvPr/>
        </p:nvSpPr>
        <p:spPr>
          <a:xfrm flipH="1">
            <a:off x="457200" y="2362320"/>
            <a:ext cx="182880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23"/>
          <p:cNvSpPr/>
          <p:nvPr/>
        </p:nvSpPr>
        <p:spPr>
          <a:xfrm flipH="1">
            <a:off x="3200040" y="3657600"/>
            <a:ext cx="762120" cy="2133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24"/>
          <p:cNvSpPr/>
          <p:nvPr/>
        </p:nvSpPr>
        <p:spPr>
          <a:xfrm>
            <a:off x="5486400" y="3733920"/>
            <a:ext cx="1371600" cy="2133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25"/>
          <p:cNvSpPr/>
          <p:nvPr/>
        </p:nvSpPr>
        <p:spPr>
          <a:xfrm>
            <a:off x="6705720" y="2819520"/>
            <a:ext cx="1371600" cy="761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26"/>
          <p:cNvSpPr/>
          <p:nvPr/>
        </p:nvSpPr>
        <p:spPr>
          <a:xfrm>
            <a:off x="0" y="3276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инетическ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27"/>
          <p:cNvSpPr/>
          <p:nvPr/>
        </p:nvSpPr>
        <p:spPr>
          <a:xfrm>
            <a:off x="533520" y="563868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28"/>
          <p:cNvSpPr/>
          <p:nvPr/>
        </p:nvSpPr>
        <p:spPr>
          <a:xfrm>
            <a:off x="76212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9"/>
          <p:cNvSpPr/>
          <p:nvPr/>
        </p:nvSpPr>
        <p:spPr>
          <a:xfrm>
            <a:off x="304920" y="56386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тенциаль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30"/>
          <p:cNvSpPr/>
          <p:nvPr/>
        </p:nvSpPr>
        <p:spPr>
          <a:xfrm>
            <a:off x="5562720" y="594360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5768"/>
                </a:solidFill>
                <a:latin typeface="Arial"/>
              </a:rPr>
              <a:t>теплов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31"/>
          <p:cNvSpPr/>
          <p:nvPr/>
        </p:nvSpPr>
        <p:spPr>
          <a:xfrm>
            <a:off x="6477120" y="35812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768"/>
                </a:solidFill>
                <a:latin typeface="Arial"/>
              </a:rPr>
              <a:t>хим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1" name="Picture 34" descr="men"/>
          <p:cNvPicPr/>
          <p:nvPr/>
        </p:nvPicPr>
        <p:blipFill>
          <a:blip r:embed="rId1"/>
          <a:stretch/>
        </p:blipFill>
        <p:spPr>
          <a:xfrm>
            <a:off x="7772400" y="2362320"/>
            <a:ext cx="1042920" cy="11998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7" descr="баба-яга"/>
          <p:cNvPicPr/>
          <p:nvPr/>
        </p:nvPicPr>
        <p:blipFill>
          <a:blip r:embed="rId2"/>
          <a:stretch/>
        </p:blipFill>
        <p:spPr>
          <a:xfrm>
            <a:off x="-228600" y="2386080"/>
            <a:ext cx="2895480" cy="10904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0" descr="купидон"/>
          <p:cNvPicPr/>
          <p:nvPr/>
        </p:nvPicPr>
        <p:blipFill>
          <a:blip r:embed="rId3"/>
          <a:stretch/>
        </p:blipFill>
        <p:spPr>
          <a:xfrm>
            <a:off x="1143000" y="4710240"/>
            <a:ext cx="1905120" cy="1033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4" descr="Рисунок2"/>
          <p:cNvPicPr/>
          <p:nvPr/>
        </p:nvPicPr>
        <p:blipFill>
          <a:blip r:embed="rId4"/>
          <a:stretch/>
        </p:blipFill>
        <p:spPr>
          <a:xfrm>
            <a:off x="7391520" y="4881600"/>
            <a:ext cx="128592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инетическая энерг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10670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инетической энергией называют энергию движущихся тел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1687680" y="274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168768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0" y="272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8" descr="Кинетическая энергия"/>
          <p:cNvPicPr/>
          <p:nvPr/>
        </p:nvPicPr>
        <p:blipFill>
          <a:blip r:embed="rId1"/>
          <a:stretch/>
        </p:blipFill>
        <p:spPr>
          <a:xfrm>
            <a:off x="0" y="2189160"/>
            <a:ext cx="9144000" cy="46688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2" descr="6"/>
          <p:cNvPicPr/>
          <p:nvPr/>
        </p:nvPicPr>
        <p:blipFill>
          <a:blip r:embed="rId2"/>
          <a:stretch/>
        </p:blipFill>
        <p:spPr>
          <a:xfrm>
            <a:off x="6491160" y="4743360"/>
            <a:ext cx="2652840" cy="21146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3" descr="29"/>
          <p:cNvPicPr/>
          <p:nvPr/>
        </p:nvPicPr>
        <p:blipFill>
          <a:blip r:embed="rId3"/>
          <a:stretch/>
        </p:blipFill>
        <p:spPr>
          <a:xfrm>
            <a:off x="0" y="4470480"/>
            <a:ext cx="2819520" cy="2387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486 -0.02359 L -0.55486 -0.02359 E">
                                      <p:cBhvr>
                                        <p:cTn id="18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отенциальная энергия.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2133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енциальной энерги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энергия взаимодействующих тел или частей одного и того же тела. Принято различать потенциальную энергию тел, находящихся под действием гравитационных сил, силы упругости, архимедовой си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1687680" y="274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168768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0" y="272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Group 8"/>
          <p:cNvGrpSpPr/>
          <p:nvPr/>
        </p:nvGrpSpPr>
        <p:grpSpPr>
          <a:xfrm>
            <a:off x="0" y="2725560"/>
            <a:ext cx="9144000" cy="1387440"/>
            <a:chOff x="0" y="2725560"/>
            <a:chExt cx="9144000" cy="1387440"/>
          </a:xfrm>
        </p:grpSpPr>
        <p:sp>
          <p:nvSpPr>
            <p:cNvPr id="531" name="Rectangle 9"/>
            <p:cNvSpPr/>
            <p:nvPr/>
          </p:nvSpPr>
          <p:spPr>
            <a:xfrm>
              <a:off x="0" y="2725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Rectangle 10"/>
            <p:cNvSpPr/>
            <p:nvPr/>
          </p:nvSpPr>
          <p:spPr>
            <a:xfrm>
              <a:off x="0" y="2725560"/>
              <a:ext cx="914400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ru-RU" sz="85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3" name="Picture 11" descr="06e-i2"/>
          <p:cNvPicPr/>
          <p:nvPr/>
        </p:nvPicPr>
        <p:blipFill>
          <a:blip r:embed="rId1"/>
          <a:srcRect l="0" t="0" r="238" b="0"/>
          <a:stretch/>
        </p:blipFill>
        <p:spPr>
          <a:xfrm>
            <a:off x="0" y="3124080"/>
            <a:ext cx="4724280" cy="3733920"/>
          </a:xfrm>
          <a:prstGeom prst="rect">
            <a:avLst/>
          </a:prstGeom>
          <a:ln w="0">
            <a:noFill/>
          </a:ln>
        </p:spPr>
      </p:pic>
      <p:sp>
        <p:nvSpPr>
          <p:cNvPr id="534" name="Line 13"/>
          <p:cNvSpPr/>
          <p:nvPr/>
        </p:nvSpPr>
        <p:spPr>
          <a:xfrm>
            <a:off x="5486400" y="3505320"/>
            <a:ext cx="1295280" cy="0"/>
          </a:xfrm>
          <a:prstGeom prst="line">
            <a:avLst/>
          </a:prstGeom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4"/>
          <p:cNvSpPr/>
          <p:nvPr/>
        </p:nvSpPr>
        <p:spPr>
          <a:xfrm>
            <a:off x="6781680" y="3505320"/>
            <a:ext cx="0" cy="838080"/>
          </a:xfrm>
          <a:prstGeom prst="line">
            <a:avLst/>
          </a:prstGeom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5"/>
          <p:cNvSpPr/>
          <p:nvPr/>
        </p:nvSpPr>
        <p:spPr>
          <a:xfrm>
            <a:off x="6781680" y="4343400"/>
            <a:ext cx="1143000" cy="0"/>
          </a:xfrm>
          <a:prstGeom prst="line">
            <a:avLst/>
          </a:prstGeom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6"/>
          <p:cNvSpPr/>
          <p:nvPr/>
        </p:nvSpPr>
        <p:spPr>
          <a:xfrm>
            <a:off x="7924680" y="4343400"/>
            <a:ext cx="0" cy="838080"/>
          </a:xfrm>
          <a:prstGeom prst="line">
            <a:avLst/>
          </a:prstGeom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Oval 17"/>
          <p:cNvSpPr/>
          <p:nvPr/>
        </p:nvSpPr>
        <p:spPr>
          <a:xfrm>
            <a:off x="5562720" y="2895480"/>
            <a:ext cx="761760" cy="6098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18" descr="купидон"/>
          <p:cNvPicPr/>
          <p:nvPr/>
        </p:nvPicPr>
        <p:blipFill>
          <a:blip r:embed="rId2"/>
          <a:stretch/>
        </p:blipFill>
        <p:spPr>
          <a:xfrm>
            <a:off x="6248520" y="3352680"/>
            <a:ext cx="2895480" cy="1905120"/>
          </a:xfrm>
          <a:prstGeom prst="rect">
            <a:avLst/>
          </a:prstGeom>
          <a:ln w="0">
            <a:noFill/>
          </a:ln>
        </p:spPr>
      </p:pic>
      <p:sp>
        <p:nvSpPr>
          <p:cNvPr id="540" name="Oval 21"/>
          <p:cNvSpPr/>
          <p:nvPr/>
        </p:nvSpPr>
        <p:spPr>
          <a:xfrm>
            <a:off x="4800600" y="3048120"/>
            <a:ext cx="533520" cy="4572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6 2.83237E-006 L 0.10834 2.83237E-006 E">
                                      <p:cBhvr>
                                        <p:cTn id="24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4 2.83237E-006 L 0.10834 0.13318 E">
                                      <p:cBhvr>
                                        <p:cTn id="27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3 0.13318 L 0.25 0.13318 E">
                                      <p:cBhvr>
                                        <p:cTn id="30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0.13318 L 0.25 0.46613 E">
                                      <p:cBhvr>
                                        <p:cTn id="33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12222 L 0.00416 0.45555 E">
                                      <p:cBhvr>
                                        <p:cTn id="35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0"/>
            <a:ext cx="9036000" cy="107316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тенциальная энергия тела, поднятого над зем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Group 3"/>
          <p:cNvGrpSpPr/>
          <p:nvPr/>
        </p:nvGrpSpPr>
        <p:grpSpPr>
          <a:xfrm>
            <a:off x="0" y="1066680"/>
            <a:ext cx="9143640" cy="5790960"/>
            <a:chOff x="0" y="1066680"/>
            <a:chExt cx="9143640" cy="5790960"/>
          </a:xfrm>
        </p:grpSpPr>
        <p:sp>
          <p:nvSpPr>
            <p:cNvPr id="543" name="Rectangle 4"/>
            <p:cNvSpPr/>
            <p:nvPr/>
          </p:nvSpPr>
          <p:spPr>
            <a:xfrm>
              <a:off x="0" y="1066680"/>
              <a:ext cx="9143640" cy="5790960"/>
            </a:xfrm>
            <a:prstGeom prst="rect">
              <a:avLst/>
            </a:prstGeom>
            <a:solidFill>
              <a:srgbClr val="003399"/>
            </a:solidFill>
            <a:ln w="3240">
              <a:solidFill>
                <a:srgbClr val="c5f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AutoShape 5"/>
            <p:cNvSpPr/>
            <p:nvPr/>
          </p:nvSpPr>
          <p:spPr>
            <a:xfrm>
              <a:off x="412200" y="1617840"/>
              <a:ext cx="8484480" cy="4962240"/>
            </a:xfrm>
            <a:prstGeom prst="flowChartPunchedTap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240">
              <a:solidFill>
                <a:srgbClr val="c5f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6"/>
            <p:cNvSpPr/>
            <p:nvPr/>
          </p:nvSpPr>
          <p:spPr>
            <a:xfrm>
              <a:off x="987840" y="2813040"/>
              <a:ext cx="7332840" cy="3308760"/>
            </a:xfrm>
            <a:prstGeom prst="ellipse">
              <a:avLst/>
            </a:prstGeom>
            <a:solidFill>
              <a:srgbClr val="00cc00"/>
            </a:solidFill>
            <a:ln w="3240">
              <a:solidFill>
                <a:srgbClr val="c5f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 –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масса тела, к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 –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ускорение свободного падения, м/с</a:t>
              </a:r>
              <a:r>
                <a:rPr b="0" lang="ru-RU" sz="2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 – 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высота относительн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выбранного нулевого уровня, 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AutoShape 7"/>
            <p:cNvSpPr/>
            <p:nvPr/>
          </p:nvSpPr>
          <p:spPr>
            <a:xfrm>
              <a:off x="658800" y="1435320"/>
              <a:ext cx="3459600" cy="1468800"/>
            </a:xfrm>
            <a:prstGeom prst="flowChartAlternateProcess">
              <a:avLst/>
            </a:prstGeom>
            <a:solidFill>
              <a:srgbClr val="00cc00"/>
            </a:solidFill>
            <a:ln w="3240">
              <a:solidFill>
                <a:srgbClr val="c5f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r>
                <a:rPr b="1" lang="ru-RU" sz="3600" spc="-1" strike="noStrike" baseline="-25000">
                  <a:solidFill>
                    <a:srgbClr val="ffffff"/>
                  </a:solidFill>
                  <a:latin typeface="Arial"/>
                </a:rPr>
                <a:t>п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∙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∙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Энергия упругой деформации"/>
          <p:cNvPicPr/>
          <p:nvPr/>
        </p:nvPicPr>
        <p:blipFill>
          <a:blip r:embed="rId1"/>
          <a:srcRect l="0" t="0" r="-46" b="0"/>
          <a:stretch/>
        </p:blipFill>
        <p:spPr>
          <a:xfrm>
            <a:off x="0" y="1295280"/>
            <a:ext cx="4419720" cy="495324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3"/>
          <p:cNvSpPr/>
          <p:nvPr/>
        </p:nvSpPr>
        <p:spPr>
          <a:xfrm>
            <a:off x="0" y="0"/>
            <a:ext cx="9036000" cy="10731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тенциальная энергия упруго деформированного т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4" descr="202-1"/>
          <p:cNvPicPr/>
          <p:nvPr/>
        </p:nvPicPr>
        <p:blipFill>
          <a:blip r:embed="rId2"/>
          <a:stretch/>
        </p:blipFill>
        <p:spPr>
          <a:xfrm>
            <a:off x="4344840" y="1143000"/>
            <a:ext cx="4799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12952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Закон сохранения</a:t>
            </a:r>
            <a:r>
              <a:rPr b="0" lang="ru-RU" sz="6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энергии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19051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он сохранения энерг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тверждает, что энергия никуда не исчезает и не возникает "из ничего"; она только переходит от одного тела к другому или превращается из одного вида в друг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1687680" y="274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168768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0" y="272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8"/>
          <p:cNvGrpSpPr/>
          <p:nvPr/>
        </p:nvGrpSpPr>
        <p:grpSpPr>
          <a:xfrm>
            <a:off x="0" y="2725560"/>
            <a:ext cx="9144000" cy="1387440"/>
            <a:chOff x="0" y="2725560"/>
            <a:chExt cx="9144000" cy="1387440"/>
          </a:xfrm>
        </p:grpSpPr>
        <p:sp>
          <p:nvSpPr>
            <p:cNvPr id="557" name="Rectangle 9"/>
            <p:cNvSpPr/>
            <p:nvPr/>
          </p:nvSpPr>
          <p:spPr>
            <a:xfrm>
              <a:off x="0" y="2725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Rectangle 10"/>
            <p:cNvSpPr/>
            <p:nvPr/>
          </p:nvSpPr>
          <p:spPr>
            <a:xfrm>
              <a:off x="0" y="2725560"/>
              <a:ext cx="914400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ru-RU" sz="85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9" name="Picture 12" descr="image038"/>
          <p:cNvPicPr/>
          <p:nvPr/>
        </p:nvPicPr>
        <p:blipFill>
          <a:blip r:embed="rId1"/>
          <a:stretch/>
        </p:blipFill>
        <p:spPr>
          <a:xfrm>
            <a:off x="8280360" y="0"/>
            <a:ext cx="863640" cy="1295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5" descr="Cannon"/>
          <p:cNvPicPr/>
          <p:nvPr/>
        </p:nvPicPr>
        <p:blipFill>
          <a:blip r:embed="rId2"/>
          <a:stretch/>
        </p:blipFill>
        <p:spPr>
          <a:xfrm>
            <a:off x="2133720" y="388620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8" descr="Использование потенциальной энергии"/>
          <p:cNvPicPr/>
          <p:nvPr/>
        </p:nvPicPr>
        <p:blipFill>
          <a:blip r:embed="rId3"/>
          <a:stretch/>
        </p:blipFill>
        <p:spPr>
          <a:xfrm>
            <a:off x="6248520" y="3581280"/>
            <a:ext cx="2730240" cy="32767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7" descr="spri"/>
          <p:cNvPicPr/>
          <p:nvPr/>
        </p:nvPicPr>
        <p:blipFill>
          <a:blip r:embed="rId4"/>
          <a:stretch/>
        </p:blipFill>
        <p:spPr>
          <a:xfrm>
            <a:off x="6248520" y="342900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9" descr="FIREWRK6"/>
          <p:cNvPicPr/>
          <p:nvPr/>
        </p:nvPicPr>
        <p:blipFill>
          <a:blip r:embed="rId5"/>
          <a:stretch/>
        </p:blipFill>
        <p:spPr>
          <a:xfrm>
            <a:off x="2133720" y="40384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0" descr="FLOWER33"/>
          <p:cNvPicPr/>
          <p:nvPr/>
        </p:nvPicPr>
        <p:blipFill>
          <a:blip r:embed="rId6"/>
          <a:stretch/>
        </p:blipFill>
        <p:spPr>
          <a:xfrm>
            <a:off x="0" y="3505320"/>
            <a:ext cx="2239920" cy="3352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7239240" cy="539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Закон сохранения механической энергии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599840"/>
            <a:ext cx="822960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1981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он сохранения механической энерг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тверждает, что  в отсутствии сил трения полная механическая энергия замкнутой системы тел не изменя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1687680" y="274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168768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0" y="272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Group 8"/>
          <p:cNvGrpSpPr/>
          <p:nvPr/>
        </p:nvGrpSpPr>
        <p:grpSpPr>
          <a:xfrm>
            <a:off x="0" y="2725560"/>
            <a:ext cx="9144000" cy="1387440"/>
            <a:chOff x="0" y="2725560"/>
            <a:chExt cx="9144000" cy="1387440"/>
          </a:xfrm>
        </p:grpSpPr>
        <p:sp>
          <p:nvSpPr>
            <p:cNvPr id="572" name="Rectangle 9"/>
            <p:cNvSpPr/>
            <p:nvPr/>
          </p:nvSpPr>
          <p:spPr>
            <a:xfrm>
              <a:off x="0" y="2725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Rectangle 10"/>
            <p:cNvSpPr/>
            <p:nvPr/>
          </p:nvSpPr>
          <p:spPr>
            <a:xfrm>
              <a:off x="0" y="2725560"/>
              <a:ext cx="914400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ru-RU" sz="85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74" name="Picture 11" descr="06g-i2"/>
          <p:cNvPicPr/>
          <p:nvPr/>
        </p:nvPicPr>
        <p:blipFill>
          <a:blip r:embed="rId1"/>
          <a:stretch/>
        </p:blipFill>
        <p:spPr>
          <a:xfrm>
            <a:off x="250920" y="364500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2" descr="06g-i3"/>
          <p:cNvPicPr/>
          <p:nvPr/>
        </p:nvPicPr>
        <p:blipFill>
          <a:blip r:embed="rId2"/>
          <a:stretch/>
        </p:blipFill>
        <p:spPr>
          <a:xfrm>
            <a:off x="6804000" y="3645000"/>
            <a:ext cx="1954080" cy="244800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13"/>
          <p:cNvSpPr/>
          <p:nvPr/>
        </p:nvSpPr>
        <p:spPr>
          <a:xfrm>
            <a:off x="3059280" y="4076640"/>
            <a:ext cx="352872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ки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+ Е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по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4:11:29Z</dcterms:created>
  <dc:creator>User1</dc:creator>
  <dc:description/>
  <dc:language>en-US</dc:language>
  <cp:lastModifiedBy>Admin</cp:lastModifiedBy>
  <dcterms:modified xsi:type="dcterms:W3CDTF">2012-04-23T12:27:37Z</dcterms:modified>
  <cp:revision>14</cp:revision>
  <dc:subject/>
  <dc:title>Потенциальная энерг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a08000000000001024140</vt:lpwstr>
  </property>
</Properties>
</file>