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78BA-0210-4AA7-9119-2BED9F763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6C5F-5DE1-44B2-A3FE-AA0289DA0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B5CA-F6AE-4FDE-9E3C-8147B69EF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C134-6BD7-4D2E-8F83-C1335FEAF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8C786-37D5-4F58-92A1-6B089351C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EC9E8-F7F9-448D-AB5D-5DA0D5231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EE63F-1400-4EB1-A1DA-7C5A61B12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7DFE0-D205-43B3-BA3F-4DDB43937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0E327-C810-43B4-9135-B9B5EE8F6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9A098-86C1-477F-89FA-412906EAA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39C8A-2212-43E7-8929-58844EAB0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FAFC-401C-4D4D-B26A-BDEF94F08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079CF-847A-4FF8-A07E-4284090EA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D6AF1-03B9-48BB-95F9-021611149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81DA2-E557-488B-A925-866B68400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24937-53D9-47D0-AA24-AAB63140B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1924A-5D75-4458-9581-E65F03019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18BC6-49B0-48E2-92D7-B3C0757DE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F3F7A-6AF2-441C-AE1D-858894C9F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73EA0-7332-4242-8C6A-FB52E2BC9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D386D-CE5F-4F72-A593-DAF8F330E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B5B12-A516-442D-B56F-27A2B9E14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B6D6-EFF9-4249-BFBF-2B6112BF3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DF820-4FF4-4533-AE0E-5AC981C0E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93099-6D51-43FF-8E13-7F803BE56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1E1D2-8545-4400-86B1-118765E26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28B45-B91A-46DE-A19A-886AF7076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25DBB-9DFA-49CB-95F6-73A4EA7FC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858D4-2861-4407-BE88-D4D3AECAE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6E690-DE21-4F7B-8DDA-A6DC051F4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23BB8-2647-4065-BC83-12E45B900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F9AE4-7DD5-457B-87E7-6709E0D3E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39FAA-E447-46F9-AA36-F80C3CF61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9204-86A4-4D79-A61F-225136330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2D1A6-01B9-467B-B511-743B45C6F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1420E-2A7C-4167-BE7F-7BA612CDC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F0DB9-96FC-4F0A-9891-217C0354C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D38F4-6AC3-490D-B21A-0F1DC0BD3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42CB78-C13B-40FC-B046-210C410C0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A49A3-AA0E-40C1-A0AB-D5E7B5C4B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0B713-4AC9-4386-BC89-AF372526C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444E3-23BD-46C1-8EE8-24E469FA3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77FF4-68BA-46FA-991E-8093B68F9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578CEA-43CE-4238-9DED-DAFB5AB28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1BA2-45DD-47EE-9B60-C1C244B2D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B47BC9-3BC0-4020-88E7-7869075AC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9611F6-0647-42A8-BEAB-89BC4D2BA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2B6459-4174-47DE-B716-913D65961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CB3898-FD8E-4061-8A37-741AF8323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ACD9DE-34DF-4851-9C79-3EC0F0F70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3AEA61-9DCE-4D64-AA75-48C05475F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0D7814-BA87-42FA-86F8-75065E0D2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132621-8237-4E9C-9707-73DC48FD7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7BA2D1-85EE-4F4A-808A-767806338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D5EA54-529D-4883-9FC1-FCB40F6BE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73D9-7846-4E87-A266-FD5272F69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8E3283-B9C5-4F44-9B01-0FA3DD32C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AB08E4-D8EE-40DB-B789-24BF939B1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A12F1C-0263-4472-933F-989A7FEC1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61F9D6-D2B3-402D-B855-9E9F89857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D94E27-C780-4219-80E7-25A2BF217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C8B4B7-25FE-4C0F-9901-5CC2FE6A7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1BE84C-40A7-4AE7-BBB6-2D05E5EA7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893E6C-F12B-4D52-A7EA-86AC7ED9E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A90ECD-0508-4083-A330-A254443DC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02D45E-E546-4D75-80FD-8E5F28D63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E69B-2BC0-4770-835C-7F0F672D4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A2D06A-880B-47DD-9C6E-335921C14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9FC078-04D1-49B3-A702-E60A552BC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B6A709-D641-4459-949B-D2B8EC150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2594-6568-40F0-AF55-0C9028D63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563E-5265-48B2-8E22-EEEF02FD3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89FBA-7746-4C39-AA52-668C3AFA8542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4" name="Полилиния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EEAD4-B2E9-4DCC-BF84-52097A93FA1A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7" name="Полилиния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F60C9-77D4-4A47-BDDC-9230444162A8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3EB67-1D26-4D84-ACB1-C2B8C80CEC0F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B9D06-6E4D-4758-8482-4BAEE5475C91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8D1CE-177D-40B4-B1BE-0727281D8DCF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ru.wikipedia.org/wiki/&#1060;&#1072;&#1081;&#1083;:Ethylene-3D-vdW.png" TargetMode="External"/><Relationship Id="rId3" Type="http://schemas.openxmlformats.org/officeDocument/2006/relationships/image" Target="../media/image3.png"/><Relationship Id="rId4" Type="http://schemas.openxmlformats.org/officeDocument/2006/relationships/hyperlink" Target="http://ru.wikipedia.org/wiki/&#1060;&#1072;&#1081;&#1083;:Ethene_structural.svg" TargetMode="Externa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Заголовок 1" descr=""/>
          <p:cNvPicPr/>
          <p:nvPr/>
        </p:nvPicPr>
        <p:blipFill>
          <a:blip r:embed="rId1"/>
          <a:stretch/>
        </p:blipFill>
        <p:spPr>
          <a:xfrm>
            <a:off x="378000" y="798480"/>
            <a:ext cx="8650080" cy="177948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1403280" y="2637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256" name="Picture 2" descr="Этилен: вид молекулы">
            <a:hlinkClick r:id="rId2"/>
          </p:cNvPr>
          <p:cNvPicPr/>
          <p:nvPr/>
        </p:nvPicPr>
        <p:blipFill>
          <a:blip r:embed="rId3"/>
          <a:srcRect l="11243" t="0" r="11243" b="0"/>
          <a:stretch/>
        </p:blipFill>
        <p:spPr>
          <a:xfrm>
            <a:off x="357120" y="2714760"/>
            <a:ext cx="3672000" cy="36716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Этилен: химическая формула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51200" y="3219480"/>
            <a:ext cx="4175280" cy="33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456840" y="213840"/>
            <a:ext cx="8258040" cy="628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02120" indent="-36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Этилен –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аз без цвета и запаха, с воздухом образует взрывоопасные смеси. 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402120" indent="-36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402120" indent="-36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)Температура кипения: -104°C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402120" indent="-36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402120" indent="-36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)Температура плавления: -169.2°C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402120" indent="-36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 увеличением молекулярной массы повышаются температуры плавления и кипения. Алкены нормального строения кипят при более высокой температуре, чем их изомеры, имеющие изостроение. Температуры кипения </a:t>
            </a:r>
            <a:r>
              <a:rPr b="0" i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ис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изомеров выше, чем </a:t>
            </a:r>
            <a:r>
              <a:rPr b="0" i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ранс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изомеров, а температуры плавления — наоборот. Алкены малополярны, но легко поляризуются.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402120" indent="-3672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eorgia"/>
            </a:endParaRPr>
          </a:p>
          <a:p>
            <a:pPr marL="402120" indent="-3672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endParaRPr b="0" lang="en-US" sz="8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Прямоугольник 3"/>
          <p:cNvSpPr/>
          <p:nvPr/>
        </p:nvSpPr>
        <p:spPr>
          <a:xfrm>
            <a:off x="714240" y="285840"/>
            <a:ext cx="814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)Алкены плохо растворимы в воде , но хорошо — в органических растворителях. Хорошо растворяется в диэтиловом эфире и углеводородах. Этилен горит коптящим пламенем.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graphicFrame>
        <p:nvGraphicFramePr>
          <p:cNvPr id="260" name="Object 2"/>
          <p:cNvGraphicFramePr/>
          <p:nvPr/>
        </p:nvGraphicFramePr>
        <p:xfrm>
          <a:off x="357120" y="2357280"/>
          <a:ext cx="8425080" cy="431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120" y="2357280"/>
                    <a:ext cx="8425080" cy="43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4T11:58:37Z</dcterms:created>
  <dc:creator>Вера</dc:creator>
  <dc:description/>
  <dc:language>en-US</dc:language>
  <cp:lastModifiedBy>Серега</cp:lastModifiedBy>
  <dcterms:modified xsi:type="dcterms:W3CDTF">2014-04-22T01:21:25Z</dcterms:modified>
  <cp:revision>12</cp:revision>
  <dc:subject/>
  <dc:title>Физические свойства   этилена</dc:title>
</cp:coreProperties>
</file>