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27F-781F-40A8-9F73-EAC0DF7B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974-522E-4900-A398-7A79A3E9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549-6082-4D30-991B-B7382C2A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FEF-122B-4303-A092-FBAC29A5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965-B8AD-4353-B321-89C09C7C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4C99-7606-4CA3-93BB-EE66D11E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EBDB-F92E-4B76-8462-683C486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635-083A-4751-ABEE-1AF4FFB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5741-8766-4220-B4F6-C07D633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3125-AC19-421D-AA52-345CA53C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6925-2F1E-4340-9ECD-F375714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B04-FB2B-42C3-9104-1CE7FD8C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D3E5-8D0F-4AC0-975E-FBB70B5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15D-7BD9-41EE-A8D7-EAEE77B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74CB-6533-40DB-BFB3-ACEE752B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061-5D57-4098-8BD1-B275FB24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20FA-D7FA-4F6D-AE5F-24F03FBD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CEB-4E8F-4003-8037-E533F43A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74A-449A-4B2A-A33D-9B87069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E75-7CAF-45EF-BDCE-B4F7C17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965-4E9B-4CBF-A073-F192BE2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84D-516E-42C5-9591-B6D6671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A56-60E4-43AF-9F5E-C6B639C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AA9-F23D-4242-BF0D-08A8F4D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287-0F04-4A29-8388-AE9D36510A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0DC-BF0E-4DEF-9EBF-CC8877501C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7;&#1088;.%20&#1052;&#1072;&#1088;&#1082;..sw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v344.avi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0066"/>
                </a:solidFill>
                <a:latin typeface="Arial"/>
              </a:rPr>
              <a:t>Алкены</a:t>
            </a:r>
            <a:endParaRPr b="1" lang="en-US" sz="5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дельные углеводороды ряда эти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Химические свойства алкен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имическим свойствам алкены резко отличаются от алканов. Алкены более химически активные вещества, что обусловлено наличием двойной связи, состоящей из   </a:t>
            </a:r>
            <a:r>
              <a:rPr b="0" i="1" lang="el-GR" sz="3000" spc="-1" strike="noStrike">
                <a:solidFill>
                  <a:srgbClr val="000000"/>
                </a:solidFill>
                <a:latin typeface="Georgia"/>
              </a:rPr>
              <a:t>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и  </a:t>
            </a:r>
            <a:r>
              <a:rPr b="0" lang="el-GR" sz="3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связей. Алкены способны присоединять два одновалентных атома или радикала за счёт разрыва  </a:t>
            </a:r>
            <a:r>
              <a:rPr b="0" lang="el-GR" sz="3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связи, как менее проч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543800" cy="1295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Arial"/>
              </a:rPr>
              <a:t>Типы химических реакций, которые характерны для алкен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351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Реакции присоедине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Реакции полимеризаци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Реакции окисле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8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кции присоедине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1981080"/>
            <a:ext cx="8291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1.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Гидрирование</a:t>
            </a:r>
            <a:r>
              <a:rPr b="0" i="1" lang="ru-RU" sz="2400" spc="-1" strike="noStrike">
                <a:solidFill>
                  <a:srgbClr val="ff505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                         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Этен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     э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словия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тализатор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, Pt,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2.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Галоген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 baseline="-25000">
                <a:solidFill>
                  <a:srgbClr val="cc00ff"/>
                </a:solidFill>
                <a:latin typeface="Arial"/>
              </a:rPr>
              <a:t>1              2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СН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Н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проп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     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1,2-дихлор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акция идёт при обыч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кции присоедине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50920" y="1981080"/>
            <a:ext cx="8362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3.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Гидрогалоген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 baseline="-25000">
                <a:solidFill>
                  <a:srgbClr val="cc00ff"/>
                </a:solidFill>
                <a:latin typeface="Arial"/>
              </a:rPr>
              <a:t>1              2           3               4                                              1              2            3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СН –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+  Н –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Н –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ff"/>
                </a:solidFill>
                <a:latin typeface="Arial"/>
              </a:rPr>
              <a:t>Бутен-1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ff"/>
                </a:solidFill>
                <a:latin typeface="Arial"/>
              </a:rPr>
              <a:t>2-хлорбут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4.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	</a:t>
            </a:r>
            <a:r>
              <a:rPr b="1" i="1" lang="ru-RU" sz="2400" spc="-1" strike="noStrike">
                <a:solidFill>
                  <a:srgbClr val="ff5050"/>
                </a:solidFill>
                <a:latin typeface="Georgia"/>
              </a:rPr>
              <a:t>Гидра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 baseline="-25000">
                <a:solidFill>
                  <a:srgbClr val="cc00ff"/>
                </a:solidFill>
                <a:latin typeface="Arial"/>
              </a:rPr>
              <a:t>1              2            3                                               1              2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СН –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+  Н – 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Н –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cc00ff"/>
                </a:solidFill>
                <a:latin typeface="Arial"/>
              </a:rPr>
              <a:t>пр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cc00ff"/>
                </a:solidFill>
                <a:latin typeface="Arial"/>
              </a:rPr>
              <a:t>пропанол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ловия реа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атализатор – серная кислота, темпер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оединение молекул галогеноводородов и воды к молекулам алкенов происходит в соответствии </a:t>
            </a: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 правилом В.В. Марковникова.   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500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356000" y="2637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780000" y="4292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724360" y="2852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5076720" y="45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Гидрогалогенирование гомологов этил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2060640"/>
            <a:ext cx="460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Правило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В.В. Марков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ом водорода присоединяется к наиболее гидрированному атому углерода при двойной связи, а атом галогена или гидроксогруппа – к наименее гидриров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{98C868E0-E730-4905-AE5B-ED4BA00B2A72}"/>
          <p:cNvPicPr/>
          <p:nvPr/>
        </p:nvPicPr>
        <p:blipFill>
          <a:blip r:embed="rId2"/>
          <a:stretch/>
        </p:blipFill>
        <p:spPr>
          <a:xfrm>
            <a:off x="4819680" y="2492280"/>
            <a:ext cx="4324320" cy="3514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471636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кции полимеризации</a:t>
            </a:r>
            <a:br>
              <a:rPr sz="39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свободно-радикальное присоединение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748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Arial"/>
              </a:rPr>
              <a:t>Полимеризация</a:t>
            </a:r>
            <a:r>
              <a:rPr b="0" i="1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оследовательное соединение одинаковых молекул в более круп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바탕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바탕"/>
              </a:rPr>
              <a:t>                        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바탕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바탕"/>
              </a:rPr>
              <a:t>                       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바탕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바탕"/>
              </a:rPr>
              <a:t>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바탕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바탕"/>
              </a:rPr>
              <a:t>                       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바탕"/>
              </a:rPr>
              <a:t>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바탕"/>
              </a:rPr>
              <a:t>                         </a:t>
            </a:r>
            <a:r>
              <a:rPr b="0" lang="el-GR" sz="2400" spc="-1" strike="noStrike" baseline="30000">
                <a:solidFill>
                  <a:srgbClr val="000000"/>
                </a:solidFill>
                <a:latin typeface="바탕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…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ённо уравнение этой реакции записывается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Этен                   полиэт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словия ре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овышенная температура, давление, катализ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7885080" y="306864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284720" y="537372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8317080" y="393372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1258920" y="465300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900000" y="393372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47160" cy="17478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Качественные реакции на двойную углерод-углеродную связь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91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есцвечивание </a:t>
            </a:r>
            <a:r>
              <a:rPr b="0" lang="ru-RU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бромн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СН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+ 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 – CHBr –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пропен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        1,2-дибром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есцвечивание раствора перманганата ка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СН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+ 2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4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baseline="-25000">
                <a:solidFill>
                  <a:srgbClr val="cc00ff"/>
                </a:solidFill>
                <a:latin typeface="Arial"/>
              </a:rPr>
              <a:t>                         </a:t>
            </a:r>
            <a:r>
              <a:rPr b="0" i="1" lang="ru-RU" sz="2400" spc="-1" strike="noStrike" baseline="-25000">
                <a:solidFill>
                  <a:srgbClr val="cc00ff"/>
                </a:solidFill>
                <a:latin typeface="Arial"/>
              </a:rPr>
              <a:t>1                     2      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– СНОН –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+ 2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2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cc00ff"/>
                </a:solidFill>
                <a:latin typeface="Arial"/>
              </a:rPr>
              <a:t>пропандиол-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971640" y="602136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6372360" y="494172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4211640" y="3284640"/>
            <a:ext cx="647640" cy="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04:27:56Z</dcterms:created>
  <dc:creator>3</dc:creator>
  <dc:description/>
  <dc:language>en-US</dc:language>
  <cp:lastModifiedBy>Фарм</cp:lastModifiedBy>
  <dcterms:modified xsi:type="dcterms:W3CDTF">2010-10-02T04:14:02Z</dcterms:modified>
  <cp:revision>78</cp:revision>
  <dc:subject/>
  <dc:title>Алкены.</dc:title>
</cp:coreProperties>
</file>