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096E-B1D4-4D1B-AA04-0C8A7F98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B44-03DF-4C2F-AD29-990D92F6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DDAE-3B79-4804-9C02-0AD9D8DF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9802-926A-4FC4-A560-CAD8A559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ADDC-D681-4B78-BA09-3984AD7C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663-2EB1-4EEB-A974-FF1BCBC1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9F4B-086F-41C1-AA48-BC7BF4D8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2AA2-47A3-4CCC-BEE7-92782ABF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C49-96A6-4E80-9A09-89896603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D0D-E7B0-4C03-A0BE-590ED0E5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1C8-5B52-4139-82F7-41992067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886-1826-4143-9495-FCF7D7AD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4FEA-FD55-4AFC-8FFD-8B8B7E0726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25560" y="274320"/>
            <a:ext cx="4343400" cy="2087640"/>
          </a:xfrm>
          <a:prstGeom prst="rect">
            <a:avLst/>
          </a:prstGeom>
          <a:solidFill>
            <a:srgbClr val="00e200"/>
          </a:solidFill>
          <a:ln w="1260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"/>
              </a:rPr>
              <a:t>DID YOU KNOW..?</a:t>
            </a:r>
            <a:r>
              <a:rPr b="1" lang="ru-RU" sz="6600" spc="-1" strike="noStrike">
                <a:solidFill>
                  <a:srgbClr val="ffffff"/>
                </a:solidFill>
                <a:latin typeface="Calibri Light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28600" y="2879280"/>
            <a:ext cx="4997520" cy="1265400"/>
          </a:xfrm>
          <a:prstGeom prst="rect">
            <a:avLst/>
          </a:prstGeom>
          <a:solidFill>
            <a:srgbClr val="ffd1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omic"/>
              </a:rPr>
              <a:t>(INTERESTS AND HOBBI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58640" y="149040"/>
            <a:ext cx="6775560" cy="480348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lIns="96120" rIns="96120" tIns="52920" bIns="529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62" name="Picture 3" descr="C:\Users\Илья\Desktop\КАРТИНКИ К УРОКУ\p8sbff5PhzA.jpg"/>
          <p:cNvPicPr/>
          <p:nvPr/>
        </p:nvPicPr>
        <p:blipFill>
          <a:blip r:embed="rId1"/>
          <a:stretch/>
        </p:blipFill>
        <p:spPr>
          <a:xfrm>
            <a:off x="4608360" y="1262160"/>
            <a:ext cx="4359600" cy="345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Илья\Desktop\КАРТИНКИ К УРОКУ\1049410_m3w561h315q80v22684_xio-fcmsimage-20140429190430-006008-535fdb9ee483e-.37336162-969d-444e-bbeb-80c776306e83.jpg"/>
          <p:cNvPicPr/>
          <p:nvPr/>
        </p:nvPicPr>
        <p:blipFill>
          <a:blip r:embed="rId2"/>
          <a:stretch/>
        </p:blipFill>
        <p:spPr>
          <a:xfrm>
            <a:off x="2440080" y="417600"/>
            <a:ext cx="3841560" cy="27828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28520" y="5192640"/>
            <a:ext cx="688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43c0c"/>
                </a:solidFill>
                <a:latin typeface="Calibri"/>
              </a:rPr>
              <a:t>The grandpa’s hobby  is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84400" y="149040"/>
            <a:ext cx="6858000" cy="48589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lIns="96120" rIns="96120" tIns="52920" bIns="529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66" name="Picture 6" descr="C:\Users\Илья\Desktop\КАРТИНКИ К УРОКУ\731d79655e446a1e563d22967c20fe8a.jpg"/>
          <p:cNvPicPr/>
          <p:nvPr/>
        </p:nvPicPr>
        <p:blipFill>
          <a:blip r:embed="rId1"/>
          <a:srcRect l="0" t="5957" r="16956" b="13594"/>
          <a:stretch/>
        </p:blipFill>
        <p:spPr>
          <a:xfrm>
            <a:off x="2322360" y="365040"/>
            <a:ext cx="4083120" cy="2470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Users\Илья\Desktop\КАРТИНКИ К УРОКУ\Lizhi.jpg"/>
          <p:cNvPicPr/>
          <p:nvPr/>
        </p:nvPicPr>
        <p:blipFill>
          <a:blip r:embed="rId2"/>
          <a:srcRect l="5442" t="18734" r="0" b="0"/>
          <a:stretch/>
        </p:blipFill>
        <p:spPr>
          <a:xfrm>
            <a:off x="4572000" y="2332080"/>
            <a:ext cx="4141800" cy="24876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36360" y="5118120"/>
            <a:ext cx="80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43c0c"/>
                </a:solidFill>
                <a:latin typeface="Calibri"/>
              </a:rPr>
              <a:t>The children’s hobbies  are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43c0c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38320" y="159120"/>
            <a:ext cx="6904080" cy="483984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lIns="96120" rIns="96120" tIns="52920" bIns="529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70" name="Picture 2" descr="C:\Users\Илья\Desktop\КАРТИНКИ К УРОКУ\131106221001.jpg"/>
          <p:cNvPicPr/>
          <p:nvPr/>
        </p:nvPicPr>
        <p:blipFill>
          <a:blip r:embed="rId1"/>
          <a:stretch/>
        </p:blipFill>
        <p:spPr>
          <a:xfrm>
            <a:off x="2581200" y="401760"/>
            <a:ext cx="6048360" cy="4383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63360" y="5172120"/>
            <a:ext cx="69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43c0c"/>
                </a:solidFill>
                <a:latin typeface="Calibri"/>
              </a:rPr>
              <a:t>The grandma’s hobby  is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43c0c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66400" y="139680"/>
            <a:ext cx="6875640" cy="47761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lIns="96120" rIns="96120" tIns="52920" bIns="529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73" name="Picture 2" descr="C:\Users\Илья\Desktop\КАРТИНКИ К УРОКУ\cocukresim-buyuk3.jpg"/>
          <p:cNvPicPr/>
          <p:nvPr/>
        </p:nvPicPr>
        <p:blipFill>
          <a:blip r:embed="rId1"/>
          <a:stretch/>
        </p:blipFill>
        <p:spPr>
          <a:xfrm>
            <a:off x="2368440" y="530280"/>
            <a:ext cx="6356520" cy="41418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2"/>
          <p:cNvSpPr/>
          <p:nvPr/>
        </p:nvSpPr>
        <p:spPr>
          <a:xfrm>
            <a:off x="119160" y="5156280"/>
            <a:ext cx="69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43c0c"/>
                </a:solidFill>
                <a:latin typeface="Calibri"/>
              </a:rPr>
              <a:t>The children’s hobby is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53960" y="898560"/>
            <a:ext cx="549756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 Light"/>
              </a:rPr>
              <a:t>DEAR PUPILS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98320" y="2574720"/>
            <a:ext cx="7886880" cy="149364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00"/>
                </a:solidFill>
                <a:latin typeface="Calibri"/>
              </a:rPr>
              <a:t>THANK YOU FOR YOUR JOB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67960" y="487440"/>
            <a:ext cx="7529400" cy="536400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380880" y="561960"/>
            <a:ext cx="847404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buClr>
                <a:srgbClr val="2d2a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a26"/>
                </a:solidFill>
                <a:latin typeface="Arial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2d2a26"/>
                </a:solidFill>
                <a:latin typeface="Arial"/>
                <a:ea typeface="Times New Roman"/>
              </a:rPr>
              <a:t>What is hobby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843c0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Why is coin-collectio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the kings’ hobby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What were the first puzzle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67960" y="487440"/>
            <a:ext cx="7529400" cy="536400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380880" y="543960"/>
            <a:ext cx="8474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buClr>
                <a:srgbClr val="2d2a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a26"/>
                </a:solidFill>
                <a:latin typeface="Arial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2d2a26"/>
                </a:solidFill>
                <a:latin typeface="Arial"/>
                <a:ea typeface="Times New Roman"/>
              </a:rPr>
              <a:t>What is hobb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843c0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43c0c"/>
                </a:solidFill>
                <a:latin typeface="Arial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843c0c"/>
                </a:solidFill>
                <a:latin typeface="Arial"/>
                <a:ea typeface="Times New Roman"/>
              </a:rPr>
              <a:t>Hobby is pleasure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Why is coin-collec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the kings’ hobb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one of the oldest hobbies in the worl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were the first puzzl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They were from wood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2880" y="380880"/>
            <a:ext cx="7102440" cy="550224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843c0c"/>
                </a:solidFill>
                <a:latin typeface="Calibri Light"/>
              </a:rPr>
              <a:t>I like to read, </a:t>
            </a:r>
            <a:br>
              <a:rPr sz="5400"/>
            </a:br>
            <a:r>
              <a:rPr b="1" lang="en-US" sz="5400" spc="-1" strike="noStrike">
                <a:solidFill>
                  <a:srgbClr val="843c0c"/>
                </a:solidFill>
                <a:latin typeface="Calibri Light"/>
              </a:rPr>
              <a:t>I like to play, </a:t>
            </a:r>
            <a:br>
              <a:rPr sz="5400"/>
            </a:br>
            <a:r>
              <a:rPr b="1" lang="en-US" sz="5400" spc="-1" strike="noStrike">
                <a:solidFill>
                  <a:srgbClr val="843c0c"/>
                </a:solidFill>
                <a:latin typeface="Calibri Light"/>
              </a:rPr>
              <a:t>I like to study every day, </a:t>
            </a:r>
            <a:br>
              <a:rPr sz="5400"/>
            </a:br>
            <a:r>
              <a:rPr b="1" lang="en-US" sz="5400" spc="-1" strike="noStrike">
                <a:solidFill>
                  <a:srgbClr val="843c0c"/>
                </a:solidFill>
                <a:latin typeface="Calibri Light"/>
              </a:rPr>
              <a:t>I like to jump, </a:t>
            </a:r>
            <a:br>
              <a:rPr sz="5400"/>
            </a:br>
            <a:r>
              <a:rPr b="1" lang="en-US" sz="5400" spc="-1" strike="noStrike">
                <a:solidFill>
                  <a:srgbClr val="843c0c"/>
                </a:solidFill>
                <a:latin typeface="Calibri Light"/>
              </a:rPr>
              <a:t>I like to run, </a:t>
            </a:r>
            <a:br>
              <a:rPr sz="5400"/>
            </a:br>
            <a:r>
              <a:rPr b="1" lang="en-US" sz="5400" spc="-1" strike="noStrike">
                <a:solidFill>
                  <a:srgbClr val="843c0c"/>
                </a:solidFill>
                <a:latin typeface="Calibri Light"/>
              </a:rPr>
              <a:t>I like to skip! It`s fun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639360"/>
            <a:ext cx="6811920" cy="518148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843c0c"/>
                </a:solidFill>
                <a:latin typeface="Calibri Light"/>
              </a:rPr>
              <a:t>My hobby is reading,</a:t>
            </a:r>
            <a:br>
              <a:rPr sz="4400"/>
            </a:br>
            <a:r>
              <a:rPr b="1" lang="en-US" sz="4400" spc="-1" strike="noStrike">
                <a:solidFill>
                  <a:srgbClr val="843c0c"/>
                </a:solidFill>
                <a:latin typeface="Calibri Light"/>
              </a:rPr>
              <a:t>My hobby is playing, </a:t>
            </a:r>
            <a:br>
              <a:rPr sz="4400"/>
            </a:br>
            <a:r>
              <a:rPr b="1" lang="en-US" sz="4400" spc="-1" strike="noStrike">
                <a:solidFill>
                  <a:srgbClr val="843c0c"/>
                </a:solidFill>
                <a:latin typeface="Calibri Light"/>
              </a:rPr>
              <a:t>  My hobby is studying </a:t>
            </a:r>
            <a:br>
              <a:rPr sz="4400"/>
            </a:br>
            <a:r>
              <a:rPr b="1" lang="en-US" sz="4400" spc="-1" strike="noStrike">
                <a:solidFill>
                  <a:srgbClr val="843c0c"/>
                </a:solidFill>
                <a:latin typeface="Calibri Light"/>
              </a:rPr>
              <a:t>every day, </a:t>
            </a:r>
            <a:br>
              <a:rPr sz="4400"/>
            </a:br>
            <a:r>
              <a:rPr b="1" lang="en-US" sz="4400" spc="-1" strike="noStrike">
                <a:solidFill>
                  <a:srgbClr val="843c0c"/>
                </a:solidFill>
                <a:latin typeface="Calibri Light"/>
              </a:rPr>
              <a:t>   My hobby is jumping, </a:t>
            </a:r>
            <a:br>
              <a:rPr sz="4400"/>
            </a:br>
            <a:r>
              <a:rPr b="1" lang="en-US" sz="4400" spc="-1" strike="noStrike">
                <a:solidFill>
                  <a:srgbClr val="843c0c"/>
                </a:solidFill>
                <a:latin typeface="Calibri Light"/>
              </a:rPr>
              <a:t>   My hobby is running,</a:t>
            </a:r>
            <a:br>
              <a:rPr sz="4400"/>
            </a:br>
            <a:r>
              <a:rPr b="1" lang="en-US" sz="4400" spc="-1" strike="noStrike">
                <a:solidFill>
                  <a:srgbClr val="843c0c"/>
                </a:solidFill>
                <a:latin typeface="Calibri Light"/>
              </a:rPr>
              <a:t>My hobby is skipping! </a:t>
            </a:r>
            <a:br>
              <a:rPr sz="4400"/>
            </a:br>
            <a:r>
              <a:rPr b="1" lang="en-US" sz="4400" spc="-1" strike="noStrike">
                <a:solidFill>
                  <a:srgbClr val="843c0c"/>
                </a:solidFill>
                <a:latin typeface="Calibri Light"/>
              </a:rPr>
              <a:t>It`s fun! Hurray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01960" y="230400"/>
            <a:ext cx="6804000" cy="488736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lIns="96120" rIns="96120" tIns="52920" bIns="529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50" name="Picture 4" descr="C:\Users\Илья\Desktop\КАРТИНКИ К УРОКУ\sm.jpg"/>
          <p:cNvPicPr/>
          <p:nvPr/>
        </p:nvPicPr>
        <p:blipFill>
          <a:blip r:embed="rId1"/>
          <a:stretch/>
        </p:blipFill>
        <p:spPr>
          <a:xfrm>
            <a:off x="2560680" y="539640"/>
            <a:ext cx="5788080" cy="43070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237960" y="5273640"/>
            <a:ext cx="479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43c0c"/>
                </a:solidFill>
                <a:latin typeface="Calibri"/>
              </a:rPr>
              <a:t>Ben’s hobby is  .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0" y="231840"/>
            <a:ext cx="6831000" cy="49399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lIns="96120" rIns="96120" tIns="52920" bIns="529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53" name="Picture 2" descr="C:\Users\Илья\Desktop\КАРТИНКИ К УРОКУ\e9ded9718fca307533092a9381bf386e.jpg"/>
          <p:cNvPicPr/>
          <p:nvPr/>
        </p:nvPicPr>
        <p:blipFill>
          <a:blip r:embed="rId1"/>
          <a:stretch/>
        </p:blipFill>
        <p:spPr>
          <a:xfrm>
            <a:off x="2305080" y="493560"/>
            <a:ext cx="6081840" cy="45165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447840" y="5365800"/>
            <a:ext cx="500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43c0c"/>
                </a:solidFill>
                <a:latin typeface="Calibri"/>
              </a:rPr>
              <a:t>Ann’s hobby  is  .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93840" y="240120"/>
            <a:ext cx="6702480" cy="478584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lIns="96120" rIns="96120" tIns="52920" bIns="529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56" name="Picture 2" descr="C:\Users\Илья\Desktop\КАРТИНКИ К УРОКУ\6453373_m.jpg"/>
          <p:cNvPicPr/>
          <p:nvPr/>
        </p:nvPicPr>
        <p:blipFill>
          <a:blip r:embed="rId1"/>
          <a:stretch/>
        </p:blipFill>
        <p:spPr>
          <a:xfrm>
            <a:off x="2478240" y="476280"/>
            <a:ext cx="6126120" cy="43336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374760" y="5346720"/>
            <a:ext cx="57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43c0c"/>
                </a:solidFill>
                <a:latin typeface="Calibri"/>
              </a:rPr>
              <a:t>Mr. Big’s hobby  is .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12480" y="203400"/>
            <a:ext cx="6729480" cy="484128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lIns="96120" rIns="96120" tIns="52920" bIns="529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59" name="Picture 2" descr="C:\Users\Илья\Desktop\КАРТИНКИ К УРОКУ\i (1).jpg"/>
          <p:cNvPicPr/>
          <p:nvPr/>
        </p:nvPicPr>
        <p:blipFill>
          <a:blip r:embed="rId1"/>
          <a:stretch/>
        </p:blipFill>
        <p:spPr>
          <a:xfrm>
            <a:off x="2597040" y="539640"/>
            <a:ext cx="5897520" cy="42246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347760" y="5402160"/>
            <a:ext cx="474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43c0c"/>
                </a:solidFill>
                <a:latin typeface="Calibri"/>
              </a:rPr>
              <a:t>Jim’s hobby  is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User</cp:lastModifiedBy>
  <dcterms:modified xsi:type="dcterms:W3CDTF">2020-03-10T10:10:44Z</dcterms:modified>
  <cp:revision>24</cp:revision>
  <dc:subject/>
  <dc:title>Название презентации</dc:title>
</cp:coreProperties>
</file>