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5B0A-A247-4CEF-B245-17284B75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433-3221-4C6A-9B48-F7079B42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1B4-9B71-4754-9B12-D9EBC6D1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F96-DE00-4423-8C8E-0A7488BE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ADC5-21EC-4FF9-AE94-24E17AEA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E482-97EB-4835-885C-55CC4970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C9A8-2849-485C-9598-1D9B524C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DCC1-0381-4098-BB6B-27FD8D8F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FC76-6BD5-4D83-9AA1-8B433D51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167C-E667-4CF2-9B93-D960289A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D785-B8E1-4D9F-8045-6AD35E19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4C0-9CFD-4D9C-A2F9-C717BCDC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A6E0-28BA-4E35-B618-836D2923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E43F-519A-439B-95D5-8A2CAD12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4651-96B7-4502-A63E-77A8EEC8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CE8B-BDCD-42C4-9037-6B3B6748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59CE-5BC4-4A94-AA98-58F23759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D2D5-596B-4EF2-8AB3-4ED49119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A3B02-B79E-4FAA-88D6-AA26993C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24B7-1443-4442-B7D3-FB59D7DD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00478-4248-4216-9B3E-E283AA39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298C2-C2A3-4A68-A6EE-0990D2B3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50B-14C4-4643-9665-9707DD8F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1EB23-0C66-4153-A980-51CF456C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697DC-AF60-444E-8B94-CC3A5873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AA82-350C-43AE-BC10-108E6C93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B6066-9C7B-4871-9512-274A5EC6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A785F-E560-4334-B89E-51F96E27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94A21-DDA7-4594-A4E7-EAC80966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7873E-890D-4D81-8987-20940835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080-895E-44AC-B0A8-A0E6B127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D58-618B-4834-A4E3-D4A9B735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A73-9630-4AAA-A918-5EFBFEF6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502-BD1B-4F2A-B815-C757E47A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220-EAC1-4AAD-98D7-A7CB55F8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4D4-61D0-4190-93AB-82E8272B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5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sp>
          <p:nvSpPr>
            <p:cNvPr id="12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697720"/>
                <a:gd name="textAreaBottom" fmla="*/ 5698080 h 5697720"/>
              </a:gdLst>
              <a:ahLst/>
              <a:rect l="textAreaLeft" t="textAreaTop" r="textAreaRight" b="textAreaBottom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" name="Straight Connector 18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14" name="Straight Connector 19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15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Isosceles Triangle 22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26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4038D0-A037-41BB-92EC-1026A26982FB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1BFD67-32A3-4356-9045-B942B6D94465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16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117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118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body"/>
          </p:nvPr>
        </p:nvSpPr>
        <p:spPr>
          <a:xfrm>
            <a:off x="509004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dt" idx="7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6B1830-B882-4835-BC36-1E5B728851E7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chemeClr val="accent1"/>
                </a:solidFill>
                <a:latin typeface="Trebuchet MS"/>
              </a:rPr>
              <a:t>Исследование чипсов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086200" y="4050720"/>
            <a:ext cx="8044920" cy="15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ученица 9 «В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МКОУ «Богучарская СОШ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Суховерхова Екат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3880" y="5032440"/>
            <a:ext cx="10515240" cy="181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2c3c43"/>
                </a:solidFill>
                <a:latin typeface="Trebuchet MS"/>
              </a:rPr>
              <a:t>В составе чипсов присутствует много масла, поэтому пламя очень интенсивное, и запах при горении неприятный. Судя по интенсивности запаха, можно утверждать, что в чипсах марки «Русская картошка» больше всего масла, а в чипсах марки «</a:t>
            </a:r>
            <a:r>
              <a:rPr b="0" lang="en-US" sz="2000" spc="-1" strike="noStrike">
                <a:solidFill>
                  <a:srgbClr val="2c3c43"/>
                </a:solidFill>
                <a:latin typeface="Trebuchet MS"/>
              </a:rPr>
              <a:t>Pringles</a:t>
            </a:r>
            <a:r>
              <a:rPr b="0" lang="ru-RU" sz="2000" spc="-1" strike="noStrike">
                <a:solidFill>
                  <a:srgbClr val="2c3c43"/>
                </a:solidFill>
                <a:latin typeface="Trebuchet MS"/>
              </a:rPr>
              <a:t>» меньше всего. Цвет пламени свидетельствует о наличии в составе чипсов всех марок поваренной соли или хлорида натрия. </a:t>
            </a:r>
            <a:br>
              <a:rPr sz="1050"/>
            </a:b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1" name="Объект 3" descr=""/>
          <p:cNvPicPr/>
          <p:nvPr/>
        </p:nvPicPr>
        <p:blipFill>
          <a:blip r:embed="rId1"/>
          <a:srcRect l="-656" t="7647" r="656" b="6662"/>
          <a:stretch/>
        </p:blipFill>
        <p:spPr>
          <a:xfrm>
            <a:off x="3289320" y="605520"/>
            <a:ext cx="5889960" cy="41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0240" y="372240"/>
            <a:ext cx="9600840" cy="13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пыт №3. Исследование механической прочности чипсов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3" name="Объект 7" descr=""/>
          <p:cNvPicPr/>
          <p:nvPr/>
        </p:nvPicPr>
        <p:blipFill>
          <a:blip r:embed="rId1"/>
          <a:stretch/>
        </p:blipFill>
        <p:spPr>
          <a:xfrm>
            <a:off x="4849560" y="1724400"/>
            <a:ext cx="2758680" cy="3678480"/>
          </a:xfrm>
          <a:prstGeom prst="rect">
            <a:avLst/>
          </a:prstGeom>
          <a:ln w="0">
            <a:noFill/>
          </a:ln>
        </p:spPr>
      </p:pic>
      <p:pic>
        <p:nvPicPr>
          <p:cNvPr id="194" name="Объект 5" descr=""/>
          <p:cNvPicPr/>
          <p:nvPr/>
        </p:nvPicPr>
        <p:blipFill>
          <a:blip r:embed="rId2"/>
          <a:stretch/>
        </p:blipFill>
        <p:spPr>
          <a:xfrm>
            <a:off x="1289880" y="1724400"/>
            <a:ext cx="2758680" cy="367848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8" descr=""/>
          <p:cNvPicPr/>
          <p:nvPr/>
        </p:nvPicPr>
        <p:blipFill>
          <a:blip r:embed="rId3"/>
          <a:stretch/>
        </p:blipFill>
        <p:spPr>
          <a:xfrm>
            <a:off x="8409600" y="1724400"/>
            <a:ext cx="2758680" cy="3678480"/>
          </a:xfrm>
          <a:prstGeom prst="rect">
            <a:avLst/>
          </a:prstGeom>
          <a:ln w="0">
            <a:noFill/>
          </a:ln>
        </p:spPr>
      </p:pic>
      <p:sp>
        <p:nvSpPr>
          <p:cNvPr id="196" name="Заголовок 1"/>
          <p:cNvSpPr/>
          <p:nvPr/>
        </p:nvSpPr>
        <p:spPr>
          <a:xfrm>
            <a:off x="1110240" y="5648040"/>
            <a:ext cx="1051524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9000"/>
              </a:lnSpc>
            </a:pPr>
            <a:r>
              <a:rPr b="0" lang="ru-RU" sz="2000" spc="-1" strike="noStrike">
                <a:solidFill>
                  <a:srgbClr val="2c3c43"/>
                </a:solidFill>
                <a:latin typeface="Trebuchet MS"/>
              </a:rPr>
              <a:t>Наиболее крепкими оказались чипсы марки «</a:t>
            </a:r>
            <a:r>
              <a:rPr b="0" lang="en-US" sz="2000" spc="-1" strike="noStrike">
                <a:solidFill>
                  <a:srgbClr val="2c3c43"/>
                </a:solidFill>
                <a:latin typeface="Trebuchet MS"/>
              </a:rPr>
              <a:t>Pringles</a:t>
            </a:r>
            <a:r>
              <a:rPr b="0" lang="ru-RU" sz="2000" spc="-1" strike="noStrike">
                <a:solidFill>
                  <a:srgbClr val="2c3c43"/>
                </a:solidFill>
                <a:latin typeface="Trebuchet MS"/>
              </a:rPr>
              <a:t>», выдержавшие 650 грамм, наименее крепкими - чипсы марки «Русская картошка», выдержавшие 120 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пыт №3. Исследование механической прочности чипсов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8" name="Объект 3"/>
          <p:cNvGraphicFramePr/>
          <p:nvPr/>
        </p:nvGraphicFramePr>
        <p:xfrm>
          <a:off x="1005840" y="2955600"/>
          <a:ext cx="8785080" cy="2177640"/>
        </p:xfrm>
        <a:graphic>
          <a:graphicData uri="http://schemas.openxmlformats.org/drawingml/2006/table">
            <a:tbl>
              <a:tblPr/>
              <a:tblGrid>
                <a:gridCol w="1660320"/>
                <a:gridCol w="7124760"/>
              </a:tblGrid>
              <a:tr h="491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Образец 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Максимальный вес, гра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3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12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b"/>
                    </a:solidFill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67440" y="372240"/>
            <a:ext cx="9600840" cy="13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пыт №4. Обнаружение жиров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67440" y="5290560"/>
            <a:ext cx="962712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2c3c43"/>
                </a:solidFill>
                <a:latin typeface="Trebuchet MS"/>
              </a:rPr>
              <a:t>Больше всего жира содержится в образце №2, меньше всего – в образце №3. Во всех образцах обнаружена карбоновая кислота, наибольшее её содержание в образце №2.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01" name="Объект 5" descr=""/>
          <p:cNvPicPr/>
          <p:nvPr/>
        </p:nvPicPr>
        <p:blipFill>
          <a:blip r:embed="rId1"/>
          <a:srcRect l="0" t="5653" r="0" b="9803"/>
          <a:stretch/>
        </p:blipFill>
        <p:spPr>
          <a:xfrm>
            <a:off x="653040" y="1157400"/>
            <a:ext cx="5303160" cy="34380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3" descr=""/>
          <p:cNvPicPr/>
          <p:nvPr/>
        </p:nvPicPr>
        <p:blipFill>
          <a:blip r:embed="rId2"/>
          <a:srcRect l="0" t="0" r="6384" b="0"/>
          <a:stretch/>
        </p:blipFill>
        <p:spPr>
          <a:xfrm rot="16200000">
            <a:off x="7183080" y="331560"/>
            <a:ext cx="3461760" cy="51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пыт №4. Обнаружение жиров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04" name="Объект 3"/>
          <p:cNvGraphicFramePr/>
          <p:nvPr/>
        </p:nvGraphicFramePr>
        <p:xfrm>
          <a:off x="759960" y="2165400"/>
          <a:ext cx="8513640" cy="3516480"/>
        </p:xfrm>
        <a:graphic>
          <a:graphicData uri="http://schemas.openxmlformats.org/drawingml/2006/table">
            <a:tbl>
              <a:tblPr/>
              <a:tblGrid>
                <a:gridCol w="794160"/>
                <a:gridCol w="3841920"/>
                <a:gridCol w="3877200"/>
              </a:tblGrid>
              <a:tr h="963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Образец 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Жир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Наличие непредельных кисл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850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бесцветился не сра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</a:tr>
              <a:tr h="850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Высо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бесцветился быст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b"/>
                    </a:solidFill>
                  </a:tcPr>
                </a:tc>
              </a:tr>
              <a:tr h="850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бесцветился последн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67440" y="372240"/>
            <a:ext cx="9600840" cy="13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пыт №5. Обнаружение крахмал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67440" y="5290560"/>
            <a:ext cx="962712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2c3c43"/>
                </a:solidFill>
                <a:latin typeface="Trebuchet MS"/>
              </a:rPr>
              <a:t>Изменение окраски произошло во всех образцах. Это указывает на присутствие крахмала в продукте (качественная реакция). Судя по интенсивности окраски наибольшее количество крахмала присутствует в образце №3.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07" name="Объект 4" descr=""/>
          <p:cNvPicPr/>
          <p:nvPr/>
        </p:nvPicPr>
        <p:blipFill>
          <a:blip r:embed="rId1"/>
          <a:srcRect l="0" t="6223" r="0" b="8061"/>
          <a:stretch/>
        </p:blipFill>
        <p:spPr>
          <a:xfrm>
            <a:off x="3265560" y="1306440"/>
            <a:ext cx="48567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пыт №5. Обнаружение крахмал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09" name="Объект 3"/>
          <p:cNvGraphicFramePr/>
          <p:nvPr/>
        </p:nvGraphicFramePr>
        <p:xfrm>
          <a:off x="904680" y="2351520"/>
          <a:ext cx="8670240" cy="3173760"/>
        </p:xfrm>
        <a:graphic>
          <a:graphicData uri="http://schemas.openxmlformats.org/drawingml/2006/table">
            <a:tbl>
              <a:tblPr/>
              <a:tblGrid>
                <a:gridCol w="1241280"/>
                <a:gridCol w="7428600"/>
              </a:tblGrid>
              <a:tr h="79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Образец 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Результат качественной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9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Появление тёмно-синих пятен, окрасил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</a:tr>
              <a:tr h="79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Появление тёмно-синих пятен, окрасил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b"/>
                    </a:solidFill>
                  </a:tcPr>
                </a:tc>
              </a:tr>
              <a:tr h="79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Появление тёмных пятен, окрасил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92239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пыт №6. Обнаружение хлорида натрия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1" name="Объект 4" descr=""/>
          <p:cNvPicPr/>
          <p:nvPr/>
        </p:nvPicPr>
        <p:blipFill>
          <a:blip r:embed="rId1"/>
          <a:srcRect l="0" t="-4635" r="0" b="6470"/>
          <a:stretch/>
        </p:blipFill>
        <p:spPr>
          <a:xfrm>
            <a:off x="677160" y="1600200"/>
            <a:ext cx="5752080" cy="42199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29600" y="1436760"/>
            <a:ext cx="41508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2c3c43"/>
                </a:solidFill>
                <a:latin typeface="Trebuchet MS"/>
              </a:rPr>
              <a:t>Образование белого творожистого осадка в каждой из пробирок свидетельствует о наличии в фильтратах хлорид-ионов. При выпаривании фильтрата на стенках фарфоровых чашек образовались кристаллы соли белого цвета при выпаривании фильтрата образца №1, желтоватого цвета при выпаривании фильтрата образца №2, коричневатого цвета при выпаривании фильтрата образца №3. 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70760" y="267840"/>
            <a:ext cx="9600840" cy="13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пыт №6. Обнаружение хлорида натрия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4" name="Объект 6" descr=""/>
          <p:cNvPicPr/>
          <p:nvPr/>
        </p:nvPicPr>
        <p:blipFill>
          <a:blip r:embed="rId1"/>
          <a:srcRect l="416" t="26019" r="19239" b="-2221"/>
          <a:stretch/>
        </p:blipFill>
        <p:spPr>
          <a:xfrm flipH="1">
            <a:off x="6116040" y="1116720"/>
            <a:ext cx="5512320" cy="3846600"/>
          </a:xfrm>
          <a:prstGeom prst="rect">
            <a:avLst/>
          </a:prstGeom>
          <a:ln w="0">
            <a:noFill/>
          </a:ln>
        </p:spPr>
      </p:pic>
      <p:pic>
        <p:nvPicPr>
          <p:cNvPr id="215" name="Объект 4" descr=""/>
          <p:cNvPicPr/>
          <p:nvPr/>
        </p:nvPicPr>
        <p:blipFill>
          <a:blip r:embed="rId2"/>
          <a:stretch/>
        </p:blipFill>
        <p:spPr>
          <a:xfrm>
            <a:off x="365760" y="1116720"/>
            <a:ext cx="5041800" cy="371592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8"/>
          <p:cNvSpPr/>
          <p:nvPr/>
        </p:nvSpPr>
        <p:spPr>
          <a:xfrm>
            <a:off x="365760" y="5030280"/>
            <a:ext cx="11499480" cy="15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2c3c43"/>
                </a:solidFill>
                <a:latin typeface="Trebuchet MS"/>
              </a:rPr>
              <a:t>При прокаливании кристаллов всех образцов наблюдалось окрашивание пламени в желтый цвет, что свидетельствует о наличии в составе кристаллов катиона натрия. В составе всех образцов содержится хлорид натрия или поваренная соль. Наибольшее количество хлорида натрия содержится в образце №3, наименьшее в образце №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Заключение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577840" y="1930320"/>
            <a:ext cx="5459760" cy="43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2c3c43"/>
                </a:solidFill>
                <a:latin typeface="Trebuchet MS"/>
              </a:rPr>
              <a:t>В ходе работы над проектом: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2c3c43"/>
                </a:solidFill>
                <a:latin typeface="Trebuchet MS"/>
              </a:rPr>
              <a:t>проведен анализ чипсов на наличие жиров, крахмала, хлорида натрия; 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2c3c43"/>
                </a:solidFill>
                <a:latin typeface="Trebuchet MS"/>
              </a:rPr>
              <a:t>выяснено действие пищевых добавок на организм человека;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2c3c43"/>
                </a:solidFill>
                <a:latin typeface="Trebuchet MS"/>
              </a:rPr>
              <a:t>подтверждена гипотеза, о том, что чипсы не могут заменить полноценное питание, а при частом использовании могут принести больше вреда, чем пользы. 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2" descr="https://avatars.mds.yandex.net/get-zen_doc/1641493/pub_5cdc06c9c0a52100b32a13fe_5cdfe0b1baeb6600affc5808/scale_1200"/>
          <p:cNvPicPr/>
          <p:nvPr/>
        </p:nvPicPr>
        <p:blipFill>
          <a:blip r:embed="rId1"/>
          <a:stretch/>
        </p:blipFill>
        <p:spPr>
          <a:xfrm>
            <a:off x="1152000" y="1742400"/>
            <a:ext cx="36810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50320" y="483480"/>
            <a:ext cx="8921520" cy="61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2c3c43"/>
                </a:solidFill>
                <a:latin typeface="Trebuchet MS"/>
              </a:rPr>
              <a:t>Актуальность</a:t>
            </a: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2c3c43"/>
                </a:solidFill>
                <a:latin typeface="Trebuchet MS"/>
              </a:rPr>
              <a:t>работы</a:t>
            </a: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 заключается в том, что всё чаще и взрослые люди, и дети вместо полноценного обеда просто перекусывают на ходу.  Быстро перекусить не всегда полезно – состав закусок часто нельзя назвать безвредным, а уж тем более полезным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2c3c43"/>
                </a:solidFill>
                <a:latin typeface="Trebuchet MS"/>
              </a:rPr>
              <a:t>Цель работы</a:t>
            </a: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 - выяснить качественный состав чипсов, как часто и при каких условиях школьники едят чипсы, а также как этот перекус влияет на здоровье человека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2c3c43"/>
                </a:solidFill>
                <a:latin typeface="Trebuchet MS"/>
              </a:rPr>
              <a:t>Задачи: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Изучить литературу  о возникновении, составе, производстве чипсов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Узнать, какие бывают чипсы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Узнать о влиянии чипсов на здоровье человека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Провести  опыты для выявления состава и свойств чипсов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2c3c43"/>
                </a:solidFill>
                <a:latin typeface="Trebuchet MS"/>
              </a:rPr>
              <a:t>Гипотеза:</a:t>
            </a: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 чипсы - неполезное лакомство.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2c3c43"/>
                </a:solidFill>
                <a:latin typeface="Trebuchet MS"/>
              </a:rPr>
              <a:t>Методы исследования: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анализ теоретического материала,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анкетирование учащихся,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химический эксперимент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2c3c43"/>
                </a:solidFill>
                <a:latin typeface="Trebuchet MS"/>
              </a:rPr>
              <a:t>Объект исследования:</a:t>
            </a: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 Чипсы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2c3c43"/>
                </a:solidFill>
                <a:latin typeface="Trebuchet MS"/>
              </a:rPr>
              <a:t>Предмет исследования:</a:t>
            </a: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 Качественный состав и свойства чипсов.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160" y="62280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Анкетирование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7160" y="138996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 опросе приняло участие 72 ученика. Анкета содержала следующие вопросы: 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ак часто вы едите чипсы?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ипсы каких марок вы чаще всего едите?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ипсы с каким вкусом вам больше всего нравятся?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а что вы обращаете внимание при выборе чипсов?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 каких обстоятельствах вы употребляете чипсы?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нкетирование показало, что 90% учащихся употребляют чипсы, из них 26% учеников делают это почти каждый день.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сходя из результатов опроса я решила изучить состав наиболее популярных марок чипсов, а именно «Lay’s», «Pringles», «Русская картошка». 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5952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Марки чипсов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4" name="Объект 4" descr=""/>
          <p:cNvPicPr/>
          <p:nvPr/>
        </p:nvPicPr>
        <p:blipFill>
          <a:blip r:embed="rId1"/>
          <a:srcRect l="-739" t="8209" r="739" b="18378"/>
          <a:stretch/>
        </p:blipFill>
        <p:spPr>
          <a:xfrm rot="10800000">
            <a:off x="2174400" y="1402560"/>
            <a:ext cx="7995960" cy="440208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2"/>
          <p:cNvSpPr/>
          <p:nvPr/>
        </p:nvSpPr>
        <p:spPr>
          <a:xfrm>
            <a:off x="2174040" y="5934600"/>
            <a:ext cx="777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Образец №1 – чипсы «</a:t>
            </a:r>
            <a:r>
              <a:rPr b="0" lang="en-US" sz="1800" spc="-1" strike="noStrike">
                <a:solidFill>
                  <a:srgbClr val="2c3c43"/>
                </a:solidFill>
                <a:latin typeface="Trebuchet MS"/>
              </a:rPr>
              <a:t>Lay’s</a:t>
            </a: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», образец №2 - чипсы «Русская картошка», образец №3 - чипсы «</a:t>
            </a:r>
            <a:r>
              <a:rPr b="0" lang="en-US" sz="1800" spc="-1" strike="noStrike">
                <a:solidFill>
                  <a:srgbClr val="2c3c43"/>
                </a:solidFill>
                <a:latin typeface="Trebuchet MS"/>
              </a:rPr>
              <a:t>Pringles</a:t>
            </a:r>
            <a:r>
              <a:rPr b="0" lang="ru-RU" sz="1800" spc="-1" strike="noStrike">
                <a:solidFill>
                  <a:srgbClr val="2c3c43"/>
                </a:solidFill>
                <a:latin typeface="Trebuchet MS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Пищевые добавки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83480" y="1476000"/>
            <a:ext cx="9011520" cy="49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оздействие пищевых добавок на организм человека зависит как от индивидуальных особенностей организма, так и от количества вещества. Для каждого вещества существует максимальная доза, превышение которой может нанести вред здоровью человека. В составе выбранных школьниками марок чипсов присутствуют: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лутамат натрия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(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Е621) - C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5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8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NO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Na * H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O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иацетат натрия (Е262)- C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7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O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Na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игидропирофосфат кальция (Е450) - CaH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P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O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7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иоксид кремния (Е551) –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O</a:t>
            </a: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2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уанилат натрия (Е627) - C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10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12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N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5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Na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O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8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P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нозинат натрия (Е631) - C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10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11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N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Na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O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rebuchet MS"/>
              </a:rPr>
              <a:t>8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P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03760" y="372240"/>
            <a:ext cx="9600840" cy="13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пыт №1. Определение вкуса, цвета, запах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67440" y="5499360"/>
            <a:ext cx="9627120" cy="10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аиболее естественный вкус у образца №1, наименее естественный - у образца №2. 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80" name="Объект 6" descr=""/>
          <p:cNvPicPr/>
          <p:nvPr/>
        </p:nvPicPr>
        <p:blipFill>
          <a:blip r:embed="rId1"/>
          <a:stretch/>
        </p:blipFill>
        <p:spPr>
          <a:xfrm>
            <a:off x="2769480" y="1724400"/>
            <a:ext cx="626976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пыт №1. Определение вкуса, цвета, запах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2" name="Объект 3"/>
          <p:cNvGraphicFramePr/>
          <p:nvPr/>
        </p:nvGraphicFramePr>
        <p:xfrm>
          <a:off x="677160" y="2300040"/>
          <a:ext cx="8936640" cy="3591000"/>
        </p:xfrm>
        <a:graphic>
          <a:graphicData uri="http://schemas.openxmlformats.org/drawingml/2006/table">
            <a:tbl>
              <a:tblPr/>
              <a:tblGrid>
                <a:gridCol w="942120"/>
                <a:gridCol w="3001320"/>
                <a:gridCol w="2535840"/>
                <a:gridCol w="2456640"/>
              </a:tblGrid>
              <a:tr h="79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Образец 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В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Зап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03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Солё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Жёл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Запах печёной на костре карто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</a:tr>
              <a:tr h="79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Слабовыраж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Бледно-жёл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Слабовыраж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</a:tr>
              <a:tr h="79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стрые, со вкусом папр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ранжево-жёл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Запах папр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67440" y="372240"/>
            <a:ext cx="9600840" cy="13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пыт № 2. Горение чипсов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4" name="Объект 5" descr=""/>
          <p:cNvPicPr/>
          <p:nvPr/>
        </p:nvPicPr>
        <p:blipFill>
          <a:blip r:embed="rId1"/>
          <a:stretch/>
        </p:blipFill>
        <p:spPr>
          <a:xfrm>
            <a:off x="0" y="1047600"/>
            <a:ext cx="4708440" cy="3531240"/>
          </a:xfrm>
          <a:prstGeom prst="rect">
            <a:avLst/>
          </a:prstGeom>
          <a:ln w="0">
            <a:noFill/>
          </a:ln>
        </p:spPr>
      </p:pic>
      <p:pic>
        <p:nvPicPr>
          <p:cNvPr id="185" name="Объект 4" descr=""/>
          <p:cNvPicPr/>
          <p:nvPr/>
        </p:nvPicPr>
        <p:blipFill>
          <a:blip r:embed="rId2"/>
          <a:stretch/>
        </p:blipFill>
        <p:spPr>
          <a:xfrm>
            <a:off x="7483320" y="1047600"/>
            <a:ext cx="4708440" cy="35312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6" descr=""/>
          <p:cNvPicPr/>
          <p:nvPr/>
        </p:nvPicPr>
        <p:blipFill>
          <a:blip r:embed="rId3"/>
          <a:srcRect l="0" t="0" r="19955" b="9139"/>
          <a:stretch/>
        </p:blipFill>
        <p:spPr>
          <a:xfrm>
            <a:off x="3801960" y="2952360"/>
            <a:ext cx="45878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пыт № 2. Горение чипсов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8" name="Объект 3"/>
          <p:cNvGraphicFramePr/>
          <p:nvPr/>
        </p:nvGraphicFramePr>
        <p:xfrm>
          <a:off x="849960" y="1930320"/>
          <a:ext cx="8763840" cy="3882240"/>
        </p:xfrm>
        <a:graphic>
          <a:graphicData uri="http://schemas.openxmlformats.org/drawingml/2006/table">
            <a:tbl>
              <a:tblPr/>
              <a:tblGrid>
                <a:gridCol w="1219320"/>
                <a:gridCol w="5143320"/>
                <a:gridCol w="2401200"/>
              </a:tblGrid>
              <a:tr h="42120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Образец 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Скорость воспламе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Запах при гор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</a:tr>
              <a:tr h="865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Сразу воспламенился, горит почти без выделения коп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Жареного на углях мя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b"/>
                    </a:solidFill>
                  </a:tcPr>
                </a:tc>
              </a:tr>
              <a:tr h="865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Сразу воспламенился, горит коптящим пламен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Горящей пластм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bf8"/>
                    </a:solidFill>
                  </a:tcPr>
                </a:tc>
              </a:tr>
              <a:tr h="1308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Воспламеняется медленно с выделением жидкости, горит с малым количеством коп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Маловыраж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b"/>
                    </a:solidFill>
                  </a:tcPr>
                </a:tc>
              </a:tr>
            </a:tbl>
          </a:graphicData>
        </a:graphic>
      </p:graphicFrame>
      <p:sp>
        <p:nvSpPr>
          <p:cNvPr id="189" name="Rectangle 1"/>
          <p:cNvSpPr/>
          <p:nvPr/>
        </p:nvSpPr>
        <p:spPr>
          <a:xfrm>
            <a:off x="-235080" y="-775800"/>
            <a:ext cx="13902840" cy="6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а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441</TotalTime>
  <Application>LibreOffice/7.4.7.2$Linux_X86_64 LibreOffice_project/40$Build-2</Application>
  <AppVersion>15.0000</AppVersion>
  <Words>906</Words>
  <Paragraphs>1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7T17:16:55Z</dcterms:created>
  <dc:creator>Пользователь</dc:creator>
  <dc:description/>
  <dc:language>en-US</dc:language>
  <cp:lastModifiedBy>Olga</cp:lastModifiedBy>
  <dcterms:modified xsi:type="dcterms:W3CDTF">2022-11-20T10:30:04Z</dcterms:modified>
  <cp:revision>45</cp:revision>
  <dc:subject/>
  <dc:title>Исследование чипс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9</vt:r8>
  </property>
</Properties>
</file>