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EE2-72BF-4396-980C-C5EEFC52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C05-2BE0-4265-A7F8-8394AD67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101-FD55-484B-96FC-61C3D27B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BE8-7A68-47AD-A255-A84BB5CE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ED9C-BF63-4545-BFD5-CD431FE0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D3E8-BCC3-46FA-AF8B-B155DCDB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5E68-B8DD-4AA5-BEF7-32AED911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2D96-883D-4726-BB59-417A37FB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5669-020E-441E-8FD4-BE3DE9B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91DF-4007-4B74-9C20-A84D77EA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F5C7-3ADF-424B-BBFB-6E09E270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AD1-AAEF-4127-92AD-2389EFE0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351D-988B-4286-AEDC-414C0BE3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16D8-CE49-48D0-8A57-0F13AC43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9CC6-05F0-4413-870A-2CDA1942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BD2D-48EF-4EE3-B756-64CDB8C7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16A4-2592-4C1E-895E-4B037787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2CAD-C05C-4F7E-B680-EE2CF6E5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7CE7-E704-4195-93BD-846FF2F9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387F-2A97-4919-968C-FB0E1A73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97AD-C9B0-46ED-AA67-9CC885E5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0993-8516-4B63-8CE2-4BFF01FE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A3A-D2EF-4C88-A1A8-A0A22EAC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6613C-D1BC-4E60-9F49-E5613EF1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E733-C1A8-4622-8A7C-05D22ACF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C4F1-17BB-4DE1-9978-B2D95F6A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9F09-2042-43C7-81AA-664E9AEF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7E8D-0EF0-4EE2-856C-3414BCBA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34A7-01F3-4130-9B52-FFFB2B97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C2F3-C33D-4893-A36A-D7C1FCC3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C19F-F537-4EDE-9779-5D657330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0268C-370A-4FB0-A891-E1D3531F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F635-634E-41C9-9EA5-E91FA618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383-9CA3-47D5-B89E-BBE6CDB3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C0E6-ACF7-417B-986F-7ADF803C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F8C8-B045-41D3-BF44-A51D26E1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6D9C-6EA2-4CAA-A04D-EA2C647B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25A8-3C42-4F9C-8AC5-8E165E6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D6DFF-68F1-4982-9867-EEF6A67D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E3B6-147A-41F4-95B5-479C3DCD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2081D-EF0A-45A2-8AAD-31DB6016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6DCFB-49FA-48D4-827D-BA0D292B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B0ABD-A354-44B0-B683-87FDF026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7BF-C6EC-418B-BA19-C45780B6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546-BD97-4426-A648-1F5CD801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25C-DD3A-46AF-BE8F-E2846611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77D-C327-4D90-924D-2B390AF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7C6-6C27-499C-86EA-1C32129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38CC-60D7-428F-861D-7413685B9CB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C769-A88E-4DAE-8724-04B0B2FFDB4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42D4-ADAC-4D50-862A-5281F6410CA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DD06-D859-4324-9C3A-18AB3187A95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1040" y="198360"/>
            <a:ext cx="9104040" cy="13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Исследовательская  работа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476280" y="3014640"/>
            <a:ext cx="4803840" cy="36021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70000" y="1614600"/>
            <a:ext cx="1108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 Black"/>
              </a:rPr>
              <a:t>«Обитали   ли мамонты в нашем крае?»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6308640" y="4427640"/>
            <a:ext cx="47167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Сухорукова Светлана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класс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Таловская СОШ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Егорова С.Л.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2" descr=""/>
          <p:cNvPicPr/>
          <p:nvPr/>
        </p:nvPicPr>
        <p:blipFill>
          <a:blip r:embed="rId1"/>
          <a:stretch/>
        </p:blipFill>
        <p:spPr>
          <a:xfrm>
            <a:off x="914400" y="82440"/>
            <a:ext cx="6437160" cy="67755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7351560" y="310212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itka"/>
              </a:rPr>
              <a:t>Российский академик Петр Симон Паллас (1741–181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3016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421632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щера Страшная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2"/>
          <p:cNvSpPr/>
          <p:nvPr/>
        </p:nvSpPr>
        <p:spPr>
          <a:xfrm>
            <a:off x="7277040" y="743040"/>
            <a:ext cx="28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сова пещер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1" name="Рисунок 3" descr=""/>
          <p:cNvPicPr/>
          <p:nvPr/>
        </p:nvPicPr>
        <p:blipFill>
          <a:blip r:embed="rId1"/>
          <a:stretch/>
        </p:blipFill>
        <p:spPr>
          <a:xfrm>
            <a:off x="154080" y="1546200"/>
            <a:ext cx="5705280" cy="50896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"/>
          <p:cNvPicPr/>
          <p:nvPr/>
        </p:nvPicPr>
        <p:blipFill>
          <a:blip r:embed="rId2"/>
          <a:stretch/>
        </p:blipFill>
        <p:spPr>
          <a:xfrm>
            <a:off x="6168960" y="1546200"/>
            <a:ext cx="57182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169560"/>
            <a:ext cx="85964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ки в Алтайском крае в наши дни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4" name="Picture 5" descr="http://nashaltay.ru/wp-content/uploads/2016/04/biven_d_850-1.jpg"/>
          <p:cNvPicPr/>
          <p:nvPr/>
        </p:nvPicPr>
        <p:blipFill>
          <a:blip r:embed="rId1"/>
          <a:stretch/>
        </p:blipFill>
        <p:spPr>
          <a:xfrm>
            <a:off x="241200" y="1017720"/>
            <a:ext cx="6000840" cy="39369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tretch/>
        </p:blipFill>
        <p:spPr>
          <a:xfrm>
            <a:off x="6242040" y="2820960"/>
            <a:ext cx="56880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Вывод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1197000" y="2498760"/>
            <a:ext cx="956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я исследование, я подтвердила своё предположение о том, что мамонты   жили на территории Алтайского края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1519200" y="1312920"/>
            <a:ext cx="879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зучения данной темы у меня появилось и много новых вопросов: смогут ли ученые воскресить мамонта? Определить причину их гибели? Помогут ли эти исследования предотвратить возможные экологические катастрофы в будущем? Ведь от этого зависит жизнь нашей планеты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Прямоугольник 2" descr=""/>
          <p:cNvPicPr/>
          <p:nvPr/>
        </p:nvPicPr>
        <p:blipFill>
          <a:blip r:embed="rId1"/>
          <a:stretch/>
        </p:blipFill>
        <p:spPr>
          <a:xfrm>
            <a:off x="798480" y="2328840"/>
            <a:ext cx="8352000" cy="14572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4" descr=""/>
          <p:cNvPicPr/>
          <p:nvPr/>
        </p:nvPicPr>
        <p:blipFill>
          <a:blip r:embed="rId2"/>
          <a:stretch/>
        </p:blipFill>
        <p:spPr>
          <a:xfrm>
            <a:off x="677880" y="3992400"/>
            <a:ext cx="2224080" cy="27226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5" descr=""/>
          <p:cNvPicPr/>
          <p:nvPr/>
        </p:nvPicPr>
        <p:blipFill>
          <a:blip r:embed="rId3"/>
          <a:stretch/>
        </p:blipFill>
        <p:spPr>
          <a:xfrm>
            <a:off x="8675640" y="198360"/>
            <a:ext cx="295452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789120"/>
            <a:ext cx="1021860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 моего  исследования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262626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знать, что это за животное - мамонт? Как жили, чем питались?  Как мамонты связаны с Алтайским  краем? Уникальные находки.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344320"/>
            <a:ext cx="938052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исследования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изучить и проанализировать информацию по тем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собрать материал об уникальных находках останков мамонто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обобщить полученные результаты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подготовить отчет в форме слайдовой презентации PowerPoin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10058400" y="4738680"/>
            <a:ext cx="15732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14560" y="387360"/>
            <a:ext cx="81597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ипотеза</a:t>
            </a:r>
            <a:r>
              <a:rPr b="0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1982520"/>
            <a:ext cx="952992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едполагаю, что мамонты могли жить на территории Алтайского края.</a:t>
            </a:r>
            <a:br>
              <a:rPr sz="3600"/>
            </a:b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958680" y="4038480"/>
            <a:ext cx="211140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77520" y="4527720"/>
            <a:ext cx="85964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23" name="Рисунок 3" descr="https://ic.pics.livejournal.com/blagin_anton/33716210/3026093/3026093_80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886040" y="-1211400"/>
            <a:ext cx="8159760" cy="28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Кто такие мамонты?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2" descr="Самое большое кладбище мамонтов нашли под Новосибирском"/>
          <p:cNvPicPr/>
          <p:nvPr/>
        </p:nvPicPr>
        <p:blipFill>
          <a:blip r:embed="rId1"/>
          <a:stretch/>
        </p:blipFill>
        <p:spPr>
          <a:xfrm>
            <a:off x="0" y="0"/>
            <a:ext cx="12192120" cy="69613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43120" y="6218280"/>
            <a:ext cx="1164240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адное «кладбище» на Новосибирских островах</a:t>
            </a: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5120" y="6035760"/>
            <a:ext cx="8596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Мамонтёнок  Дима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723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08760"/>
            <a:ext cx="85964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онтёнок Ю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113520"/>
            <a:ext cx="100328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амонтёнок Люб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-2232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8800" y="60087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амонты в Алтайском крае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6T08:07:42Z</dcterms:created>
  <dc:creator>Profi</dc:creator>
  <dc:description/>
  <dc:language>en-US</dc:language>
  <cp:lastModifiedBy>DNA7 X86</cp:lastModifiedBy>
  <dcterms:modified xsi:type="dcterms:W3CDTF">2018-02-19T15:40:53Z</dcterms:modified>
  <cp:revision>33</cp:revision>
  <dc:subject/>
  <dc:title>Исследовательская  работа</dc:title>
</cp:coreProperties>
</file>