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146E-4F6F-4766-A799-425CC2CA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5D25-4D84-4D7A-ACF7-EE3255B3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52C8-509A-4B63-8414-671EC0AA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CC2C-C980-4CB0-A0BA-E8C9F075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8365-3DDA-46B5-9237-49C03821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5C4A-2795-4809-86BA-D7E2AA68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8D4A-3B63-45F4-B563-BA5FFCC8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0BCA-7030-4D3B-BF0C-8F6186F8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3B72-A02C-41C1-95E8-62F43288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605A-62CD-48DD-A210-80202271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3254-01E5-48D3-AC89-C7A8C38D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C1FD-6BEB-4E85-AD03-47E7F964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4956-2554-40FC-AC12-33B2D235613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История открытий атмосферного давления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4614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ществование воздуха известно человеку с древнейших времен. Греческий мыслитель Анаксимен, живший в VI веке до н.э., считал воздух основой всех вещей. Вместе с тем воздух представляет собой нечто неуловимо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рименение атмосферного давлени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895120" y="1447920"/>
            <a:ext cx="5946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учение атмосферного давления имеет большую и поучительную историю, как и другие научные открытия, оно связано с практическими потребностями лю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онце первой половины 17 века во Флоренции – богатом городе Италии – строили так называемые всасывающие насосы. Устройство такого насоса несложное: он состоит из вертикально расположенной трубы, внутри которой находится поршень. При подъеме поршня вверх за ним поднимается вода, как в опыте на рисунк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4" descr="0003-003-Primenenie-atmosfernogo-davenija"/>
          <p:cNvPicPr/>
          <p:nvPr/>
        </p:nvPicPr>
        <p:blipFill>
          <a:blip r:embed="rId1"/>
          <a:stretch/>
        </p:blipFill>
        <p:spPr>
          <a:xfrm>
            <a:off x="380880" y="1752480"/>
            <a:ext cx="2086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рия открытия атмосферного давления. Паскаль считал, что для окончательного доказательства факта существования атмосферного давления необходимо проделать опыт Торричелли один раз у подножия горы, а другой раз на вершине её и измерить в обоих случаях высоту ртутного столба в трубке. Если бы на вершине горы столб ртути оказался ниже, чем у подножия её, то отсюда следовало бы заключить, что ртуть в трубке действительно поддерживается атмосферным давление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Опыт Торричелл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733920" y="1447920"/>
            <a:ext cx="5108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я Торричелли навсегда вошла в историю физики как имя человека, впервые доказавшего существование атмосферного давления и сконструировавшего первый барометр – прибор для измерения атмосферного да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 середины 17 века считалось неприемлемым утверждение древнегреческого ученого Аристотеля о том, что вода поднимается поршнем насоса потому, что природа не терпит пуст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ако при сооружении фонтанов во Флоренции (1678, г герцог Тосканский) обнаружилось, что засасываемая вода не желает подниматься выше 10,3 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img1"/>
          <p:cNvPicPr/>
          <p:nvPr/>
        </p:nvPicPr>
        <p:blipFill>
          <a:blip r:embed="rId1"/>
          <a:stretch/>
        </p:blipFill>
        <p:spPr>
          <a:xfrm>
            <a:off x="533520" y="1676520"/>
            <a:ext cx="28861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Открытие Торричелл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62720" y="1218960"/>
            <a:ext cx="327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тутный барометр и барометр-анероид. В 1643 г. по предложению итальянского физика Эванджелисты Торричелли (1608—1647) был произведен следующий опыт. Стеклянную трубку длины около 1 м, запаянную с. одного конца, наполняют ртутью. Отверстие трубки закрывают пальцем, чтобы ртуть не вылилась, и трубку опускают в вертикальном положении отверстием вниз в сосуд с ртутью. Если теперь отнять палец от отверстия трубки, то столб ртути упадет до высоты около 760 мм над уровнем ртути в сосу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img2"/>
          <p:cNvPicPr/>
          <p:nvPr/>
        </p:nvPicPr>
        <p:blipFill>
          <a:blip r:embed="rId1"/>
          <a:stretch/>
        </p:blipFill>
        <p:spPr>
          <a:xfrm>
            <a:off x="228600" y="2057400"/>
            <a:ext cx="2873520" cy="340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84746_1"/>
          <p:cNvPicPr/>
          <p:nvPr/>
        </p:nvPicPr>
        <p:blipFill>
          <a:blip r:embed="rId2"/>
          <a:stretch/>
        </p:blipFill>
        <p:spPr>
          <a:xfrm>
            <a:off x="3124080" y="1600200"/>
            <a:ext cx="257832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редположение Паскал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33920" y="1752480"/>
            <a:ext cx="51084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скаль осмелился верить, что в трубке Торричелли действительно есть пустота. И искал этому доказательство. Для этого он инициировал опыты у подножья и на вершины горы Пюи – де Д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сперимент был проведен в 1648 г. и было доказано что при подъеме давление уменьшается. На каждые 12 м подъема давление уменьшается на 11 мм. Но на больших высотах это закономерность нарушается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4" descr="img4"/>
          <p:cNvPicPr/>
          <p:nvPr/>
        </p:nvPicPr>
        <p:blipFill>
          <a:blip r:embed="rId1"/>
          <a:stretch/>
        </p:blipFill>
        <p:spPr>
          <a:xfrm>
            <a:off x="304920" y="2666880"/>
            <a:ext cx="381924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3-16T19:19:3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