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F1D8-6246-4F2C-9B28-AEA109967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F128-7EDE-4D6C-B731-B55143EC30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5764-7202-4ED7-B16A-040EF5B6A6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E8EC-63D6-4E64-A047-D8F36D320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277E-C688-4536-9A14-0553784712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FA6C-9707-409F-8149-AD4F304A04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5243-B309-4A77-A7BF-99EBF6D32A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3D2-87C9-4A55-9E1E-3977B8E4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99A-5E4D-45F1-8FF8-AEBB380F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416-4554-4F91-B891-24244181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A11-DE49-4A4E-B005-C2C41ECF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1F56-E473-4BA0-974F-5F7BDEBA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487A-27F0-4283-B0F9-05744B8C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DB79-D35F-46EC-8C56-873925E7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5165-4117-42CC-83A5-EFE6F1A5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3787-F5A5-4DDE-899B-012FC740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BF65-6ABB-4CD6-BA71-EE742843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7895-04EC-4A26-AC5E-230972E7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5B5-6961-4046-8B03-E9098461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B4FB-C32A-4825-A717-1B162CEF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B74F-FCAC-4891-9CDD-A699DFF6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0185-88DE-437D-B90B-E1FD384C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3EB9-00AF-4805-BCD1-946D6EA7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A95C-FC70-4301-885C-9F76AA91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8025A-7D2F-452C-BA80-EB1C32AD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E9827-80C6-45D4-8771-1DE45034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98DDD-56B5-499D-BA73-DBADEA95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83CFE-C4C4-41C7-BF5C-4D23035C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49FA0-4679-4A00-B18C-9D49A6DE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BF4-22CB-4B13-9ACD-50CED5F5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F22CF-BC22-45F0-8475-772F5864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5E8AD-151F-4A2A-B50C-B5743914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EADA-8A08-4A3B-8C2F-D44A810B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43E3C-0333-4AFA-AC80-1E3BEFEF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1F4B-EE46-4B6D-B24E-1CEE5B5F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0706-F9D5-43DA-84F4-5FC8B117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17F83-A0A8-4B05-A432-C6F93A44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236E1-DF98-4CA1-8C21-DE760C4F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3B7C9-31FC-4A69-B9D3-856B2FA4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934A5-870D-4498-A6C4-2CF6B09A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6BE-A959-4E62-9E9F-51428659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6FC2E-226C-449D-840E-03A3B78E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F3BC4-0A4C-4BEE-8857-02100BD3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5E298-4763-4A3C-8C75-6478B1F0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D11A6-F8E1-43FB-8CAE-129936AA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7B657-7F6F-4009-8BBF-F63B0D6C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5FCD7-5913-4F7D-A8D5-5CD16956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1FEDC-3BA9-419D-A00E-87AB61D1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670DC-6B02-4A73-86AA-F5F9BEBE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B2498-6F5C-44B9-8D04-11B3D032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FD166-AF4C-48B9-A8D5-A4952770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FF4-F13B-4D03-BD1C-910231B9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F6229-CB20-4257-A675-E2F428D0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65F25-92C4-4F0B-9A8D-E0FCBA5C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FCB50-ADFF-4E4D-BEAE-F8BDDD76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B7518-1846-4DC8-83D5-EE765626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6E969-A391-4175-AE18-B655B890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5007C-5233-4598-8D96-596D0AD5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6BEDB-BF11-4957-8180-C09776AC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36075-F561-4D6E-8908-31B1975F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15F25-090E-4111-8018-69A403D7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0836D-B1BF-43E9-9ECF-B69BD6AA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E3C1-D338-45C3-919A-FC5C1387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C56C3-2770-45A2-B3D7-6FBD2E6F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12CB3-98E5-456E-9A4B-4647B562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69161-ACB3-40AA-A2C7-F2137F11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E82D6-3B4E-468E-BD8E-B9D01B78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E67A5-BB8C-4053-906A-13C158FF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3F808-96BC-4E2F-AE86-903934AB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1F814-1A79-4C68-93AF-FEDD9A49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DEFB9-7813-4ADB-8F32-05980CBE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6FEB7-5B42-43B5-B2BC-84C161F3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BBBC4-0D86-440C-AE6B-CF38A80E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ED9-0CB0-4BA0-8772-D6D56266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CE15D-B23D-4948-B194-504E5EA1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59401-A80B-4B9C-886C-B03D26E7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023B2-94B7-4FFF-8E29-B1EDAC08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BBA6D-92DF-4670-AD3D-5C9058ED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9FAED-0BEC-40E8-B40D-9503E4F5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9A863-D1B6-4CF3-9532-FDE52C15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C9D82-0C3E-4FD6-A4EA-8E26C625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78FD1-3837-40FB-8266-554B6E48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3C6A1-7012-4547-B104-4C376436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9F402-CF5E-441E-803D-5CD3F35D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97B-2DC6-4F72-8957-1A2E8161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30404-06B2-4120-BBC3-C1D418B6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DDD8E-47DC-4081-811D-07467A2B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03C8E-3BED-4F55-BCD8-056076E7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DE596-A046-45A4-948D-1B27F808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44268-CC93-4E0F-88F3-35875DF9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A3C77-DE8B-431D-B452-64D6645A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2B73E-B602-4F62-BF8A-E5A3CF52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7C17B-E9B8-4704-BBFA-6A6B9202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ABFBC-4024-41CE-BCF1-7AF60B51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71D51-97EB-45AA-9A6C-86D12460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27E-FB96-4366-A55C-F20DA42F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6E8FC-A348-441A-BF92-8BFCBD87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68EEE-D100-4CE1-9DEC-0D2887AB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48AF6-0C0D-4B40-A7D6-44A61A41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80DED-0651-4858-B033-2F50DC86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81D66-9CB6-4F7F-9015-6F1442E8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1680C-F1BC-4C3D-9106-CE5302BC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9E1C6-1C78-4287-8F28-376D4E8E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A0DF-0B41-4726-B8F0-D617B5A070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44D7-455E-40CD-A5D3-6802E3E5D0E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E367-C8AA-4666-80EB-61F5A2C59E4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A8C9-FFE7-4C17-89AC-7D77DE7FE9E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63B0-2C4A-486E-BDA3-6577ACBD2E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CF2B-6B56-4314-BB25-D362615704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D34E-0DD6-4CC0-A2FE-C22C3E9688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A5F5-BDC4-4EC0-B3C7-B12DA8A48A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59_&#1075;&#1086;&#1076;" TargetMode="External"/><Relationship Id="rId2" Type="http://schemas.openxmlformats.org/officeDocument/2006/relationships/hyperlink" Target="http://ru.wikipedia.org/wiki/&#1042;&#1102;&#1088;&#1094;,_&#1064;&#1072;&#1088;&#1083;&#1100;_&#1040;&#1076;&#1086;&#1083;&#1100;&#1092;" TargetMode="External"/><Relationship Id="rId3" Type="http://schemas.openxmlformats.org/officeDocument/2006/relationships/hyperlink" Target="http://ru.wikipedia.org/wiki/&#1043;&#1080;&#1076;&#1088;&#1086;&#1082;&#1089;&#1080;&#1076;_&#1082;&#1072;&#1083;&#1080;&#1103;" TargetMode="External"/><Relationship Id="rId4" Type="http://schemas.openxmlformats.org/officeDocument/2006/relationships/hyperlink" Target="http://ru.wikipedia.org/wiki/&#1069;&#1090;&#1080;&#1083;&#1077;&#1085;&#1093;&#1083;&#1086;&#1088;&#1075;&#1080;&#1076;&#1088;&#1080;&#1085;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2;&#1088;&#1080;&#1078;&#1089;&#1082;&#1072;&#1103;_&#1072;&#1082;&#1072;&#1076;&#1077;&#1084;&#1080;&#1103;_&#1085;&#1072;&#1091;&#1082;" TargetMode="External"/><Relationship Id="rId2" Type="http://schemas.openxmlformats.org/officeDocument/2006/relationships/hyperlink" Target="http://ru.wikipedia.org/wiki/1867" TargetMode="External"/><Relationship Id="rId3" Type="http://schemas.openxmlformats.org/officeDocument/2006/relationships/hyperlink" Target="http://ru.wikipedia.org/wiki/1843" TargetMode="External"/><Relationship Id="rId4" Type="http://schemas.openxmlformats.org/officeDocument/2006/relationships/hyperlink" Target="http://ru.wikipedia.org/wiki/&#1051;&#1080;&#1073;&#1080;&#1093;,_&#1070;&#1089;&#1090;&#1091;&#1089;" TargetMode="External"/><Relationship Id="rId5" Type="http://schemas.openxmlformats.org/officeDocument/2006/relationships/hyperlink" Target="http://ru.wikipedia.org/wiki/&#1043;&#1080;&#1089;&#1077;&#1085;" TargetMode="External"/><Relationship Id="rId6" Type="http://schemas.openxmlformats.org/officeDocument/2006/relationships/hyperlink" Target="http://ru.wikipedia.org/wiki/&#1044;&#1102;&#1084;&#1072;,_&#1046;&#1072;&#1085;_&#1041;&#1072;&#1090;&#1080;&#1089;&#1090;" TargetMode="External"/><Relationship Id="rId7" Type="http://schemas.openxmlformats.org/officeDocument/2006/relationships/hyperlink" Target="http://ru.wikipedia.org/wiki/1853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96_&#1075;&#1086;&#1076;" TargetMode="External"/><Relationship Id="rId2" Type="http://schemas.openxmlformats.org/officeDocument/2006/relationships/hyperlink" Target="http://de.wikipedia.org/wiki/Georg_Bredig" TargetMode="External"/><Relationship Id="rId3" Type="http://schemas.openxmlformats.org/officeDocument/2006/relationships/hyperlink" Target="http://ru.wikipedia.org/wiki/&#1040;&#1085;&#1075;&#1083;&#1080;&#1081;&#1089;&#1082;&#1080;&#1081;_&#1103;&#1079;&#1099;&#1082;" TargetMode="External"/><Relationship Id="rId4" Type="http://schemas.openxmlformats.org/officeDocument/2006/relationships/hyperlink" Target="http://ru.wikipedia.org/wiki/&#1069;&#1083;&#1077;&#1082;&#1090;&#1088;&#1086;&#1083;&#1080;&#1090;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90;&#1080;&#1083;&#1077;&#1085;" TargetMode="External"/><Relationship Id="rId2" Type="http://schemas.openxmlformats.org/officeDocument/2006/relationships/hyperlink" Target="http://ru.wikipedia.org/wiki/1931_&#1075;&#1086;&#1076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517680" y="1298520"/>
            <a:ext cx="8334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380880" y="152280"/>
            <a:ext cx="861084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a10"/>
                </a:solidFill>
                <a:latin typeface="Times New Roman"/>
                <a:ea typeface="Times New Roman"/>
              </a:rPr>
              <a:t>В 1669 году немецкий ученый Иоганн Иохим Бехер, нагревая этиловый спирт с серной кислотой, получил неизвестный ранее газ, который был назван «газ Бехера». Новое вещество отличалось по свойствам от известного в то время болотного газа: горел ярким светящимся пламенем и легко присоединял различные вещества. Открытие Бехера не привлекало внимания ученых более 100 лет, и только в 1795 году голландский химик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a10"/>
                </a:solidFill>
                <a:latin typeface="Times New Roman"/>
                <a:ea typeface="Times New Roman"/>
              </a:rPr>
              <a:t>И. Дейман подробно его изучил. Он установил, что этот газ состоит из углерода и водорода, а при взаимодействии с хлором превращается в маслянистую жидкость (1,2 дихлорэтан). Так произошло название олефин, что значит маслородный. В дальнейшем все углеводороды, подобные «газу Бехтера», стали называться олефиновыми, а сам газ - этилено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a1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380880" y="609480"/>
            <a:ext cx="237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оганн Иохим Бехе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Содержимое 3" descr="Johann_Joachim_Becher.jpg"/>
          <p:cNvPicPr/>
          <p:nvPr/>
        </p:nvPicPr>
        <p:blipFill>
          <a:blip r:embed="rId1"/>
          <a:stretch/>
        </p:blipFill>
        <p:spPr>
          <a:xfrm>
            <a:off x="4572000" y="990720"/>
            <a:ext cx="3886200" cy="48006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3"/>
          <p:cNvSpPr/>
          <p:nvPr/>
        </p:nvSpPr>
        <p:spPr>
          <a:xfrm>
            <a:off x="304920" y="1752480"/>
            <a:ext cx="3581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одился в 1635 году в Шпайере. Занимался самообразованием, получил серьёзные познания в различных областях науки, стал врачом. В 1666 был назначен профессором медицины в Майнце. Бехер имел склонность к фантастическим проектам, которые предлагал различным высокопоставленным лица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761760"/>
            <a:ext cx="8229600" cy="52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ующем, этилен был открыт в </a:t>
            </a:r>
            <a:r>
              <a:rPr b="0" lang="ru-RU" sz="4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1859 год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анцузским химиком-органиком </a:t>
            </a:r>
            <a:r>
              <a:rPr b="0" lang="ru-RU" sz="4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Шарлем Адольфом Вюрце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йствием </a:t>
            </a:r>
            <a:r>
              <a:rPr b="0" lang="ru-RU" sz="4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3"/>
              </a:rPr>
              <a:t>гидроксида кал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0" lang="ru-RU" sz="4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4"/>
              </a:rPr>
              <a:t>2-хлорэтано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533520" y="60948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ль Адольф Вюр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ранцузский химик, член </a:t>
            </a:r>
            <a:r>
              <a:rPr b="0" lang="ru-RU" sz="32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Парижской академии нау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32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186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её президент с 1881 г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32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3"/>
              </a:rPr>
              <a:t>184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ил степень доктора медицины; изучал химию у </a:t>
            </a:r>
            <a:r>
              <a:rPr b="0" lang="ru-RU" sz="32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4"/>
              </a:rPr>
              <a:t>Ю.Либих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lang="ru-RU" sz="32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5"/>
              </a:rPr>
              <a:t>Гисе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32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6"/>
              </a:rPr>
              <a:t>Ж. Б. Дю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ариже. С </a:t>
            </a:r>
            <a:r>
              <a:rPr b="0" lang="ru-RU" sz="32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7"/>
              </a:rPr>
              <a:t>185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фессор химии в Высшей медицинской школе в Париже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4" descr="200px-Wurtz_Charles-Adolphe"/>
          <p:cNvPicPr/>
          <p:nvPr/>
        </p:nvPicPr>
        <p:blipFill>
          <a:blip r:embed="rId8"/>
          <a:stretch/>
        </p:blipFill>
        <p:spPr>
          <a:xfrm>
            <a:off x="5638680" y="1905120"/>
            <a:ext cx="307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юрц ошибочно предположил, что окись этилена обладает свойствами органического основания. Это заблуждение продержались до </a:t>
            </a:r>
            <a:r>
              <a:rPr b="0" lang="ru-RU" sz="3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1896 год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ка учёные </a:t>
            </a:r>
            <a:r>
              <a:rPr b="0" lang="ru-RU" sz="3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Георг Бредиг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Усов (</a:t>
            </a:r>
            <a:r>
              <a:rPr b="0" lang="ru-RU" sz="3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3"/>
              </a:rPr>
              <a:t>англ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ff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е обнаружили, что этилен не является </a:t>
            </a:r>
            <a:r>
              <a:rPr b="0" lang="ru-RU" sz="3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4"/>
              </a:rPr>
              <a:t>электролитом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способ получения окиси этилена долгое время оставался единственным, несмотря на многочисленные попытки учёных, включая самого Вюрца, синтезировать соединение напрямую из </a:t>
            </a:r>
            <a:r>
              <a:rPr b="0" lang="ru-RU" sz="32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этиле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</a:t>
            </a:r>
            <a:r>
              <a:rPr b="0" lang="ru-RU" sz="32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1931 год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анцузский химик Теодор Лефорт разработал метод прямого окисления этилена в присутствии серебряного катализатора. Это способ в конце XX века стал основным методом современного промышленного производства окиси этилена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5" descr="200px-Ethylene-3D-vdW.png"/>
          <p:cNvPicPr/>
          <p:nvPr/>
        </p:nvPicPr>
        <p:blipFill>
          <a:blip r:embed="rId1"/>
          <a:srcRect l="8069" t="0" r="8069" b="0"/>
          <a:stretch/>
        </p:blipFill>
        <p:spPr>
          <a:xfrm>
            <a:off x="457200" y="457200"/>
            <a:ext cx="6019920" cy="55627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6"/>
          <p:cNvSpPr/>
          <p:nvPr/>
        </p:nvSpPr>
        <p:spPr>
          <a:xfrm>
            <a:off x="4572000" y="5257800"/>
            <a:ext cx="39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 выглядит молекула этилен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ok</cp:lastModifiedBy>
  <dcterms:modified xsi:type="dcterms:W3CDTF">2010-09-29T04:53:2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