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D4D5C-AB52-49CF-B546-D00300ABD3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3E7B7-1D14-4FC1-A76C-1FE30C8639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41786-309E-4BF2-A313-8AC8640255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8B30A-416F-4121-9DA9-1317F5C190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D9FE4-17DD-47EB-8C6E-A73A58E100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7959D-1F9D-430A-A3AB-279F738C1F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065B3-6F8C-42D6-93EE-09F0937FEE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C2CCC-78E2-49A1-9F46-20BC1B7696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EAA24-FC5E-4286-BA41-629301744B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5C99B-F3E4-46CD-857D-DCD9622E23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796BF-1D17-44B6-BF79-AD415D1DD9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06359-7BCE-497E-A27A-FE91FC3BE8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B7B64-8B1A-4877-BA04-952B37DAFD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33F8B-43BB-41B8-B269-F83554BE25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88C5-C0CE-4FC1-B885-22D28EA851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912D-8741-49F5-8340-ECDFB64A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7945-9F6E-40D3-A2E2-2A92D6E0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51FE-4B58-4DF9-A3D6-149A86CC8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7ADD-A948-4B8F-9F39-B942C666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AE53-D6EA-419C-BBDA-4331B9BF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3690-D4B6-4A8E-AC55-7E86EB2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4118-5EF9-4243-8D71-9B633D3B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2381-B629-4738-99E3-1B733D6F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032A-E13E-44C9-8E33-09F07984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A934-5448-4141-9F25-75D5B224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562F-795A-41EA-957D-05ADC90A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12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AC8487-8653-4623-BF09-F16EDB79E29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763640" y="1160640"/>
            <a:ext cx="5477040" cy="4108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Овощи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28760" y="5373720"/>
            <a:ext cx="825804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13000"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чик: Иванова Еле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 ГБДОУ № 15 Нев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Аюпова Евгения Фаниловн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едагог дополнительного образова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МАОУ ДОД ЦДО «Савитар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00040" y="0"/>
            <a:ext cx="771516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786200" y="5357880"/>
            <a:ext cx="35719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х, уж этот злющий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ним узнаешь столько мук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жет глаза и жжет язы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ставит плакать в один м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679400" y="1600200"/>
            <a:ext cx="578340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4429080" y="1071720"/>
            <a:ext cx="37148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куруз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олевою пол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детки означ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нет равных в поле 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190600" y="2538360"/>
            <a:ext cx="4762800" cy="2648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71680" y="1285920"/>
            <a:ext cx="428616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устил усы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ёл в стручке переполох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ый выводок гороши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 на дружку все похож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0" y="-5000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571680" y="5143680"/>
            <a:ext cx="42145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шьте овощи и фрукты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лучшие продукт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с спасут от всех болезн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 вкусней их и полезн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ширить знания детей по теме «овощи».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. Познакомить детей с многообразием овощей, растущих в нашем регион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Рассказать о полезных свойствах овощ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Сформировать понятия о том, как растут овощ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познакомить детей с профессиями людей, выращивающих овощ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приобщать детей к тру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560520"/>
            <a:ext cx="9144000" cy="6297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357120" y="5533920"/>
            <a:ext cx="75726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город у нас в порядк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ы весной сажали гря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501040" cy="6126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357120" y="5572080"/>
            <a:ext cx="4572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сажали о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вали огоро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лунках маленьких не густ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адили мы капус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870280" y="1600200"/>
            <a:ext cx="34052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то все она толсте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сталась в ширь и выс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теперь ей тесно бед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ворит: «Посторонись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190600" y="1957320"/>
            <a:ext cx="47628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28840" y="214200"/>
            <a:ext cx="6429240" cy="5400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500040" y="5000760"/>
            <a:ext cx="368928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еск на кожице атласно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п! На грядке – светофор!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светит ярко-красный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чный спелый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ми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42960" y="0"/>
            <a:ext cx="8032680" cy="5000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500040" y="4786200"/>
            <a:ext cx="488160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дит себе на грядк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людьми играет в пря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ой-большой хитре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лены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гурец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929040" y="5072040"/>
            <a:ext cx="46436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у бабушки на гряд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ос овощ очень сладки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м мы тренировку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быстрей сгрызет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ковк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714240" y="0"/>
            <a:ext cx="7500960" cy="509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Ivanov's</cp:lastModifiedBy>
  <dcterms:modified xsi:type="dcterms:W3CDTF">2022-11-20T11:05:27Z</dcterms:modified>
  <cp:revision>6</cp:revision>
  <dc:subject/>
  <dc:title>«Овощи»</dc:title>
</cp:coreProperties>
</file>