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A48-7A6E-457C-983B-A01EB692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913-2F28-4FC0-B6BC-242F7DAF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449-EC64-49B6-9B9D-6A8C60FF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843-FC34-4B96-B314-9008E9B2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B46C5-20F6-48DF-A532-FC8110AD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43346-14B3-452D-B42C-9286DFEA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B7350-FCCD-47DD-98A1-D6B68AE5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900C4-61A5-4C23-AF89-4D655EC1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D3BF8-FD84-4C67-8816-A69652B0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45D67-B37F-4735-BA92-1B0389C7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6EAFB-99BF-4EBE-92A4-5BC9013C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901-61EF-4089-8CA3-1BB4A020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F2764-DEE2-40F3-9EBC-B1823773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2BC12-92E2-4ED1-9EC1-E86EB00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0C23F-012D-42C1-BE8F-B334A5D2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E6A9A-5432-4687-A134-446E39A3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7DD6D-C185-45EC-9A40-B8733F68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49F-E661-44DA-8B3A-39270671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A9E-9286-485C-8459-886388DD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F70-DCCE-47C7-99B1-B43060F2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B2E-A948-45EA-AD5C-714D0289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A9F-9E73-4176-86A7-41DA6F33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A83-E074-4031-B7C6-5647095D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5EB-5638-4D7D-B4A0-00FC504D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636A-2148-4C0C-91C8-F6654F0FB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FB64-77EC-4223-9A37-4668B5C9D1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ed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295280"/>
          <a:ext cx="8229600" cy="4114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114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зык дружбы не нуждается в переводе</a:t>
                      </a: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edff"/>
                </a:solidFill>
                <a:latin typeface="Arial"/>
              </a:rPr>
              <a:t>Лев Николаевич Толстой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334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edff"/>
                </a:solidFill>
                <a:latin typeface="Times New Roman"/>
                <a:ea typeface="Times New Roman"/>
              </a:rPr>
              <a:t>Произведения Л.Н.Толстого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27" name="Picture 5" descr="1"/>
          <p:cNvPicPr/>
          <p:nvPr/>
        </p:nvPicPr>
        <p:blipFill>
          <a:blip r:embed="rId1"/>
          <a:stretch/>
        </p:blipFill>
        <p:spPr>
          <a:xfrm rot="21006600">
            <a:off x="229680" y="1536840"/>
            <a:ext cx="1428840" cy="2171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2"/>
          <p:cNvPicPr/>
          <p:nvPr/>
        </p:nvPicPr>
        <p:blipFill>
          <a:blip r:embed="rId2"/>
          <a:stretch/>
        </p:blipFill>
        <p:spPr>
          <a:xfrm>
            <a:off x="7391520" y="4267080"/>
            <a:ext cx="140472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3"/>
          <p:cNvPicPr/>
          <p:nvPr/>
        </p:nvPicPr>
        <p:blipFill>
          <a:blip r:embed="rId3"/>
          <a:stretch/>
        </p:blipFill>
        <p:spPr>
          <a:xfrm rot="204600">
            <a:off x="7534080" y="1494000"/>
            <a:ext cx="1492200" cy="246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4"/>
          <p:cNvPicPr/>
          <p:nvPr/>
        </p:nvPicPr>
        <p:blipFill>
          <a:blip r:embed="rId4"/>
          <a:stretch/>
        </p:blipFill>
        <p:spPr>
          <a:xfrm>
            <a:off x="387360" y="3962520"/>
            <a:ext cx="1344600" cy="247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5"/>
          <p:cNvPicPr/>
          <p:nvPr/>
        </p:nvPicPr>
        <p:blipFill>
          <a:blip r:embed="rId5"/>
          <a:stretch/>
        </p:blipFill>
        <p:spPr>
          <a:xfrm>
            <a:off x="5410080" y="3429000"/>
            <a:ext cx="1490760" cy="2590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6"/>
          <p:cNvPicPr/>
          <p:nvPr/>
        </p:nvPicPr>
        <p:blipFill>
          <a:blip r:embed="rId6"/>
          <a:stretch/>
        </p:blipFill>
        <p:spPr>
          <a:xfrm>
            <a:off x="2286000" y="3429000"/>
            <a:ext cx="1598760" cy="2638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13"/>
          <p:cNvPicPr/>
          <p:nvPr/>
        </p:nvPicPr>
        <p:blipFill>
          <a:blip r:embed="rId7"/>
          <a:stretch/>
        </p:blipFill>
        <p:spPr>
          <a:xfrm>
            <a:off x="3886200" y="1676520"/>
            <a:ext cx="13860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b3ed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12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3ed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790960">
                <a:tc>
                  <a:txBody>
                    <a:bodyPr lIns="114480" rIns="11448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удные слова: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ндон – город в Англии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веринец – зоопарк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ле – возле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рин – состоятельный человек, который имеет особое положение в обществе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совы – замки в клетке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вросеть</dc:creator>
  <dc:description/>
  <dc:language>en-US</dc:language>
  <cp:lastModifiedBy>Валеева О.В.</cp:lastModifiedBy>
  <dcterms:modified xsi:type="dcterms:W3CDTF">2022-11-18T15:52:5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