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B1FA-F026-4C8F-B274-F1291429D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8624-B2E5-4197-AAA5-E4EE446E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B554-FDC2-43A9-A9BF-23BE0F89B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10D2-82B9-4ED1-B0A7-759D9E94D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04C7-6E48-4D6E-919A-7679CAFB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0767-5576-45B4-B128-2EC4DECE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8120-7E26-45C5-9361-D0FFE851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079F-FC3E-4E14-8565-1DF927A3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1282-E731-4E53-949C-5ECCFBB3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1E77-E610-41F9-A59D-01E12B99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C95E-5FFF-4CDD-AE61-C397A174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D7B3-7415-46D2-9648-9979B5EB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37F5-54C1-495C-8CDF-AA0DBBFACF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люди считают врем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а 2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ружающи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лайчиди О.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Можно ли измерить время, если мы знаем, что у него нет начал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1" i="1" lang="ru-RU" sz="3600" spc="-1" strike="noStrike">
                <a:solidFill>
                  <a:srgbClr val="800080"/>
                </a:solidFill>
                <a:latin typeface="Arial"/>
              </a:rPr>
              <a:t>Время можно измерить от выбранной точки отсчёта с помощью временных отрезков разной длитель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Arial"/>
              </a:rPr>
              <a:t>С.12-15 читать, уметь рассказать,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Arial"/>
              </a:rPr>
              <a:t>Р.т. с.5 №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связывает предмет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468360" y="4724280"/>
            <a:ext cx="5194080" cy="1584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2376360" cy="2016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3"/>
          <a:stretch/>
        </p:blipFill>
        <p:spPr>
          <a:xfrm>
            <a:off x="3203640" y="1268280"/>
            <a:ext cx="2592360" cy="2232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4"/>
          <a:stretch/>
        </p:blipFill>
        <p:spPr>
          <a:xfrm>
            <a:off x="5867280" y="3933720"/>
            <a:ext cx="2952720" cy="2590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5"/>
          <a:stretch/>
        </p:blipFill>
        <p:spPr>
          <a:xfrm>
            <a:off x="6588000" y="1341360"/>
            <a:ext cx="230508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производятся измерен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Все измерения проводятся от нача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1332000" y="3213000"/>
            <a:ext cx="633708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 где начинается врем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У времени начала нет, оно без начала и конц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1619280" y="3284640"/>
            <a:ext cx="58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лавный вопрос уро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00"/>
                </a:solidFill>
                <a:latin typeface="Arial"/>
              </a:rPr>
              <a:t>Можно ли измерять время, если мы знаем , что у него нет начал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835280" y="3933720"/>
            <a:ext cx="49687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мы знаем о времен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Знаем, что время измеряют в часах, днях, годах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Знаем, что время бесконечно, у него нет начала и конц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Можно разделить время на прошлое, настоящее и будущ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ы не знаем, от какой точки вести отсчёт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Не знаем, что такое эра и зачем она нуж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Не знаем , как определить, к какому веку относится тот или иной г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очка отсчёта времен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00"/>
                </a:solidFill>
                <a:latin typeface="Arial"/>
              </a:rPr>
              <a:t>              </a:t>
            </a:r>
            <a:r>
              <a:rPr b="1" i="1" lang="ru-RU" sz="4800" spc="-1" strike="noStrike">
                <a:solidFill>
                  <a:srgbClr val="cc0000"/>
                </a:solidFill>
                <a:latin typeface="Arial"/>
              </a:rPr>
              <a:t>Рожд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1" i="1" lang="ru-RU" sz="4800" spc="-1" strike="noStrike">
                <a:solidFill>
                  <a:srgbClr val="cc0000"/>
                </a:solidFill>
                <a:latin typeface="Arial"/>
              </a:rPr>
              <a:t>Иисуса  Хрис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00"/>
                </a:solidFill>
                <a:latin typeface="Arial"/>
              </a:rPr>
              <a:t>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2627280" y="3213000"/>
            <a:ext cx="396072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такое эр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00"/>
                </a:solidFill>
                <a:latin typeface="Arial"/>
              </a:rPr>
              <a:t>      </a:t>
            </a:r>
            <a:r>
              <a:rPr b="0" lang="ru-RU" sz="4800" spc="-1" strike="noStrike">
                <a:solidFill>
                  <a:srgbClr val="cc0000"/>
                </a:solidFill>
                <a:latin typeface="Arial"/>
              </a:rPr>
              <a:t>Событие, которое становится точкой отсчёта времени. От него считают дни, годы, века в одну и другую сторону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25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межуток времени ровно в сто лет люди называют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ек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кой отсчёта времени является выбранное людьми событие, оно называется </a:t>
            </a:r>
            <a:r>
              <a:rPr b="0" lang="ru-RU" sz="3600" spc="-1" strike="noStrike">
                <a:solidFill>
                  <a:srgbClr val="cc0000"/>
                </a:solidFill>
                <a:latin typeface="Arial"/>
              </a:rPr>
              <a:t>э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Довольно давно люди, которые придерживались 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христианск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елигии, выбрали точкой отсчёта времени рождение Иисуса-Христа. Время до его рождения называют 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«д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новой эры»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а время после рождения Иисуса- Христа называют 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«новая эр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7T16:32:17Z</dcterms:created>
  <dc:creator>Дмитрий</dc:creator>
  <dc:description/>
  <dc:language>en-US</dc:language>
  <cp:lastModifiedBy>о</cp:lastModifiedBy>
  <dcterms:modified xsi:type="dcterms:W3CDTF">2013-07-11T18:18:06Z</dcterms:modified>
  <cp:revision>3</cp:revision>
  <dc:subject/>
  <dc:title>Как люди считают время.</dc:title>
</cp:coreProperties>
</file>