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2CB-4EF3-4D7C-A217-4CA5B75D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19F-5497-4D63-BF96-395A9E15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7B5-8EEE-4444-8FB2-1B210C8B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56E-48A8-4828-AC95-5B887A45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B7C-E13D-455F-B841-251008DF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19E-8FEC-45DC-A518-659E7ED8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34E-732E-4602-9B99-FD13443B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6D2-1974-4A82-AD00-827265D0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FAD-5890-4566-8256-2404FE5A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167-7FE8-460B-9127-CBE94FA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832-7057-434A-BC24-539144B4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708-D284-4B63-A948-F3EE69F8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4DC6-9C05-4D14-8A61-C7F317968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4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читель начальных классов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АОУ СОШ № 2 г. Краснодар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202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87280" y="0"/>
            <a:ext cx="8569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Методическая разработка родительского собр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«Как помочь ребёнку в учёб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p10_childsoul2"/>
          <p:cNvPicPr/>
          <p:nvPr/>
        </p:nvPicPr>
        <p:blipFill>
          <a:blip r:embed="rId1"/>
          <a:srcRect l="0" t="0" r="0" b="29080"/>
          <a:stretch/>
        </p:blipFill>
        <p:spPr>
          <a:xfrm>
            <a:off x="2217600" y="2330280"/>
            <a:ext cx="4707000" cy="2918160"/>
          </a:xfrm>
          <a:prstGeom prst="rect">
            <a:avLst/>
          </a:prstGeom>
          <a:ln w="69840">
            <a:solidFill>
              <a:srgbClr val="ff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250920" y="11592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 ЗАМЕТКУ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ебёнка нужно  учёб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интерес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omework"/>
          <p:cNvPicPr/>
          <p:nvPr/>
        </p:nvPicPr>
        <p:blipFill>
          <a:blip r:embed="rId1"/>
          <a:stretch/>
        </p:blipFill>
        <p:spPr>
          <a:xfrm>
            <a:off x="539640" y="2924280"/>
            <a:ext cx="2379600" cy="2887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3276720" y="3789360"/>
            <a:ext cx="5209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енавязчиво повторяй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«Знания ты получаешь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себя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 ЗАМЕТКУ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087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ебенок в процессе учебы должен    укрепляться в мысли о том, что его умственные способности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е огранич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lessonb"/>
          <p:cNvPicPr/>
          <p:nvPr/>
        </p:nvPicPr>
        <p:blipFill>
          <a:blip r:embed="rId1"/>
          <a:stretch/>
        </p:blipFill>
        <p:spPr>
          <a:xfrm>
            <a:off x="3851280" y="4292640"/>
            <a:ext cx="19749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 ЗАМЕТКУ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4247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Призывайте ребенк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мышлять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, когда он  выполняет  домашнее  задание, это стимулирует мыслительную деятельность, вырабатывает интерес к определенному зн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ВАЛИТЕ РЕБЁ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Показывайте ему, что о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 многое способе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и вы верите в его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Исключите из своего общения с ребен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скорб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0a05862ed141b5426b8e5a27603b6ebf"/>
          <p:cNvPicPr/>
          <p:nvPr/>
        </p:nvPicPr>
        <p:blipFill>
          <a:blip r:embed="rId1"/>
          <a:stretch/>
        </p:blipFill>
        <p:spPr>
          <a:xfrm>
            <a:off x="3780000" y="3284640"/>
            <a:ext cx="144612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одители лучше всех знают своего ребенка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 скорее могут прийти на помощь, если у него возникнут проблемы в уч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Родители постоянн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лжны совершенствовать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знания о своем ребе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залог успех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20181306"/>
          <p:cNvPicPr/>
          <p:nvPr/>
        </p:nvPicPr>
        <p:blipFill>
          <a:blip r:embed="rId1"/>
          <a:stretch/>
        </p:blipFill>
        <p:spPr>
          <a:xfrm>
            <a:off x="6659640" y="2349360"/>
            <a:ext cx="19447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Не самоустраняйтесь в процессе воспитания и обучения своего реб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20181306"/>
          <p:cNvPicPr/>
          <p:nvPr/>
        </p:nvPicPr>
        <p:blipFill>
          <a:blip r:embed="rId1"/>
          <a:stretch/>
        </p:blipFill>
        <p:spPr>
          <a:xfrm>
            <a:off x="6084720" y="4437000"/>
            <a:ext cx="197172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ОБХОД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оспитывать  в ребенке чувство ответствен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за то, что он дел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увство ответственности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залог успеха в учебе и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Воспитание чувства ответственности неотделимо от умен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доводить начатое дел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до кон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бъективные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Желание привлечь к се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нимание взрос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збалова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трах неу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ЧИНЫ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r121660244955973"/>
          <p:cNvPicPr/>
          <p:nvPr/>
        </p:nvPicPr>
        <p:blipFill>
          <a:blip r:embed="rId1"/>
          <a:stretch/>
        </p:blipFill>
        <p:spPr>
          <a:xfrm>
            <a:off x="6084720" y="3213000"/>
            <a:ext cx="1886040" cy="2946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О КОТОРЫМ РЕБЁНОК НЕ СПРАВЛЯЕТ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О ШКОЛЬНОЙ ПРОГРАММ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250920" y="33336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ТО ДЕЛ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если заставить трудиться крайне сл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79280" y="3789360"/>
            <a:ext cx="8640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Нужно найти такую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тивацию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, чтобы ребенку захотелось выполнить предложенную работу, чтобы не только результат, но и сам процесс выполнения работы был для ребенка прия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r124771329870048"/>
          <p:cNvPicPr/>
          <p:nvPr/>
        </p:nvPicPr>
        <p:blipFill>
          <a:blip r:embed="rId1"/>
          <a:stretch/>
        </p:blipFill>
        <p:spPr>
          <a:xfrm>
            <a:off x="3851280" y="206064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ИКОГДА НЕ ГОВОР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Ты никогда сам не думаешь. Все время рассчитываешь, что кто-то будет думать за т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Ты как следует не сделал уроки, потому что ты лентя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КАЖИТЕ Т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Я все понял. Это очень неприятно, но не стоит расстраиваться. В следующий раз ты так подготовишься, что тебе не будут нужны никакие подсказ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ЛЬЗЯ 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ставить какие-либо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6912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800000"/>
                </a:solidFill>
                <a:latin typeface="Arial"/>
              </a:rPr>
              <a:t>Это приучает ребенка заниматься только </a:t>
            </a:r>
            <a:r>
              <a:rPr b="0" lang="ru-RU" sz="3300" spc="-1" strike="noStrike">
                <a:solidFill>
                  <a:srgbClr val="ff0000"/>
                </a:solidFill>
                <a:latin typeface="Arial"/>
              </a:rPr>
              <a:t>ради чего-т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800000"/>
                </a:solidFill>
                <a:latin typeface="Arial"/>
              </a:rPr>
              <a:t>Учение из страха быть наказанным приводит к тому, что у ребенка вырабатывается отвращение к учебе и школ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191269140"/>
          <p:cNvPicPr/>
          <p:nvPr/>
        </p:nvPicPr>
        <p:blipFill>
          <a:blip r:embed="rId1"/>
          <a:stretch/>
        </p:blipFill>
        <p:spPr>
          <a:xfrm>
            <a:off x="6948360" y="2349360"/>
            <a:ext cx="1733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8:51:55Z</dcterms:created>
  <dc:creator>1</dc:creator>
  <dc:description/>
  <dc:language>en-US</dc:language>
  <cp:lastModifiedBy>1</cp:lastModifiedBy>
  <dcterms:modified xsi:type="dcterms:W3CDTF">2022-11-20T14:35:16Z</dcterms:modified>
  <cp:revision>26</cp:revision>
  <dc:subject/>
  <dc:title>Слайд 1</dc:title>
</cp:coreProperties>
</file>